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4CAC-8B90-466F-B7DC-FE47EA1F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4B1C-9FF5-453E-ACF8-41136B90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E4A2-4C25-4950-9EAF-BE8974BC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8DF2-13AA-42CD-806B-1637F0A2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28D1-7251-4538-81D0-ECFF6E23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1CD6-B179-46EA-B0AB-D5A98641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D45-BB7B-4D52-9BAA-63FC48F1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6552-DC09-48FE-8C99-078F6D27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B462-E1D3-4791-8065-9B4257AC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966E-2C2E-4128-879F-03B45116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234-73CF-412B-BDF8-60C21501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BF03-2A20-4A65-966A-B15A7B94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C054-3E9C-4297-BD0E-F904B34BA5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75520" y="6286680"/>
            <a:ext cx="170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T.   DULAUR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3898800" y="4788000"/>
            <a:ext cx="1143000" cy="901440"/>
          </a:xfrm>
          <a:custGeom>
            <a:avLst/>
            <a:gdLst>
              <a:gd name="textAreaLeft" fmla="*/ 58320 w 1143000"/>
              <a:gd name="textAreaRight" fmla="*/ 1084680 w 1143000"/>
              <a:gd name="textAreaTop" fmla="*/ 58320 h 901440"/>
              <a:gd name="textAreaBottom" fmla="*/ 843120 h 901440"/>
            </a:gdLst>
            <a:ahLst/>
            <a:rect l="textAreaLeft" t="textAreaTop" r="textAreaRight" b="textAreaBottom"/>
            <a:pathLst>
              <a:path w="27386" h="21600">
                <a:moveTo>
                  <a:pt x="0" y="0"/>
                </a:moveTo>
                <a:lnTo>
                  <a:pt x="27386" y="0"/>
                </a:lnTo>
                <a:lnTo>
                  <a:pt x="27386" y="21600"/>
                </a:lnTo>
                <a:lnTo>
                  <a:pt x="0" y="21600"/>
                </a:lnTo>
                <a:close/>
              </a:path>
              <a:path fill="lightenLess" w="27386" h="21600">
                <a:moveTo>
                  <a:pt x="0" y="0"/>
                </a:moveTo>
                <a:lnTo>
                  <a:pt x="27386" y="0"/>
                </a:lnTo>
                <a:lnTo>
                  <a:pt x="25986" y="1400"/>
                </a:lnTo>
                <a:lnTo>
                  <a:pt x="1400" y="1400"/>
                </a:lnTo>
                <a:close/>
              </a:path>
              <a:path fill="darken" w="27386" h="21600">
                <a:moveTo>
                  <a:pt x="27386" y="0"/>
                </a:moveTo>
                <a:lnTo>
                  <a:pt x="27386" y="21600"/>
                </a:lnTo>
                <a:lnTo>
                  <a:pt x="25986" y="20200"/>
                </a:lnTo>
                <a:lnTo>
                  <a:pt x="25986" y="1400"/>
                </a:lnTo>
                <a:close/>
              </a:path>
              <a:path fill="darkenLess" w="27386" h="21600">
                <a:moveTo>
                  <a:pt x="27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6" y="20200"/>
                </a:lnTo>
                <a:close/>
              </a:path>
              <a:path fill="lighten" w="27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6" h="21600">
                <a:moveTo>
                  <a:pt x="6686" y="3794"/>
                </a:moveTo>
                <a:lnTo>
                  <a:pt x="20699" y="10800"/>
                </a:lnTo>
                <a:lnTo>
                  <a:pt x="6686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 ’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346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Lors de la décharge, l’accumulateur se comporte comme une p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907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tude de la déchar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324160" y="3289320"/>
            <a:ext cx="4457520" cy="2362320"/>
          </a:xfrm>
          <a:custGeom>
            <a:avLst/>
            <a:gdLst/>
            <a:ahLst/>
            <a:rect l="l" t="t" r="r" b="b"/>
            <a:pathLst>
              <a:path w="2808" h="1848">
                <a:moveTo>
                  <a:pt x="0" y="0"/>
                </a:moveTo>
                <a:lnTo>
                  <a:pt x="2808" y="0"/>
                </a:lnTo>
                <a:lnTo>
                  <a:pt x="2808" y="1848"/>
                </a:lnTo>
                <a:lnTo>
                  <a:pt x="8" y="1848"/>
                </a:lnTo>
                <a:lnTo>
                  <a:pt x="8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écharge de 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9800" y="337824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5797440"/>
            <a:ext cx="372456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concentrée d’aci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lfurique  : 2 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S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4467240" y="5378040"/>
            <a:ext cx="79992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51120" y="353052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4600" y="4127400"/>
            <a:ext cx="146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couverte d’oxyde de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3680" y="898560"/>
            <a:ext cx="87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On relie les bornes par un circuit élec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060720" y="3073320"/>
            <a:ext cx="150840" cy="571680"/>
            <a:chOff x="3060720" y="3073320"/>
            <a:chExt cx="150840" cy="571680"/>
          </a:xfrm>
        </p:grpSpPr>
        <p:sp>
          <p:nvSpPr>
            <p:cNvPr id="183" name=""/>
            <p:cNvSpPr/>
            <p:nvPr/>
          </p:nvSpPr>
          <p:spPr>
            <a:xfrm>
              <a:off x="3137040" y="3238560"/>
              <a:ext cx="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6072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989680" y="3073320"/>
            <a:ext cx="150840" cy="571320"/>
            <a:chOff x="5989680" y="3073320"/>
            <a:chExt cx="150840" cy="571320"/>
          </a:xfrm>
        </p:grpSpPr>
        <p:sp>
          <p:nvSpPr>
            <p:cNvPr id="186" name=""/>
            <p:cNvSpPr/>
            <p:nvPr/>
          </p:nvSpPr>
          <p:spPr>
            <a:xfrm>
              <a:off x="6066000" y="3238560"/>
              <a:ext cx="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98968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137040" y="1844640"/>
            <a:ext cx="2982600" cy="1228680"/>
            <a:chOff x="3137040" y="1844640"/>
            <a:chExt cx="2982600" cy="1228680"/>
          </a:xfrm>
        </p:grpSpPr>
        <p:sp>
          <p:nvSpPr>
            <p:cNvPr id="189" name=""/>
            <p:cNvSpPr/>
            <p:nvPr/>
          </p:nvSpPr>
          <p:spPr>
            <a:xfrm>
              <a:off x="4259160" y="2228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41720" y="2305080"/>
              <a:ext cx="293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91240" y="1844640"/>
              <a:ext cx="496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22840" y="1873080"/>
              <a:ext cx="496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3137040" y="2305080"/>
              <a:ext cx="0" cy="76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6064200" y="2298240"/>
              <a:ext cx="0" cy="76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21280" y="200016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33960" y="205092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73360" y="2076480"/>
              <a:ext cx="8384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43360" y="206064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9" name="accu-electro1" descr=""/>
          <p:cNvPicPr/>
          <p:nvPr/>
        </p:nvPicPr>
        <p:blipFill>
          <a:blip r:embed="rId2"/>
          <a:stretch/>
        </p:blipFill>
        <p:spPr>
          <a:xfrm>
            <a:off x="2530440" y="3476520"/>
            <a:ext cx="1230480" cy="2082960"/>
          </a:xfrm>
          <a:prstGeom prst="rect">
            <a:avLst/>
          </a:prstGeom>
          <a:ln w="0">
            <a:noFill/>
          </a:ln>
        </p:spPr>
      </p:pic>
      <p:pic>
        <p:nvPicPr>
          <p:cNvPr id="200" name="accu-electro2" descr=""/>
          <p:cNvPicPr/>
          <p:nvPr/>
        </p:nvPicPr>
        <p:blipFill>
          <a:blip r:embed="rId3"/>
          <a:stretch/>
        </p:blipFill>
        <p:spPr>
          <a:xfrm>
            <a:off x="5694480" y="3540240"/>
            <a:ext cx="803160" cy="1832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739880" y="4051440"/>
            <a:ext cx="1373040" cy="69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053040" y="4292640"/>
            <a:ext cx="15796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4762440"/>
            <a:ext cx="1200240" cy="1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324160" y="3289320"/>
            <a:ext cx="4457520" cy="2362320"/>
          </a:xfrm>
          <a:custGeom>
            <a:avLst/>
            <a:gdLst/>
            <a:ahLst/>
            <a:rect l="l" t="t" r="r" b="b"/>
            <a:pathLst>
              <a:path w="2808" h="1848">
                <a:moveTo>
                  <a:pt x="0" y="0"/>
                </a:moveTo>
                <a:lnTo>
                  <a:pt x="2808" y="0"/>
                </a:lnTo>
                <a:lnTo>
                  <a:pt x="2808" y="1848"/>
                </a:lnTo>
                <a:lnTo>
                  <a:pt x="8" y="1848"/>
                </a:lnTo>
                <a:lnTo>
                  <a:pt x="8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écharge de 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9800" y="337824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81480" y="5797440"/>
            <a:ext cx="372456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concentrée d’aci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lfurique  : 2 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S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467240" y="5378040"/>
            <a:ext cx="79992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51120" y="353052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4600" y="4127400"/>
            <a:ext cx="146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couverte d’oxyde de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3680" y="898560"/>
            <a:ext cx="87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L’ampèremètre mesure une intensité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060720" y="3073320"/>
            <a:ext cx="150840" cy="571680"/>
            <a:chOff x="3060720" y="3073320"/>
            <a:chExt cx="150840" cy="571680"/>
          </a:xfrm>
        </p:grpSpPr>
        <p:sp>
          <p:nvSpPr>
            <p:cNvPr id="213" name=""/>
            <p:cNvSpPr/>
            <p:nvPr/>
          </p:nvSpPr>
          <p:spPr>
            <a:xfrm>
              <a:off x="3137040" y="3238560"/>
              <a:ext cx="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6072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989680" y="3073320"/>
            <a:ext cx="150840" cy="571320"/>
            <a:chOff x="5989680" y="3073320"/>
            <a:chExt cx="150840" cy="571320"/>
          </a:xfrm>
        </p:grpSpPr>
        <p:sp>
          <p:nvSpPr>
            <p:cNvPr id="216" name=""/>
            <p:cNvSpPr/>
            <p:nvPr/>
          </p:nvSpPr>
          <p:spPr>
            <a:xfrm>
              <a:off x="6066000" y="3238560"/>
              <a:ext cx="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8968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4259160" y="22287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41720" y="2305080"/>
            <a:ext cx="293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91240" y="1844640"/>
            <a:ext cx="49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22840" y="1873080"/>
            <a:ext cx="49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137040" y="2305080"/>
            <a:ext cx="0" cy="76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064200" y="2298240"/>
            <a:ext cx="0" cy="76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21280" y="200016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33960" y="2050920"/>
            <a:ext cx="4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73360" y="207648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43360" y="2060640"/>
            <a:ext cx="4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806200" y="2230560"/>
            <a:ext cx="3558600" cy="678960"/>
            <a:chOff x="2806200" y="2230560"/>
            <a:chExt cx="3558600" cy="678960"/>
          </a:xfrm>
        </p:grpSpPr>
        <p:sp>
          <p:nvSpPr>
            <p:cNvPr id="229" name=""/>
            <p:cNvSpPr/>
            <p:nvPr/>
          </p:nvSpPr>
          <p:spPr>
            <a:xfrm flipV="1">
              <a:off x="3132000" y="250164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68880" y="244008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19440" y="2314440"/>
              <a:ext cx="408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65160" y="22305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98760" y="24382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06200" y="24494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5" name="accu-electro1" descr=""/>
          <p:cNvPicPr/>
          <p:nvPr/>
        </p:nvPicPr>
        <p:blipFill>
          <a:blip r:embed="rId2"/>
          <a:stretch/>
        </p:blipFill>
        <p:spPr>
          <a:xfrm>
            <a:off x="2530440" y="3476520"/>
            <a:ext cx="1230480" cy="2082960"/>
          </a:xfrm>
          <a:prstGeom prst="rect">
            <a:avLst/>
          </a:prstGeom>
          <a:ln w="0">
            <a:noFill/>
          </a:ln>
        </p:spPr>
      </p:pic>
      <p:pic>
        <p:nvPicPr>
          <p:cNvPr id="236" name="accu-electro2" descr=""/>
          <p:cNvPicPr/>
          <p:nvPr/>
        </p:nvPicPr>
        <p:blipFill>
          <a:blip r:embed="rId3"/>
          <a:stretch/>
        </p:blipFill>
        <p:spPr>
          <a:xfrm>
            <a:off x="5694480" y="3540240"/>
            <a:ext cx="803160" cy="18320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739880" y="4051440"/>
            <a:ext cx="1373040" cy="69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053040" y="4292640"/>
            <a:ext cx="15796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4762440"/>
            <a:ext cx="1200240" cy="1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324160" y="3289320"/>
            <a:ext cx="4457520" cy="2362320"/>
          </a:xfrm>
          <a:custGeom>
            <a:avLst/>
            <a:gdLst/>
            <a:ahLst/>
            <a:rect l="l" t="t" r="r" b="b"/>
            <a:pathLst>
              <a:path w="2808" h="1848">
                <a:moveTo>
                  <a:pt x="0" y="0"/>
                </a:moveTo>
                <a:lnTo>
                  <a:pt x="2808" y="0"/>
                </a:lnTo>
                <a:lnTo>
                  <a:pt x="2808" y="1848"/>
                </a:lnTo>
                <a:lnTo>
                  <a:pt x="8" y="1848"/>
                </a:lnTo>
                <a:lnTo>
                  <a:pt x="8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écharge de 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9800" y="337824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81480" y="5797440"/>
            <a:ext cx="372456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concentrée d’aci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lfurique  : 2 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S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4467240" y="5378040"/>
            <a:ext cx="79992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51120" y="353052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4600" y="4127400"/>
            <a:ext cx="146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couverte d’oxyde de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3680" y="898560"/>
            <a:ext cx="87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ela permet de définir les polarités des bo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060720" y="3073320"/>
            <a:ext cx="150840" cy="571680"/>
            <a:chOff x="3060720" y="3073320"/>
            <a:chExt cx="150840" cy="571680"/>
          </a:xfrm>
        </p:grpSpPr>
        <p:sp>
          <p:nvSpPr>
            <p:cNvPr id="249" name=""/>
            <p:cNvSpPr/>
            <p:nvPr/>
          </p:nvSpPr>
          <p:spPr>
            <a:xfrm>
              <a:off x="3137040" y="3238560"/>
              <a:ext cx="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6072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989680" y="3073320"/>
            <a:ext cx="150840" cy="571320"/>
            <a:chOff x="5989680" y="3073320"/>
            <a:chExt cx="150840" cy="571320"/>
          </a:xfrm>
        </p:grpSpPr>
        <p:sp>
          <p:nvSpPr>
            <p:cNvPr id="252" name=""/>
            <p:cNvSpPr/>
            <p:nvPr/>
          </p:nvSpPr>
          <p:spPr>
            <a:xfrm>
              <a:off x="6066000" y="3238560"/>
              <a:ext cx="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8968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4259160" y="22287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41720" y="2305080"/>
            <a:ext cx="293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91240" y="1844640"/>
            <a:ext cx="49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22840" y="1873080"/>
            <a:ext cx="49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137040" y="2305080"/>
            <a:ext cx="0" cy="76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064200" y="2298240"/>
            <a:ext cx="0" cy="76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21280" y="200016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33960" y="2050920"/>
            <a:ext cx="4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73360" y="207648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3360" y="2060640"/>
            <a:ext cx="4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806200" y="2230560"/>
            <a:ext cx="3558600" cy="678960"/>
            <a:chOff x="2806200" y="2230560"/>
            <a:chExt cx="3558600" cy="678960"/>
          </a:xfrm>
        </p:grpSpPr>
        <p:sp>
          <p:nvSpPr>
            <p:cNvPr id="265" name=""/>
            <p:cNvSpPr/>
            <p:nvPr/>
          </p:nvSpPr>
          <p:spPr>
            <a:xfrm flipV="1">
              <a:off x="3132000" y="250164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68880" y="244008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19440" y="2314440"/>
              <a:ext cx="408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65160" y="22305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98760" y="24382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06200" y="24494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630520" y="2876400"/>
            <a:ext cx="241200" cy="241560"/>
            <a:chOff x="2630520" y="2876400"/>
            <a:chExt cx="241200" cy="241560"/>
          </a:xfrm>
        </p:grpSpPr>
        <p:sp>
          <p:nvSpPr>
            <p:cNvPr id="272" name=""/>
            <p:cNvSpPr/>
            <p:nvPr/>
          </p:nvSpPr>
          <p:spPr>
            <a:xfrm>
              <a:off x="2751120" y="2876400"/>
              <a:ext cx="0" cy="24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30520" y="2997000"/>
              <a:ext cx="24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6283440" y="3002040"/>
            <a:ext cx="241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accu-electro1" descr=""/>
          <p:cNvPicPr/>
          <p:nvPr/>
        </p:nvPicPr>
        <p:blipFill>
          <a:blip r:embed="rId2"/>
          <a:stretch/>
        </p:blipFill>
        <p:spPr>
          <a:xfrm>
            <a:off x="2530440" y="3476520"/>
            <a:ext cx="1230480" cy="2082960"/>
          </a:xfrm>
          <a:prstGeom prst="rect">
            <a:avLst/>
          </a:prstGeom>
          <a:ln w="0">
            <a:noFill/>
          </a:ln>
        </p:spPr>
      </p:pic>
      <p:pic>
        <p:nvPicPr>
          <p:cNvPr id="276" name="accu-electro2" descr=""/>
          <p:cNvPicPr/>
          <p:nvPr/>
        </p:nvPicPr>
        <p:blipFill>
          <a:blip r:embed="rId3"/>
          <a:stretch/>
        </p:blipFill>
        <p:spPr>
          <a:xfrm>
            <a:off x="5694480" y="3540240"/>
            <a:ext cx="803160" cy="18320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739880" y="4051440"/>
            <a:ext cx="1373040" cy="69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6053040" y="4292640"/>
            <a:ext cx="15796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4762440"/>
            <a:ext cx="1200240" cy="1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324160" y="3289320"/>
            <a:ext cx="4457520" cy="2362320"/>
          </a:xfrm>
          <a:custGeom>
            <a:avLst/>
            <a:gdLst/>
            <a:ahLst/>
            <a:rect l="l" t="t" r="r" b="b"/>
            <a:pathLst>
              <a:path w="2808" h="1848">
                <a:moveTo>
                  <a:pt x="0" y="0"/>
                </a:moveTo>
                <a:lnTo>
                  <a:pt x="2808" y="0"/>
                </a:lnTo>
                <a:lnTo>
                  <a:pt x="2808" y="1848"/>
                </a:lnTo>
                <a:lnTo>
                  <a:pt x="8" y="1848"/>
                </a:lnTo>
                <a:lnTo>
                  <a:pt x="8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écharge de 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9800" y="337824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81480" y="5797440"/>
            <a:ext cx="372456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concentrée d’aci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lfurique  : 2 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S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4467240" y="5378040"/>
            <a:ext cx="79992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51120" y="353052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4600" y="4127400"/>
            <a:ext cx="146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couverte d’oxyde de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98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Dans le circuit électrique, le courant est du à la circulation des é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60720" y="3073320"/>
            <a:ext cx="150840" cy="571680"/>
            <a:chOff x="3060720" y="3073320"/>
            <a:chExt cx="150840" cy="571680"/>
          </a:xfrm>
        </p:grpSpPr>
        <p:sp>
          <p:nvSpPr>
            <p:cNvPr id="289" name=""/>
            <p:cNvSpPr/>
            <p:nvPr/>
          </p:nvSpPr>
          <p:spPr>
            <a:xfrm>
              <a:off x="3137040" y="3238560"/>
              <a:ext cx="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6072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5989680" y="3073320"/>
            <a:ext cx="150840" cy="571320"/>
            <a:chOff x="5989680" y="3073320"/>
            <a:chExt cx="150840" cy="571320"/>
          </a:xfrm>
        </p:grpSpPr>
        <p:sp>
          <p:nvSpPr>
            <p:cNvPr id="292" name=""/>
            <p:cNvSpPr/>
            <p:nvPr/>
          </p:nvSpPr>
          <p:spPr>
            <a:xfrm>
              <a:off x="6066000" y="3238560"/>
              <a:ext cx="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8968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259160" y="22287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41720" y="2305080"/>
            <a:ext cx="293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791240" y="1844640"/>
            <a:ext cx="49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22840" y="1873080"/>
            <a:ext cx="49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137040" y="2305080"/>
            <a:ext cx="0" cy="76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064200" y="2298240"/>
            <a:ext cx="0" cy="76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21280" y="200016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33960" y="2050920"/>
            <a:ext cx="4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73360" y="207648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43360" y="2060640"/>
            <a:ext cx="4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806200" y="2230560"/>
            <a:ext cx="3558600" cy="678960"/>
            <a:chOff x="2806200" y="2230560"/>
            <a:chExt cx="3558600" cy="678960"/>
          </a:xfrm>
        </p:grpSpPr>
        <p:sp>
          <p:nvSpPr>
            <p:cNvPr id="305" name=""/>
            <p:cNvSpPr/>
            <p:nvPr/>
          </p:nvSpPr>
          <p:spPr>
            <a:xfrm flipV="1">
              <a:off x="3132000" y="250164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68880" y="244008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19440" y="2314440"/>
              <a:ext cx="408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65160" y="22305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8760" y="24382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06200" y="24494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285360" y="2733840"/>
            <a:ext cx="2652120" cy="590400"/>
            <a:chOff x="3285360" y="2733840"/>
            <a:chExt cx="2652120" cy="590400"/>
          </a:xfrm>
        </p:grpSpPr>
        <p:grpSp>
          <p:nvGrpSpPr>
            <p:cNvPr id="312" name=""/>
            <p:cNvGrpSpPr/>
            <p:nvPr/>
          </p:nvGrpSpPr>
          <p:grpSpPr>
            <a:xfrm>
              <a:off x="3285360" y="2733840"/>
              <a:ext cx="385200" cy="520560"/>
              <a:chOff x="3285360" y="2733840"/>
              <a:chExt cx="385200" cy="520560"/>
            </a:xfrm>
          </p:grpSpPr>
          <p:sp>
            <p:nvSpPr>
              <p:cNvPr id="313" name=""/>
              <p:cNvSpPr/>
              <p:nvPr/>
            </p:nvSpPr>
            <p:spPr>
              <a:xfrm flipV="1">
                <a:off x="3295440" y="275256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285360" y="273384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5552280" y="2803680"/>
              <a:ext cx="385200" cy="520560"/>
              <a:chOff x="5552280" y="2803680"/>
              <a:chExt cx="385200" cy="520560"/>
            </a:xfrm>
          </p:grpSpPr>
          <p:sp>
            <p:nvSpPr>
              <p:cNvPr id="316" name=""/>
              <p:cNvSpPr/>
              <p:nvPr/>
            </p:nvSpPr>
            <p:spPr>
              <a:xfrm>
                <a:off x="5929200" y="285552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52280" y="280368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18" name="accu-electro1" descr=""/>
          <p:cNvPicPr/>
          <p:nvPr/>
        </p:nvPicPr>
        <p:blipFill>
          <a:blip r:embed="rId2"/>
          <a:stretch/>
        </p:blipFill>
        <p:spPr>
          <a:xfrm>
            <a:off x="2530440" y="3476520"/>
            <a:ext cx="1230480" cy="2082960"/>
          </a:xfrm>
          <a:prstGeom prst="rect">
            <a:avLst/>
          </a:prstGeom>
          <a:ln w="0">
            <a:noFill/>
          </a:ln>
        </p:spPr>
      </p:pic>
      <p:pic>
        <p:nvPicPr>
          <p:cNvPr id="319" name="accu-electro2" descr=""/>
          <p:cNvPicPr/>
          <p:nvPr/>
        </p:nvPicPr>
        <p:blipFill>
          <a:blip r:embed="rId3"/>
          <a:stretch/>
        </p:blipFill>
        <p:spPr>
          <a:xfrm>
            <a:off x="5694480" y="3540240"/>
            <a:ext cx="803160" cy="18320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739880" y="4051440"/>
            <a:ext cx="1373040" cy="69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6053040" y="4292640"/>
            <a:ext cx="15796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0200" y="4762440"/>
            <a:ext cx="1200240" cy="1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630520" y="2876400"/>
            <a:ext cx="3894120" cy="241560"/>
            <a:chOff x="2630520" y="2876400"/>
            <a:chExt cx="3894120" cy="241560"/>
          </a:xfrm>
        </p:grpSpPr>
        <p:grpSp>
          <p:nvGrpSpPr>
            <p:cNvPr id="324" name=""/>
            <p:cNvGrpSpPr/>
            <p:nvPr/>
          </p:nvGrpSpPr>
          <p:grpSpPr>
            <a:xfrm>
              <a:off x="2630520" y="2876400"/>
              <a:ext cx="241200" cy="241560"/>
              <a:chOff x="2630520" y="2876400"/>
              <a:chExt cx="241200" cy="241560"/>
            </a:xfrm>
          </p:grpSpPr>
          <p:sp>
            <p:nvSpPr>
              <p:cNvPr id="325" name=""/>
              <p:cNvSpPr/>
              <p:nvPr/>
            </p:nvSpPr>
            <p:spPr>
              <a:xfrm>
                <a:off x="2751120" y="2876400"/>
                <a:ext cx="0" cy="24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630520" y="2997000"/>
                <a:ext cx="241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6283440" y="3002040"/>
              <a:ext cx="24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324160" y="3289320"/>
            <a:ext cx="4457520" cy="2362320"/>
          </a:xfrm>
          <a:custGeom>
            <a:avLst/>
            <a:gdLst/>
            <a:ahLst/>
            <a:rect l="l" t="t" r="r" b="b"/>
            <a:pathLst>
              <a:path w="2808" h="1848">
                <a:moveTo>
                  <a:pt x="0" y="0"/>
                </a:moveTo>
                <a:lnTo>
                  <a:pt x="2808" y="0"/>
                </a:lnTo>
                <a:lnTo>
                  <a:pt x="2808" y="1848"/>
                </a:lnTo>
                <a:lnTo>
                  <a:pt x="8" y="1848"/>
                </a:lnTo>
                <a:lnTo>
                  <a:pt x="8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écharge de 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accu-electro1" descr=""/>
          <p:cNvPicPr/>
          <p:nvPr/>
        </p:nvPicPr>
        <p:blipFill>
          <a:blip r:embed="rId2"/>
          <a:stretch/>
        </p:blipFill>
        <p:spPr>
          <a:xfrm>
            <a:off x="2530440" y="3476520"/>
            <a:ext cx="1230480" cy="20829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0" y="898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Les électrons sont libérés par l’oxydation du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3060720" y="3073320"/>
            <a:ext cx="150840" cy="571680"/>
            <a:chOff x="3060720" y="3073320"/>
            <a:chExt cx="150840" cy="571680"/>
          </a:xfrm>
        </p:grpSpPr>
        <p:sp>
          <p:nvSpPr>
            <p:cNvPr id="333" name=""/>
            <p:cNvSpPr/>
            <p:nvPr/>
          </p:nvSpPr>
          <p:spPr>
            <a:xfrm>
              <a:off x="3137040" y="3238560"/>
              <a:ext cx="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6072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989680" y="3073320"/>
            <a:ext cx="150840" cy="571320"/>
            <a:chOff x="5989680" y="3073320"/>
            <a:chExt cx="150840" cy="571320"/>
          </a:xfrm>
        </p:grpSpPr>
        <p:sp>
          <p:nvSpPr>
            <p:cNvPr id="336" name=""/>
            <p:cNvSpPr/>
            <p:nvPr/>
          </p:nvSpPr>
          <p:spPr>
            <a:xfrm>
              <a:off x="6066000" y="3238560"/>
              <a:ext cx="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98968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8" name="accu-electro2" descr=""/>
          <p:cNvPicPr/>
          <p:nvPr/>
        </p:nvPicPr>
        <p:blipFill>
          <a:blip r:embed="rId3"/>
          <a:stretch/>
        </p:blipFill>
        <p:spPr>
          <a:xfrm>
            <a:off x="5694480" y="3540240"/>
            <a:ext cx="803160" cy="18320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259160" y="22287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41720" y="2305080"/>
            <a:ext cx="293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791240" y="1844640"/>
            <a:ext cx="49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22840" y="1873080"/>
            <a:ext cx="49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137040" y="2305080"/>
            <a:ext cx="0" cy="76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6064200" y="2298240"/>
            <a:ext cx="0" cy="76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21280" y="200016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33960" y="2050920"/>
            <a:ext cx="4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573360" y="207648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43360" y="2060640"/>
            <a:ext cx="4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806200" y="2230560"/>
            <a:ext cx="3558600" cy="678960"/>
            <a:chOff x="2806200" y="2230560"/>
            <a:chExt cx="3558600" cy="678960"/>
          </a:xfrm>
        </p:grpSpPr>
        <p:sp>
          <p:nvSpPr>
            <p:cNvPr id="350" name=""/>
            <p:cNvSpPr/>
            <p:nvPr/>
          </p:nvSpPr>
          <p:spPr>
            <a:xfrm flipV="1">
              <a:off x="3132000" y="250164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68880" y="244008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19440" y="2314440"/>
              <a:ext cx="408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65160" y="22305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8760" y="24382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06200" y="24494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3285360" y="2733840"/>
            <a:ext cx="2652120" cy="590400"/>
            <a:chOff x="3285360" y="2733840"/>
            <a:chExt cx="2652120" cy="590400"/>
          </a:xfrm>
        </p:grpSpPr>
        <p:grpSp>
          <p:nvGrpSpPr>
            <p:cNvPr id="357" name=""/>
            <p:cNvGrpSpPr/>
            <p:nvPr/>
          </p:nvGrpSpPr>
          <p:grpSpPr>
            <a:xfrm>
              <a:off x="3285360" y="2733840"/>
              <a:ext cx="385200" cy="520560"/>
              <a:chOff x="3285360" y="2733840"/>
              <a:chExt cx="385200" cy="520560"/>
            </a:xfrm>
          </p:grpSpPr>
          <p:sp>
            <p:nvSpPr>
              <p:cNvPr id="358" name=""/>
              <p:cNvSpPr/>
              <p:nvPr/>
            </p:nvSpPr>
            <p:spPr>
              <a:xfrm flipV="1">
                <a:off x="3295440" y="275256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85360" y="273384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5552280" y="2803680"/>
              <a:ext cx="385200" cy="520560"/>
              <a:chOff x="5552280" y="2803680"/>
              <a:chExt cx="385200" cy="520560"/>
            </a:xfrm>
          </p:grpSpPr>
          <p:sp>
            <p:nvSpPr>
              <p:cNvPr id="361" name=""/>
              <p:cNvSpPr/>
              <p:nvPr/>
            </p:nvSpPr>
            <p:spPr>
              <a:xfrm>
                <a:off x="5929200" y="285552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552280" y="280368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3" name=""/>
          <p:cNvGrpSpPr/>
          <p:nvPr/>
        </p:nvGrpSpPr>
        <p:grpSpPr>
          <a:xfrm>
            <a:off x="2630520" y="2876400"/>
            <a:ext cx="3894120" cy="241560"/>
            <a:chOff x="2630520" y="2876400"/>
            <a:chExt cx="3894120" cy="241560"/>
          </a:xfrm>
        </p:grpSpPr>
        <p:grpSp>
          <p:nvGrpSpPr>
            <p:cNvPr id="364" name=""/>
            <p:cNvGrpSpPr/>
            <p:nvPr/>
          </p:nvGrpSpPr>
          <p:grpSpPr>
            <a:xfrm>
              <a:off x="2630520" y="2876400"/>
              <a:ext cx="241200" cy="241560"/>
              <a:chOff x="2630520" y="2876400"/>
              <a:chExt cx="241200" cy="241560"/>
            </a:xfrm>
          </p:grpSpPr>
          <p:sp>
            <p:nvSpPr>
              <p:cNvPr id="365" name=""/>
              <p:cNvSpPr/>
              <p:nvPr/>
            </p:nvSpPr>
            <p:spPr>
              <a:xfrm>
                <a:off x="2751120" y="2876400"/>
                <a:ext cx="0" cy="24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630520" y="2997000"/>
                <a:ext cx="241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6283440" y="3002040"/>
              <a:ext cx="24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760440" y="538488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xy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b = Pb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910400" y="3511440"/>
            <a:ext cx="1432080" cy="1695960"/>
            <a:chOff x="4910400" y="3511440"/>
            <a:chExt cx="1432080" cy="1695960"/>
          </a:xfrm>
        </p:grpSpPr>
        <p:sp>
          <p:nvSpPr>
            <p:cNvPr id="370" name=""/>
            <p:cNvSpPr/>
            <p:nvPr/>
          </p:nvSpPr>
          <p:spPr>
            <a:xfrm>
              <a:off x="6056280" y="3511440"/>
              <a:ext cx="0" cy="4082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05000" y="383544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10400" y="4749840"/>
              <a:ext cx="60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43160" y="480852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99320" y="4229280"/>
              <a:ext cx="144360" cy="599760"/>
            </a:xfrm>
            <a:custGeom>
              <a:avLst/>
              <a:gdLst/>
              <a:ahLst/>
              <a:rect l="l" t="t" r="r" b="b"/>
              <a:pathLst>
                <a:path w="91" h="378">
                  <a:moveTo>
                    <a:pt x="91" y="0"/>
                  </a:moveTo>
                  <a:cubicBezTo>
                    <a:pt x="85" y="18"/>
                    <a:pt x="69" y="74"/>
                    <a:pt x="55" y="108"/>
                  </a:cubicBezTo>
                  <a:cubicBezTo>
                    <a:pt x="41" y="142"/>
                    <a:pt x="14" y="171"/>
                    <a:pt x="7" y="204"/>
                  </a:cubicBezTo>
                  <a:cubicBezTo>
                    <a:pt x="0" y="237"/>
                    <a:pt x="8" y="280"/>
                    <a:pt x="13" y="309"/>
                  </a:cubicBezTo>
                  <a:cubicBezTo>
                    <a:pt x="18" y="338"/>
                    <a:pt x="32" y="364"/>
                    <a:pt x="37" y="37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62560" y="4637160"/>
              <a:ext cx="628560" cy="258840"/>
            </a:xfrm>
            <a:custGeom>
              <a:avLst/>
              <a:gdLst/>
              <a:ahLst/>
              <a:rect l="l" t="t" r="r" b="b"/>
              <a:pathLst>
                <a:path w="396" h="163">
                  <a:moveTo>
                    <a:pt x="396" y="163"/>
                  </a:moveTo>
                  <a:cubicBezTo>
                    <a:pt x="385" y="144"/>
                    <a:pt x="358" y="71"/>
                    <a:pt x="327" y="46"/>
                  </a:cubicBezTo>
                  <a:cubicBezTo>
                    <a:pt x="296" y="21"/>
                    <a:pt x="261" y="0"/>
                    <a:pt x="207" y="10"/>
                  </a:cubicBezTo>
                  <a:cubicBezTo>
                    <a:pt x="153" y="20"/>
                    <a:pt x="43" y="86"/>
                    <a:pt x="0" y="106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324160" y="3289320"/>
            <a:ext cx="4457520" cy="2362320"/>
          </a:xfrm>
          <a:custGeom>
            <a:avLst/>
            <a:gdLst/>
            <a:ahLst/>
            <a:rect l="l" t="t" r="r" b="b"/>
            <a:pathLst>
              <a:path w="2808" h="1848">
                <a:moveTo>
                  <a:pt x="0" y="0"/>
                </a:moveTo>
                <a:lnTo>
                  <a:pt x="2808" y="0"/>
                </a:lnTo>
                <a:lnTo>
                  <a:pt x="2808" y="1848"/>
                </a:lnTo>
                <a:lnTo>
                  <a:pt x="8" y="1848"/>
                </a:lnTo>
                <a:lnTo>
                  <a:pt x="8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écharge de 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accu-electro1" descr=""/>
          <p:cNvPicPr/>
          <p:nvPr/>
        </p:nvPicPr>
        <p:blipFill>
          <a:blip r:embed="rId2"/>
          <a:stretch/>
        </p:blipFill>
        <p:spPr>
          <a:xfrm>
            <a:off x="2530440" y="3476520"/>
            <a:ext cx="1230480" cy="20829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0" y="898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ela consomme le plomb de l’électr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060720" y="3073320"/>
            <a:ext cx="150840" cy="571680"/>
            <a:chOff x="3060720" y="3073320"/>
            <a:chExt cx="150840" cy="571680"/>
          </a:xfrm>
        </p:grpSpPr>
        <p:sp>
          <p:nvSpPr>
            <p:cNvPr id="381" name=""/>
            <p:cNvSpPr/>
            <p:nvPr/>
          </p:nvSpPr>
          <p:spPr>
            <a:xfrm>
              <a:off x="3137040" y="3238560"/>
              <a:ext cx="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6072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5989680" y="3073320"/>
            <a:ext cx="150840" cy="571320"/>
            <a:chOff x="5989680" y="3073320"/>
            <a:chExt cx="150840" cy="571320"/>
          </a:xfrm>
        </p:grpSpPr>
        <p:sp>
          <p:nvSpPr>
            <p:cNvPr id="384" name=""/>
            <p:cNvSpPr/>
            <p:nvPr/>
          </p:nvSpPr>
          <p:spPr>
            <a:xfrm>
              <a:off x="6066000" y="3238560"/>
              <a:ext cx="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8968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6" name="accu-electro2" descr=""/>
          <p:cNvPicPr/>
          <p:nvPr/>
        </p:nvPicPr>
        <p:blipFill>
          <a:blip r:embed="rId3"/>
          <a:stretch/>
        </p:blipFill>
        <p:spPr>
          <a:xfrm>
            <a:off x="5694480" y="3540240"/>
            <a:ext cx="803160" cy="18320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259160" y="22287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41720" y="2305080"/>
            <a:ext cx="293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91240" y="1844640"/>
            <a:ext cx="49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622840" y="1873080"/>
            <a:ext cx="49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137040" y="2305080"/>
            <a:ext cx="0" cy="76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6064200" y="2298240"/>
            <a:ext cx="0" cy="76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21280" y="200016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33960" y="2050920"/>
            <a:ext cx="4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73360" y="207648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43360" y="2060640"/>
            <a:ext cx="4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806200" y="2230560"/>
            <a:ext cx="3558600" cy="678960"/>
            <a:chOff x="2806200" y="2230560"/>
            <a:chExt cx="3558600" cy="678960"/>
          </a:xfrm>
        </p:grpSpPr>
        <p:sp>
          <p:nvSpPr>
            <p:cNvPr id="398" name=""/>
            <p:cNvSpPr/>
            <p:nvPr/>
          </p:nvSpPr>
          <p:spPr>
            <a:xfrm flipV="1">
              <a:off x="3132000" y="250164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68880" y="244008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519440" y="2314440"/>
              <a:ext cx="408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565160" y="22305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98760" y="24382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06200" y="24494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285360" y="2733840"/>
            <a:ext cx="2652120" cy="590400"/>
            <a:chOff x="3285360" y="2733840"/>
            <a:chExt cx="2652120" cy="590400"/>
          </a:xfrm>
        </p:grpSpPr>
        <p:grpSp>
          <p:nvGrpSpPr>
            <p:cNvPr id="405" name=""/>
            <p:cNvGrpSpPr/>
            <p:nvPr/>
          </p:nvGrpSpPr>
          <p:grpSpPr>
            <a:xfrm>
              <a:off x="3285360" y="2733840"/>
              <a:ext cx="385200" cy="520560"/>
              <a:chOff x="3285360" y="2733840"/>
              <a:chExt cx="385200" cy="520560"/>
            </a:xfrm>
          </p:grpSpPr>
          <p:sp>
            <p:nvSpPr>
              <p:cNvPr id="406" name=""/>
              <p:cNvSpPr/>
              <p:nvPr/>
            </p:nvSpPr>
            <p:spPr>
              <a:xfrm flipV="1">
                <a:off x="3295440" y="275256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285360" y="273384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5552280" y="2803680"/>
              <a:ext cx="385200" cy="520560"/>
              <a:chOff x="5552280" y="2803680"/>
              <a:chExt cx="385200" cy="520560"/>
            </a:xfrm>
          </p:grpSpPr>
          <p:sp>
            <p:nvSpPr>
              <p:cNvPr id="409" name=""/>
              <p:cNvSpPr/>
              <p:nvPr/>
            </p:nvSpPr>
            <p:spPr>
              <a:xfrm>
                <a:off x="5929200" y="285552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2280" y="280368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1" name=""/>
          <p:cNvGrpSpPr/>
          <p:nvPr/>
        </p:nvGrpSpPr>
        <p:grpSpPr>
          <a:xfrm>
            <a:off x="2630520" y="2876400"/>
            <a:ext cx="3894120" cy="241560"/>
            <a:chOff x="2630520" y="2876400"/>
            <a:chExt cx="3894120" cy="241560"/>
          </a:xfrm>
        </p:grpSpPr>
        <p:grpSp>
          <p:nvGrpSpPr>
            <p:cNvPr id="412" name=""/>
            <p:cNvGrpSpPr/>
            <p:nvPr/>
          </p:nvGrpSpPr>
          <p:grpSpPr>
            <a:xfrm>
              <a:off x="2630520" y="2876400"/>
              <a:ext cx="241200" cy="241560"/>
              <a:chOff x="2630520" y="2876400"/>
              <a:chExt cx="241200" cy="241560"/>
            </a:xfrm>
          </p:grpSpPr>
          <p:sp>
            <p:nvSpPr>
              <p:cNvPr id="413" name=""/>
              <p:cNvSpPr/>
              <p:nvPr/>
            </p:nvSpPr>
            <p:spPr>
              <a:xfrm>
                <a:off x="2751120" y="2876400"/>
                <a:ext cx="0" cy="24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630520" y="2997000"/>
                <a:ext cx="241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6283440" y="3002040"/>
              <a:ext cx="24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6760440" y="538488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xy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b = Pb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910400" y="3511440"/>
            <a:ext cx="1432080" cy="1695960"/>
            <a:chOff x="4910400" y="3511440"/>
            <a:chExt cx="1432080" cy="1695960"/>
          </a:xfrm>
        </p:grpSpPr>
        <p:sp>
          <p:nvSpPr>
            <p:cNvPr id="418" name=""/>
            <p:cNvSpPr/>
            <p:nvPr/>
          </p:nvSpPr>
          <p:spPr>
            <a:xfrm>
              <a:off x="6056280" y="3511440"/>
              <a:ext cx="0" cy="4082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805000" y="383544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910400" y="4749840"/>
              <a:ext cx="60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43160" y="480852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899320" y="4229280"/>
              <a:ext cx="144360" cy="599760"/>
            </a:xfrm>
            <a:custGeom>
              <a:avLst/>
              <a:gdLst/>
              <a:ahLst/>
              <a:rect l="l" t="t" r="r" b="b"/>
              <a:pathLst>
                <a:path w="91" h="378">
                  <a:moveTo>
                    <a:pt x="91" y="0"/>
                  </a:moveTo>
                  <a:cubicBezTo>
                    <a:pt x="85" y="18"/>
                    <a:pt x="69" y="74"/>
                    <a:pt x="55" y="108"/>
                  </a:cubicBezTo>
                  <a:cubicBezTo>
                    <a:pt x="41" y="142"/>
                    <a:pt x="14" y="171"/>
                    <a:pt x="7" y="204"/>
                  </a:cubicBezTo>
                  <a:cubicBezTo>
                    <a:pt x="0" y="237"/>
                    <a:pt x="8" y="280"/>
                    <a:pt x="13" y="309"/>
                  </a:cubicBezTo>
                  <a:cubicBezTo>
                    <a:pt x="18" y="338"/>
                    <a:pt x="32" y="364"/>
                    <a:pt x="37" y="37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62560" y="4637160"/>
              <a:ext cx="628560" cy="258840"/>
            </a:xfrm>
            <a:custGeom>
              <a:avLst/>
              <a:gdLst/>
              <a:ahLst/>
              <a:rect l="l" t="t" r="r" b="b"/>
              <a:pathLst>
                <a:path w="396" h="163">
                  <a:moveTo>
                    <a:pt x="396" y="163"/>
                  </a:moveTo>
                  <a:cubicBezTo>
                    <a:pt x="385" y="144"/>
                    <a:pt x="358" y="71"/>
                    <a:pt x="327" y="46"/>
                  </a:cubicBezTo>
                  <a:cubicBezTo>
                    <a:pt x="296" y="21"/>
                    <a:pt x="261" y="0"/>
                    <a:pt x="207" y="10"/>
                  </a:cubicBezTo>
                  <a:cubicBezTo>
                    <a:pt x="153" y="20"/>
                    <a:pt x="43" y="86"/>
                    <a:pt x="0" y="106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324160" y="3289320"/>
            <a:ext cx="4457520" cy="2362320"/>
          </a:xfrm>
          <a:custGeom>
            <a:avLst/>
            <a:gdLst/>
            <a:ahLst/>
            <a:rect l="l" t="t" r="r" b="b"/>
            <a:pathLst>
              <a:path w="2808" h="1848">
                <a:moveTo>
                  <a:pt x="0" y="0"/>
                </a:moveTo>
                <a:lnTo>
                  <a:pt x="2808" y="0"/>
                </a:lnTo>
                <a:lnTo>
                  <a:pt x="2808" y="1848"/>
                </a:lnTo>
                <a:lnTo>
                  <a:pt x="8" y="1848"/>
                </a:lnTo>
                <a:lnTo>
                  <a:pt x="8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accu-electro2-bis" descr=""/>
          <p:cNvPicPr/>
          <p:nvPr/>
        </p:nvPicPr>
        <p:blipFill>
          <a:blip r:embed="rId2"/>
          <a:stretch/>
        </p:blipFill>
        <p:spPr>
          <a:xfrm>
            <a:off x="5756400" y="3554280"/>
            <a:ext cx="582480" cy="180036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écharge de 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accu-electro1" descr=""/>
          <p:cNvPicPr/>
          <p:nvPr/>
        </p:nvPicPr>
        <p:blipFill>
          <a:blip r:embed="rId3"/>
          <a:stretch/>
        </p:blipFill>
        <p:spPr>
          <a:xfrm>
            <a:off x="2530440" y="3476520"/>
            <a:ext cx="1230480" cy="20829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0" y="898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ela consomme le plomb de l’électr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3060720" y="3073320"/>
            <a:ext cx="150840" cy="571680"/>
            <a:chOff x="3060720" y="3073320"/>
            <a:chExt cx="150840" cy="571680"/>
          </a:xfrm>
        </p:grpSpPr>
        <p:sp>
          <p:nvSpPr>
            <p:cNvPr id="430" name=""/>
            <p:cNvSpPr/>
            <p:nvPr/>
          </p:nvSpPr>
          <p:spPr>
            <a:xfrm>
              <a:off x="3137040" y="3238560"/>
              <a:ext cx="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6072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5989680" y="3073320"/>
            <a:ext cx="150840" cy="571320"/>
            <a:chOff x="5989680" y="3073320"/>
            <a:chExt cx="150840" cy="571320"/>
          </a:xfrm>
        </p:grpSpPr>
        <p:sp>
          <p:nvSpPr>
            <p:cNvPr id="433" name=""/>
            <p:cNvSpPr/>
            <p:nvPr/>
          </p:nvSpPr>
          <p:spPr>
            <a:xfrm>
              <a:off x="6066000" y="3238560"/>
              <a:ext cx="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8968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4259160" y="22287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41720" y="2305080"/>
            <a:ext cx="293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791240" y="1844640"/>
            <a:ext cx="49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622840" y="1873080"/>
            <a:ext cx="49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3137040" y="2305080"/>
            <a:ext cx="0" cy="76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6064200" y="2298240"/>
            <a:ext cx="0" cy="76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021280" y="200016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33960" y="2050920"/>
            <a:ext cx="4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573360" y="207648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43360" y="2060640"/>
            <a:ext cx="4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2806200" y="2230560"/>
            <a:ext cx="3558600" cy="678960"/>
            <a:chOff x="2806200" y="2230560"/>
            <a:chExt cx="3558600" cy="678960"/>
          </a:xfrm>
        </p:grpSpPr>
        <p:sp>
          <p:nvSpPr>
            <p:cNvPr id="446" name=""/>
            <p:cNvSpPr/>
            <p:nvPr/>
          </p:nvSpPr>
          <p:spPr>
            <a:xfrm flipV="1">
              <a:off x="3132000" y="250164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068880" y="244008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519440" y="2314440"/>
              <a:ext cx="408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565160" y="22305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8760" y="24382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06200" y="24494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3285360" y="2733840"/>
            <a:ext cx="2652120" cy="590400"/>
            <a:chOff x="3285360" y="2733840"/>
            <a:chExt cx="2652120" cy="590400"/>
          </a:xfrm>
        </p:grpSpPr>
        <p:grpSp>
          <p:nvGrpSpPr>
            <p:cNvPr id="453" name=""/>
            <p:cNvGrpSpPr/>
            <p:nvPr/>
          </p:nvGrpSpPr>
          <p:grpSpPr>
            <a:xfrm>
              <a:off x="3285360" y="2733840"/>
              <a:ext cx="385200" cy="520560"/>
              <a:chOff x="3285360" y="2733840"/>
              <a:chExt cx="385200" cy="520560"/>
            </a:xfrm>
          </p:grpSpPr>
          <p:sp>
            <p:nvSpPr>
              <p:cNvPr id="454" name=""/>
              <p:cNvSpPr/>
              <p:nvPr/>
            </p:nvSpPr>
            <p:spPr>
              <a:xfrm flipV="1">
                <a:off x="3295440" y="275256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285360" y="273384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5552280" y="2803680"/>
              <a:ext cx="385200" cy="520560"/>
              <a:chOff x="5552280" y="2803680"/>
              <a:chExt cx="385200" cy="520560"/>
            </a:xfrm>
          </p:grpSpPr>
          <p:sp>
            <p:nvSpPr>
              <p:cNvPr id="457" name=""/>
              <p:cNvSpPr/>
              <p:nvPr/>
            </p:nvSpPr>
            <p:spPr>
              <a:xfrm>
                <a:off x="5929200" y="285552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552280" y="280368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9" name=""/>
          <p:cNvGrpSpPr/>
          <p:nvPr/>
        </p:nvGrpSpPr>
        <p:grpSpPr>
          <a:xfrm>
            <a:off x="2630520" y="2876400"/>
            <a:ext cx="3894120" cy="241560"/>
            <a:chOff x="2630520" y="2876400"/>
            <a:chExt cx="3894120" cy="241560"/>
          </a:xfrm>
        </p:grpSpPr>
        <p:grpSp>
          <p:nvGrpSpPr>
            <p:cNvPr id="460" name=""/>
            <p:cNvGrpSpPr/>
            <p:nvPr/>
          </p:nvGrpSpPr>
          <p:grpSpPr>
            <a:xfrm>
              <a:off x="2630520" y="2876400"/>
              <a:ext cx="241200" cy="241560"/>
              <a:chOff x="2630520" y="2876400"/>
              <a:chExt cx="241200" cy="241560"/>
            </a:xfrm>
          </p:grpSpPr>
          <p:sp>
            <p:nvSpPr>
              <p:cNvPr id="461" name=""/>
              <p:cNvSpPr/>
              <p:nvPr/>
            </p:nvSpPr>
            <p:spPr>
              <a:xfrm>
                <a:off x="2751120" y="2876400"/>
                <a:ext cx="0" cy="24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630520" y="2997000"/>
                <a:ext cx="241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6283440" y="3002040"/>
              <a:ext cx="24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6760440" y="538488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xy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b = Pb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4910400" y="3511440"/>
            <a:ext cx="1432080" cy="1695960"/>
            <a:chOff x="4910400" y="3511440"/>
            <a:chExt cx="1432080" cy="1695960"/>
          </a:xfrm>
        </p:grpSpPr>
        <p:sp>
          <p:nvSpPr>
            <p:cNvPr id="466" name=""/>
            <p:cNvSpPr/>
            <p:nvPr/>
          </p:nvSpPr>
          <p:spPr>
            <a:xfrm>
              <a:off x="6056280" y="3511440"/>
              <a:ext cx="0" cy="4082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05000" y="383544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10400" y="4749840"/>
              <a:ext cx="60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843160" y="480852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899320" y="4229280"/>
              <a:ext cx="144360" cy="599760"/>
            </a:xfrm>
            <a:custGeom>
              <a:avLst/>
              <a:gdLst/>
              <a:ahLst/>
              <a:rect l="l" t="t" r="r" b="b"/>
              <a:pathLst>
                <a:path w="91" h="378">
                  <a:moveTo>
                    <a:pt x="91" y="0"/>
                  </a:moveTo>
                  <a:cubicBezTo>
                    <a:pt x="85" y="18"/>
                    <a:pt x="69" y="74"/>
                    <a:pt x="55" y="108"/>
                  </a:cubicBezTo>
                  <a:cubicBezTo>
                    <a:pt x="41" y="142"/>
                    <a:pt x="14" y="171"/>
                    <a:pt x="7" y="204"/>
                  </a:cubicBezTo>
                  <a:cubicBezTo>
                    <a:pt x="0" y="237"/>
                    <a:pt x="8" y="280"/>
                    <a:pt x="13" y="309"/>
                  </a:cubicBezTo>
                  <a:cubicBezTo>
                    <a:pt x="18" y="338"/>
                    <a:pt x="32" y="364"/>
                    <a:pt x="37" y="37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62560" y="4637160"/>
              <a:ext cx="628560" cy="258840"/>
            </a:xfrm>
            <a:custGeom>
              <a:avLst/>
              <a:gdLst/>
              <a:ahLst/>
              <a:rect l="l" t="t" r="r" b="b"/>
              <a:pathLst>
                <a:path w="396" h="163">
                  <a:moveTo>
                    <a:pt x="396" y="163"/>
                  </a:moveTo>
                  <a:cubicBezTo>
                    <a:pt x="385" y="144"/>
                    <a:pt x="358" y="71"/>
                    <a:pt x="327" y="46"/>
                  </a:cubicBezTo>
                  <a:cubicBezTo>
                    <a:pt x="296" y="21"/>
                    <a:pt x="261" y="0"/>
                    <a:pt x="207" y="10"/>
                  </a:cubicBezTo>
                  <a:cubicBezTo>
                    <a:pt x="153" y="20"/>
                    <a:pt x="43" y="86"/>
                    <a:pt x="0" y="106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324160" y="3289320"/>
            <a:ext cx="4457520" cy="2362320"/>
          </a:xfrm>
          <a:custGeom>
            <a:avLst/>
            <a:gdLst/>
            <a:ahLst/>
            <a:rect l="l" t="t" r="r" b="b"/>
            <a:pathLst>
              <a:path w="2808" h="1848">
                <a:moveTo>
                  <a:pt x="0" y="0"/>
                </a:moveTo>
                <a:lnTo>
                  <a:pt x="2808" y="0"/>
                </a:lnTo>
                <a:lnTo>
                  <a:pt x="2808" y="1848"/>
                </a:lnTo>
                <a:lnTo>
                  <a:pt x="8" y="1848"/>
                </a:lnTo>
                <a:lnTo>
                  <a:pt x="8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accu-electro2-bis" descr=""/>
          <p:cNvPicPr/>
          <p:nvPr/>
        </p:nvPicPr>
        <p:blipFill>
          <a:blip r:embed="rId2"/>
          <a:stretch/>
        </p:blipFill>
        <p:spPr>
          <a:xfrm>
            <a:off x="5756400" y="3554280"/>
            <a:ext cx="582480" cy="180036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écharge de 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accu-electro1" descr=""/>
          <p:cNvPicPr/>
          <p:nvPr/>
        </p:nvPicPr>
        <p:blipFill>
          <a:blip r:embed="rId3"/>
          <a:stretch/>
        </p:blipFill>
        <p:spPr>
          <a:xfrm>
            <a:off x="2530440" y="3476520"/>
            <a:ext cx="1230480" cy="20829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0" y="898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Les électrons sont consommés par la réduction de l’oxyde de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3060720" y="3073320"/>
            <a:ext cx="150840" cy="571680"/>
            <a:chOff x="3060720" y="3073320"/>
            <a:chExt cx="150840" cy="571680"/>
          </a:xfrm>
        </p:grpSpPr>
        <p:sp>
          <p:nvSpPr>
            <p:cNvPr id="478" name=""/>
            <p:cNvSpPr/>
            <p:nvPr/>
          </p:nvSpPr>
          <p:spPr>
            <a:xfrm>
              <a:off x="3137040" y="3238560"/>
              <a:ext cx="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6072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5989680" y="3073320"/>
            <a:ext cx="150840" cy="571320"/>
            <a:chOff x="5989680" y="3073320"/>
            <a:chExt cx="150840" cy="571320"/>
          </a:xfrm>
        </p:grpSpPr>
        <p:sp>
          <p:nvSpPr>
            <p:cNvPr id="481" name=""/>
            <p:cNvSpPr/>
            <p:nvPr/>
          </p:nvSpPr>
          <p:spPr>
            <a:xfrm>
              <a:off x="6066000" y="3238560"/>
              <a:ext cx="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98968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4259160" y="22287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41720" y="2305080"/>
            <a:ext cx="293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791240" y="1844640"/>
            <a:ext cx="49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22840" y="1873080"/>
            <a:ext cx="49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137040" y="2305080"/>
            <a:ext cx="0" cy="76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064200" y="2298240"/>
            <a:ext cx="0" cy="76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021280" y="200016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33960" y="2050920"/>
            <a:ext cx="4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73360" y="207648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43360" y="2060640"/>
            <a:ext cx="4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2806200" y="2230560"/>
            <a:ext cx="3558600" cy="678960"/>
            <a:chOff x="2806200" y="2230560"/>
            <a:chExt cx="3558600" cy="678960"/>
          </a:xfrm>
        </p:grpSpPr>
        <p:sp>
          <p:nvSpPr>
            <p:cNvPr id="494" name=""/>
            <p:cNvSpPr/>
            <p:nvPr/>
          </p:nvSpPr>
          <p:spPr>
            <a:xfrm flipV="1">
              <a:off x="3132000" y="250164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68880" y="244008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19440" y="2314440"/>
              <a:ext cx="408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565160" y="22305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98760" y="24382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06200" y="24494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3285360" y="2733840"/>
            <a:ext cx="2652120" cy="590400"/>
            <a:chOff x="3285360" y="2733840"/>
            <a:chExt cx="2652120" cy="590400"/>
          </a:xfrm>
        </p:grpSpPr>
        <p:grpSp>
          <p:nvGrpSpPr>
            <p:cNvPr id="501" name=""/>
            <p:cNvGrpSpPr/>
            <p:nvPr/>
          </p:nvGrpSpPr>
          <p:grpSpPr>
            <a:xfrm>
              <a:off x="3285360" y="2733840"/>
              <a:ext cx="385200" cy="520560"/>
              <a:chOff x="3285360" y="2733840"/>
              <a:chExt cx="385200" cy="520560"/>
            </a:xfrm>
          </p:grpSpPr>
          <p:sp>
            <p:nvSpPr>
              <p:cNvPr id="502" name=""/>
              <p:cNvSpPr/>
              <p:nvPr/>
            </p:nvSpPr>
            <p:spPr>
              <a:xfrm flipV="1">
                <a:off x="3295440" y="275256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285360" y="273384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5552280" y="2803680"/>
              <a:ext cx="385200" cy="520560"/>
              <a:chOff x="5552280" y="2803680"/>
              <a:chExt cx="385200" cy="520560"/>
            </a:xfrm>
          </p:grpSpPr>
          <p:sp>
            <p:nvSpPr>
              <p:cNvPr id="505" name=""/>
              <p:cNvSpPr/>
              <p:nvPr/>
            </p:nvSpPr>
            <p:spPr>
              <a:xfrm>
                <a:off x="5929200" y="285552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552280" y="280368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7" name=""/>
          <p:cNvSpPr/>
          <p:nvPr/>
        </p:nvSpPr>
        <p:spPr>
          <a:xfrm>
            <a:off x="236160" y="5384880"/>
            <a:ext cx="4420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b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4 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Pb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883960" y="3486240"/>
            <a:ext cx="1762200" cy="1648800"/>
            <a:chOff x="2883960" y="3486240"/>
            <a:chExt cx="1762200" cy="1648800"/>
          </a:xfrm>
        </p:grpSpPr>
        <p:sp>
          <p:nvSpPr>
            <p:cNvPr id="509" name=""/>
            <p:cNvSpPr/>
            <p:nvPr/>
          </p:nvSpPr>
          <p:spPr>
            <a:xfrm>
              <a:off x="2883960" y="38098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37400" y="4519440"/>
              <a:ext cx="60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373200" y="4694400"/>
              <a:ext cx="70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O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35240" y="3486240"/>
              <a:ext cx="0" cy="4078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143160" y="4181400"/>
              <a:ext cx="642960" cy="457200"/>
            </a:xfrm>
            <a:custGeom>
              <a:avLst/>
              <a:gdLst/>
              <a:ahLst/>
              <a:rect l="l" t="t" r="r" b="b"/>
              <a:pathLst>
                <a:path w="405" h="288">
                  <a:moveTo>
                    <a:pt x="0" y="0"/>
                  </a:moveTo>
                  <a:cubicBezTo>
                    <a:pt x="17" y="28"/>
                    <a:pt x="37" y="120"/>
                    <a:pt x="105" y="168"/>
                  </a:cubicBezTo>
                  <a:cubicBezTo>
                    <a:pt x="173" y="216"/>
                    <a:pt x="342" y="263"/>
                    <a:pt x="405" y="28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419640" y="4618080"/>
              <a:ext cx="633240" cy="225360"/>
            </a:xfrm>
            <a:custGeom>
              <a:avLst/>
              <a:gdLst/>
              <a:ahLst/>
              <a:rect l="l" t="t" r="r" b="b"/>
              <a:pathLst>
                <a:path w="399" h="142">
                  <a:moveTo>
                    <a:pt x="0" y="142"/>
                  </a:moveTo>
                  <a:cubicBezTo>
                    <a:pt x="39" y="95"/>
                    <a:pt x="79" y="47"/>
                    <a:pt x="117" y="25"/>
                  </a:cubicBezTo>
                  <a:cubicBezTo>
                    <a:pt x="155" y="3"/>
                    <a:pt x="180" y="0"/>
                    <a:pt x="227" y="9"/>
                  </a:cubicBezTo>
                  <a:cubicBezTo>
                    <a:pt x="274" y="18"/>
                    <a:pt x="363" y="65"/>
                    <a:pt x="399" y="79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2630520" y="2876400"/>
            <a:ext cx="3894120" cy="241560"/>
            <a:chOff x="2630520" y="2876400"/>
            <a:chExt cx="3894120" cy="241560"/>
          </a:xfrm>
        </p:grpSpPr>
        <p:grpSp>
          <p:nvGrpSpPr>
            <p:cNvPr id="516" name=""/>
            <p:cNvGrpSpPr/>
            <p:nvPr/>
          </p:nvGrpSpPr>
          <p:grpSpPr>
            <a:xfrm>
              <a:off x="2630520" y="2876400"/>
              <a:ext cx="241200" cy="241560"/>
              <a:chOff x="2630520" y="2876400"/>
              <a:chExt cx="241200" cy="241560"/>
            </a:xfrm>
          </p:grpSpPr>
          <p:sp>
            <p:nvSpPr>
              <p:cNvPr id="517" name=""/>
              <p:cNvSpPr/>
              <p:nvPr/>
            </p:nvSpPr>
            <p:spPr>
              <a:xfrm>
                <a:off x="2751120" y="2876400"/>
                <a:ext cx="0" cy="24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630520" y="2997000"/>
                <a:ext cx="241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6283440" y="3002040"/>
              <a:ext cx="24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6760440" y="538488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xy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b = Pb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4910400" y="3511440"/>
            <a:ext cx="1432080" cy="1695960"/>
            <a:chOff x="4910400" y="3511440"/>
            <a:chExt cx="1432080" cy="1695960"/>
          </a:xfrm>
        </p:grpSpPr>
        <p:sp>
          <p:nvSpPr>
            <p:cNvPr id="522" name=""/>
            <p:cNvSpPr/>
            <p:nvPr/>
          </p:nvSpPr>
          <p:spPr>
            <a:xfrm>
              <a:off x="6056280" y="3511440"/>
              <a:ext cx="0" cy="4082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05000" y="383544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910400" y="4749840"/>
              <a:ext cx="60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843160" y="480852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899320" y="4229280"/>
              <a:ext cx="144360" cy="599760"/>
            </a:xfrm>
            <a:custGeom>
              <a:avLst/>
              <a:gdLst/>
              <a:ahLst/>
              <a:rect l="l" t="t" r="r" b="b"/>
              <a:pathLst>
                <a:path w="91" h="378">
                  <a:moveTo>
                    <a:pt x="91" y="0"/>
                  </a:moveTo>
                  <a:cubicBezTo>
                    <a:pt x="85" y="18"/>
                    <a:pt x="69" y="74"/>
                    <a:pt x="55" y="108"/>
                  </a:cubicBezTo>
                  <a:cubicBezTo>
                    <a:pt x="41" y="142"/>
                    <a:pt x="14" y="171"/>
                    <a:pt x="7" y="204"/>
                  </a:cubicBezTo>
                  <a:cubicBezTo>
                    <a:pt x="0" y="237"/>
                    <a:pt x="8" y="280"/>
                    <a:pt x="13" y="309"/>
                  </a:cubicBezTo>
                  <a:cubicBezTo>
                    <a:pt x="18" y="338"/>
                    <a:pt x="32" y="364"/>
                    <a:pt x="37" y="37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362560" y="4637160"/>
              <a:ext cx="628560" cy="258840"/>
            </a:xfrm>
            <a:custGeom>
              <a:avLst/>
              <a:gdLst/>
              <a:ahLst/>
              <a:rect l="l" t="t" r="r" b="b"/>
              <a:pathLst>
                <a:path w="396" h="163">
                  <a:moveTo>
                    <a:pt x="396" y="163"/>
                  </a:moveTo>
                  <a:cubicBezTo>
                    <a:pt x="385" y="144"/>
                    <a:pt x="358" y="71"/>
                    <a:pt x="327" y="46"/>
                  </a:cubicBezTo>
                  <a:cubicBezTo>
                    <a:pt x="296" y="21"/>
                    <a:pt x="261" y="0"/>
                    <a:pt x="207" y="10"/>
                  </a:cubicBezTo>
                  <a:cubicBezTo>
                    <a:pt x="153" y="20"/>
                    <a:pt x="43" y="86"/>
                    <a:pt x="0" y="106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2324160" y="3289320"/>
            <a:ext cx="4457520" cy="2362320"/>
          </a:xfrm>
          <a:custGeom>
            <a:avLst/>
            <a:gdLst/>
            <a:ahLst/>
            <a:rect l="l" t="t" r="r" b="b"/>
            <a:pathLst>
              <a:path w="2808" h="1848">
                <a:moveTo>
                  <a:pt x="0" y="0"/>
                </a:moveTo>
                <a:lnTo>
                  <a:pt x="2808" y="0"/>
                </a:lnTo>
                <a:lnTo>
                  <a:pt x="2808" y="1848"/>
                </a:lnTo>
                <a:lnTo>
                  <a:pt x="8" y="1848"/>
                </a:lnTo>
                <a:lnTo>
                  <a:pt x="8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accu-electro2-bis" descr=""/>
          <p:cNvPicPr/>
          <p:nvPr/>
        </p:nvPicPr>
        <p:blipFill>
          <a:blip r:embed="rId2"/>
          <a:stretch/>
        </p:blipFill>
        <p:spPr>
          <a:xfrm>
            <a:off x="5756400" y="3554280"/>
            <a:ext cx="582480" cy="180036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écharge de 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accu-electro1" descr=""/>
          <p:cNvPicPr/>
          <p:nvPr/>
        </p:nvPicPr>
        <p:blipFill>
          <a:blip r:embed="rId3"/>
          <a:stretch/>
        </p:blipFill>
        <p:spPr>
          <a:xfrm>
            <a:off x="2530440" y="3476520"/>
            <a:ext cx="1230480" cy="208296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0" y="898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ela consomme l’oxyde de plomb qui recouvre l’électr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3060720" y="3073320"/>
            <a:ext cx="150840" cy="571680"/>
            <a:chOff x="3060720" y="3073320"/>
            <a:chExt cx="150840" cy="571680"/>
          </a:xfrm>
        </p:grpSpPr>
        <p:sp>
          <p:nvSpPr>
            <p:cNvPr id="534" name=""/>
            <p:cNvSpPr/>
            <p:nvPr/>
          </p:nvSpPr>
          <p:spPr>
            <a:xfrm>
              <a:off x="3137040" y="3238560"/>
              <a:ext cx="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6072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5989680" y="3073320"/>
            <a:ext cx="150840" cy="571320"/>
            <a:chOff x="5989680" y="3073320"/>
            <a:chExt cx="150840" cy="571320"/>
          </a:xfrm>
        </p:grpSpPr>
        <p:sp>
          <p:nvSpPr>
            <p:cNvPr id="537" name=""/>
            <p:cNvSpPr/>
            <p:nvPr/>
          </p:nvSpPr>
          <p:spPr>
            <a:xfrm>
              <a:off x="6066000" y="3238560"/>
              <a:ext cx="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8968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4259160" y="22287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41720" y="2305080"/>
            <a:ext cx="293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791240" y="1844640"/>
            <a:ext cx="49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22840" y="1873080"/>
            <a:ext cx="49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3137040" y="2305080"/>
            <a:ext cx="0" cy="76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6064200" y="2298240"/>
            <a:ext cx="0" cy="76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021280" y="200016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133960" y="2050920"/>
            <a:ext cx="4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573360" y="207648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43360" y="2060640"/>
            <a:ext cx="4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806200" y="2230560"/>
            <a:ext cx="3558600" cy="678960"/>
            <a:chOff x="2806200" y="2230560"/>
            <a:chExt cx="3558600" cy="678960"/>
          </a:xfrm>
        </p:grpSpPr>
        <p:sp>
          <p:nvSpPr>
            <p:cNvPr id="550" name=""/>
            <p:cNvSpPr/>
            <p:nvPr/>
          </p:nvSpPr>
          <p:spPr>
            <a:xfrm flipV="1">
              <a:off x="3132000" y="250164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068880" y="244008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519440" y="2314440"/>
              <a:ext cx="408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565160" y="22305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8760" y="24382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806200" y="24494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3285360" y="2733840"/>
            <a:ext cx="2652120" cy="590400"/>
            <a:chOff x="3285360" y="2733840"/>
            <a:chExt cx="2652120" cy="590400"/>
          </a:xfrm>
        </p:grpSpPr>
        <p:grpSp>
          <p:nvGrpSpPr>
            <p:cNvPr id="557" name=""/>
            <p:cNvGrpSpPr/>
            <p:nvPr/>
          </p:nvGrpSpPr>
          <p:grpSpPr>
            <a:xfrm>
              <a:off x="3285360" y="2733840"/>
              <a:ext cx="385200" cy="520560"/>
              <a:chOff x="3285360" y="2733840"/>
              <a:chExt cx="385200" cy="520560"/>
            </a:xfrm>
          </p:grpSpPr>
          <p:sp>
            <p:nvSpPr>
              <p:cNvPr id="558" name=""/>
              <p:cNvSpPr/>
              <p:nvPr/>
            </p:nvSpPr>
            <p:spPr>
              <a:xfrm flipV="1">
                <a:off x="3295440" y="275256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285360" y="273384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5552280" y="2803680"/>
              <a:ext cx="385200" cy="520560"/>
              <a:chOff x="5552280" y="2803680"/>
              <a:chExt cx="385200" cy="520560"/>
            </a:xfrm>
          </p:grpSpPr>
          <p:sp>
            <p:nvSpPr>
              <p:cNvPr id="561" name=""/>
              <p:cNvSpPr/>
              <p:nvPr/>
            </p:nvSpPr>
            <p:spPr>
              <a:xfrm>
                <a:off x="5929200" y="285552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552280" y="280368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3" name=""/>
          <p:cNvSpPr/>
          <p:nvPr/>
        </p:nvSpPr>
        <p:spPr>
          <a:xfrm>
            <a:off x="236160" y="5384880"/>
            <a:ext cx="4420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b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4 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Pb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2630520" y="2876400"/>
            <a:ext cx="3894120" cy="241560"/>
            <a:chOff x="2630520" y="2876400"/>
            <a:chExt cx="3894120" cy="241560"/>
          </a:xfrm>
        </p:grpSpPr>
        <p:grpSp>
          <p:nvGrpSpPr>
            <p:cNvPr id="565" name=""/>
            <p:cNvGrpSpPr/>
            <p:nvPr/>
          </p:nvGrpSpPr>
          <p:grpSpPr>
            <a:xfrm>
              <a:off x="2630520" y="2876400"/>
              <a:ext cx="241200" cy="241560"/>
              <a:chOff x="2630520" y="2876400"/>
              <a:chExt cx="241200" cy="241560"/>
            </a:xfrm>
          </p:grpSpPr>
          <p:sp>
            <p:nvSpPr>
              <p:cNvPr id="566" name=""/>
              <p:cNvSpPr/>
              <p:nvPr/>
            </p:nvSpPr>
            <p:spPr>
              <a:xfrm>
                <a:off x="2751120" y="2876400"/>
                <a:ext cx="0" cy="24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630520" y="2997000"/>
                <a:ext cx="241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6283440" y="3002040"/>
              <a:ext cx="24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6760440" y="538488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xy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b = Pb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2883960" y="3486240"/>
            <a:ext cx="1762200" cy="1648800"/>
            <a:chOff x="2883960" y="3486240"/>
            <a:chExt cx="1762200" cy="1648800"/>
          </a:xfrm>
        </p:grpSpPr>
        <p:sp>
          <p:nvSpPr>
            <p:cNvPr id="571" name=""/>
            <p:cNvSpPr/>
            <p:nvPr/>
          </p:nvSpPr>
          <p:spPr>
            <a:xfrm>
              <a:off x="2883960" y="38098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037400" y="4519440"/>
              <a:ext cx="60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373200" y="4694400"/>
              <a:ext cx="70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O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35240" y="3486240"/>
              <a:ext cx="0" cy="4078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143160" y="4181400"/>
              <a:ext cx="642960" cy="457200"/>
            </a:xfrm>
            <a:custGeom>
              <a:avLst/>
              <a:gdLst/>
              <a:ahLst/>
              <a:rect l="l" t="t" r="r" b="b"/>
              <a:pathLst>
                <a:path w="405" h="288">
                  <a:moveTo>
                    <a:pt x="0" y="0"/>
                  </a:moveTo>
                  <a:cubicBezTo>
                    <a:pt x="17" y="28"/>
                    <a:pt x="37" y="120"/>
                    <a:pt x="105" y="168"/>
                  </a:cubicBezTo>
                  <a:cubicBezTo>
                    <a:pt x="173" y="216"/>
                    <a:pt x="342" y="263"/>
                    <a:pt x="405" y="28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419640" y="4618080"/>
              <a:ext cx="633240" cy="225360"/>
            </a:xfrm>
            <a:custGeom>
              <a:avLst/>
              <a:gdLst/>
              <a:ahLst/>
              <a:rect l="l" t="t" r="r" b="b"/>
              <a:pathLst>
                <a:path w="399" h="142">
                  <a:moveTo>
                    <a:pt x="0" y="142"/>
                  </a:moveTo>
                  <a:cubicBezTo>
                    <a:pt x="39" y="95"/>
                    <a:pt x="79" y="47"/>
                    <a:pt x="117" y="25"/>
                  </a:cubicBezTo>
                  <a:cubicBezTo>
                    <a:pt x="155" y="3"/>
                    <a:pt x="180" y="0"/>
                    <a:pt x="227" y="9"/>
                  </a:cubicBezTo>
                  <a:cubicBezTo>
                    <a:pt x="274" y="18"/>
                    <a:pt x="363" y="65"/>
                    <a:pt x="399" y="79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4910400" y="3511440"/>
            <a:ext cx="1432080" cy="1695960"/>
            <a:chOff x="4910400" y="3511440"/>
            <a:chExt cx="1432080" cy="1695960"/>
          </a:xfrm>
        </p:grpSpPr>
        <p:sp>
          <p:nvSpPr>
            <p:cNvPr id="578" name=""/>
            <p:cNvSpPr/>
            <p:nvPr/>
          </p:nvSpPr>
          <p:spPr>
            <a:xfrm>
              <a:off x="6056280" y="3511440"/>
              <a:ext cx="0" cy="4082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805000" y="383544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910400" y="4749840"/>
              <a:ext cx="60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43160" y="480852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899320" y="4229280"/>
              <a:ext cx="144360" cy="599760"/>
            </a:xfrm>
            <a:custGeom>
              <a:avLst/>
              <a:gdLst/>
              <a:ahLst/>
              <a:rect l="l" t="t" r="r" b="b"/>
              <a:pathLst>
                <a:path w="91" h="378">
                  <a:moveTo>
                    <a:pt x="91" y="0"/>
                  </a:moveTo>
                  <a:cubicBezTo>
                    <a:pt x="85" y="18"/>
                    <a:pt x="69" y="74"/>
                    <a:pt x="55" y="108"/>
                  </a:cubicBezTo>
                  <a:cubicBezTo>
                    <a:pt x="41" y="142"/>
                    <a:pt x="14" y="171"/>
                    <a:pt x="7" y="204"/>
                  </a:cubicBezTo>
                  <a:cubicBezTo>
                    <a:pt x="0" y="237"/>
                    <a:pt x="8" y="280"/>
                    <a:pt x="13" y="309"/>
                  </a:cubicBezTo>
                  <a:cubicBezTo>
                    <a:pt x="18" y="338"/>
                    <a:pt x="32" y="364"/>
                    <a:pt x="37" y="37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62560" y="4637160"/>
              <a:ext cx="628560" cy="258840"/>
            </a:xfrm>
            <a:custGeom>
              <a:avLst/>
              <a:gdLst/>
              <a:ahLst/>
              <a:rect l="l" t="t" r="r" b="b"/>
              <a:pathLst>
                <a:path w="396" h="163">
                  <a:moveTo>
                    <a:pt x="396" y="163"/>
                  </a:moveTo>
                  <a:cubicBezTo>
                    <a:pt x="385" y="144"/>
                    <a:pt x="358" y="71"/>
                    <a:pt x="327" y="46"/>
                  </a:cubicBezTo>
                  <a:cubicBezTo>
                    <a:pt x="296" y="21"/>
                    <a:pt x="261" y="0"/>
                    <a:pt x="207" y="10"/>
                  </a:cubicBezTo>
                  <a:cubicBezTo>
                    <a:pt x="153" y="20"/>
                    <a:pt x="43" y="86"/>
                    <a:pt x="0" y="106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324160" y="3289320"/>
            <a:ext cx="4457520" cy="2362320"/>
          </a:xfrm>
          <a:custGeom>
            <a:avLst/>
            <a:gdLst/>
            <a:ahLst/>
            <a:rect l="l" t="t" r="r" b="b"/>
            <a:pathLst>
              <a:path w="2808" h="1848">
                <a:moveTo>
                  <a:pt x="0" y="0"/>
                </a:moveTo>
                <a:lnTo>
                  <a:pt x="2808" y="0"/>
                </a:lnTo>
                <a:lnTo>
                  <a:pt x="2808" y="1848"/>
                </a:lnTo>
                <a:lnTo>
                  <a:pt x="8" y="1848"/>
                </a:lnTo>
                <a:lnTo>
                  <a:pt x="8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9080" y="3378240"/>
            <a:ext cx="135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plomb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81480" y="5797440"/>
            <a:ext cx="372456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concentrée d’aci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lfurique  : 2 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S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4467240" y="5378040"/>
            <a:ext cx="79992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3680" y="898560"/>
            <a:ext cx="87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Deux électrodes en plomb sont dans une solution d’acide sulfu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251120" y="353052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ccu-electro1" descr=""/>
          <p:cNvPicPr/>
          <p:nvPr/>
        </p:nvPicPr>
        <p:blipFill>
          <a:blip r:embed="rId2"/>
          <a:stretch/>
        </p:blipFill>
        <p:spPr>
          <a:xfrm>
            <a:off x="2530440" y="3476520"/>
            <a:ext cx="1230480" cy="2082960"/>
          </a:xfrm>
          <a:prstGeom prst="rect">
            <a:avLst/>
          </a:prstGeom>
          <a:ln w="0">
            <a:noFill/>
          </a:ln>
        </p:spPr>
      </p:pic>
      <p:pic>
        <p:nvPicPr>
          <p:cNvPr id="52" name="accu-electro2" descr=""/>
          <p:cNvPicPr/>
          <p:nvPr/>
        </p:nvPicPr>
        <p:blipFill>
          <a:blip r:embed="rId3"/>
          <a:stretch/>
        </p:blipFill>
        <p:spPr>
          <a:xfrm>
            <a:off x="5694480" y="3540240"/>
            <a:ext cx="803160" cy="1832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39880" y="4051440"/>
            <a:ext cx="1373040" cy="69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053040" y="4292640"/>
            <a:ext cx="15796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2324160" y="3289320"/>
            <a:ext cx="4457520" cy="2362320"/>
          </a:xfrm>
          <a:custGeom>
            <a:avLst/>
            <a:gdLst/>
            <a:ahLst/>
            <a:rect l="l" t="t" r="r" b="b"/>
            <a:pathLst>
              <a:path w="2808" h="1848">
                <a:moveTo>
                  <a:pt x="0" y="0"/>
                </a:moveTo>
                <a:lnTo>
                  <a:pt x="2808" y="0"/>
                </a:lnTo>
                <a:lnTo>
                  <a:pt x="2808" y="1848"/>
                </a:lnTo>
                <a:lnTo>
                  <a:pt x="8" y="1848"/>
                </a:lnTo>
                <a:lnTo>
                  <a:pt x="8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accu-electro1-bis" descr=""/>
          <p:cNvPicPr/>
          <p:nvPr/>
        </p:nvPicPr>
        <p:blipFill>
          <a:blip r:embed="rId2"/>
          <a:stretch/>
        </p:blipFill>
        <p:spPr>
          <a:xfrm>
            <a:off x="2671920" y="3521160"/>
            <a:ext cx="946080" cy="1976400"/>
          </a:xfrm>
          <a:prstGeom prst="rect">
            <a:avLst/>
          </a:prstGeom>
          <a:ln w="0">
            <a:noFill/>
          </a:ln>
        </p:spPr>
      </p:pic>
      <p:pic>
        <p:nvPicPr>
          <p:cNvPr id="586" name="accu-electro2-bis" descr=""/>
          <p:cNvPicPr/>
          <p:nvPr/>
        </p:nvPicPr>
        <p:blipFill>
          <a:blip r:embed="rId3"/>
          <a:stretch/>
        </p:blipFill>
        <p:spPr>
          <a:xfrm>
            <a:off x="5756400" y="3554280"/>
            <a:ext cx="582480" cy="180036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écharge de 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898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ela consomme l’oxyde de plomb qui recouvre l’électr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3060720" y="3073320"/>
            <a:ext cx="150840" cy="571680"/>
            <a:chOff x="3060720" y="3073320"/>
            <a:chExt cx="150840" cy="571680"/>
          </a:xfrm>
        </p:grpSpPr>
        <p:sp>
          <p:nvSpPr>
            <p:cNvPr id="590" name=""/>
            <p:cNvSpPr/>
            <p:nvPr/>
          </p:nvSpPr>
          <p:spPr>
            <a:xfrm>
              <a:off x="3137040" y="3238560"/>
              <a:ext cx="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6072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5989680" y="3073320"/>
            <a:ext cx="150840" cy="571320"/>
            <a:chOff x="5989680" y="3073320"/>
            <a:chExt cx="150840" cy="571320"/>
          </a:xfrm>
        </p:grpSpPr>
        <p:sp>
          <p:nvSpPr>
            <p:cNvPr id="593" name=""/>
            <p:cNvSpPr/>
            <p:nvPr/>
          </p:nvSpPr>
          <p:spPr>
            <a:xfrm>
              <a:off x="6066000" y="3238560"/>
              <a:ext cx="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98968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4259160" y="22287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141720" y="2305080"/>
            <a:ext cx="293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791240" y="1844640"/>
            <a:ext cx="49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622840" y="1873080"/>
            <a:ext cx="49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3137040" y="2305080"/>
            <a:ext cx="0" cy="76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064200" y="2298240"/>
            <a:ext cx="0" cy="76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021280" y="200016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133960" y="2050920"/>
            <a:ext cx="4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73360" y="207648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843360" y="2060640"/>
            <a:ext cx="4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2806200" y="2230560"/>
            <a:ext cx="3558600" cy="678960"/>
            <a:chOff x="2806200" y="2230560"/>
            <a:chExt cx="3558600" cy="678960"/>
          </a:xfrm>
        </p:grpSpPr>
        <p:sp>
          <p:nvSpPr>
            <p:cNvPr id="606" name=""/>
            <p:cNvSpPr/>
            <p:nvPr/>
          </p:nvSpPr>
          <p:spPr>
            <a:xfrm flipV="1">
              <a:off x="3132000" y="250164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068880" y="244008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519440" y="2314440"/>
              <a:ext cx="408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565160" y="22305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98760" y="24382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806200" y="24494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3285360" y="2733840"/>
            <a:ext cx="2652120" cy="590400"/>
            <a:chOff x="3285360" y="2733840"/>
            <a:chExt cx="2652120" cy="590400"/>
          </a:xfrm>
        </p:grpSpPr>
        <p:grpSp>
          <p:nvGrpSpPr>
            <p:cNvPr id="613" name=""/>
            <p:cNvGrpSpPr/>
            <p:nvPr/>
          </p:nvGrpSpPr>
          <p:grpSpPr>
            <a:xfrm>
              <a:off x="3285360" y="2733840"/>
              <a:ext cx="385200" cy="520560"/>
              <a:chOff x="3285360" y="2733840"/>
              <a:chExt cx="385200" cy="520560"/>
            </a:xfrm>
          </p:grpSpPr>
          <p:sp>
            <p:nvSpPr>
              <p:cNvPr id="614" name=""/>
              <p:cNvSpPr/>
              <p:nvPr/>
            </p:nvSpPr>
            <p:spPr>
              <a:xfrm flipV="1">
                <a:off x="3295440" y="275256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285360" y="273384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5552280" y="2803680"/>
              <a:ext cx="385200" cy="520560"/>
              <a:chOff x="5552280" y="2803680"/>
              <a:chExt cx="385200" cy="520560"/>
            </a:xfrm>
          </p:grpSpPr>
          <p:sp>
            <p:nvSpPr>
              <p:cNvPr id="617" name=""/>
              <p:cNvSpPr/>
              <p:nvPr/>
            </p:nvSpPr>
            <p:spPr>
              <a:xfrm>
                <a:off x="5929200" y="285552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552280" y="280368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9" name=""/>
          <p:cNvSpPr/>
          <p:nvPr/>
        </p:nvSpPr>
        <p:spPr>
          <a:xfrm>
            <a:off x="236160" y="5384880"/>
            <a:ext cx="4420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b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4 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Pb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2630520" y="2876400"/>
            <a:ext cx="3894120" cy="241560"/>
            <a:chOff x="2630520" y="2876400"/>
            <a:chExt cx="3894120" cy="241560"/>
          </a:xfrm>
        </p:grpSpPr>
        <p:grpSp>
          <p:nvGrpSpPr>
            <p:cNvPr id="621" name=""/>
            <p:cNvGrpSpPr/>
            <p:nvPr/>
          </p:nvGrpSpPr>
          <p:grpSpPr>
            <a:xfrm>
              <a:off x="2630520" y="2876400"/>
              <a:ext cx="241200" cy="241560"/>
              <a:chOff x="2630520" y="2876400"/>
              <a:chExt cx="241200" cy="241560"/>
            </a:xfrm>
          </p:grpSpPr>
          <p:sp>
            <p:nvSpPr>
              <p:cNvPr id="622" name=""/>
              <p:cNvSpPr/>
              <p:nvPr/>
            </p:nvSpPr>
            <p:spPr>
              <a:xfrm>
                <a:off x="2751120" y="2876400"/>
                <a:ext cx="0" cy="24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630520" y="2997000"/>
                <a:ext cx="241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4" name=""/>
            <p:cNvSpPr/>
            <p:nvPr/>
          </p:nvSpPr>
          <p:spPr>
            <a:xfrm>
              <a:off x="6283440" y="3002040"/>
              <a:ext cx="24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6760440" y="538488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xy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b = Pb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2883960" y="3486240"/>
            <a:ext cx="1762200" cy="1648800"/>
            <a:chOff x="2883960" y="3486240"/>
            <a:chExt cx="1762200" cy="1648800"/>
          </a:xfrm>
        </p:grpSpPr>
        <p:sp>
          <p:nvSpPr>
            <p:cNvPr id="627" name=""/>
            <p:cNvSpPr/>
            <p:nvPr/>
          </p:nvSpPr>
          <p:spPr>
            <a:xfrm>
              <a:off x="2883960" y="38098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037400" y="4519440"/>
              <a:ext cx="60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373200" y="4694400"/>
              <a:ext cx="70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O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135240" y="3486240"/>
              <a:ext cx="0" cy="4078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143160" y="4181400"/>
              <a:ext cx="642960" cy="457200"/>
            </a:xfrm>
            <a:custGeom>
              <a:avLst/>
              <a:gdLst/>
              <a:ahLst/>
              <a:rect l="l" t="t" r="r" b="b"/>
              <a:pathLst>
                <a:path w="405" h="288">
                  <a:moveTo>
                    <a:pt x="0" y="0"/>
                  </a:moveTo>
                  <a:cubicBezTo>
                    <a:pt x="17" y="28"/>
                    <a:pt x="37" y="120"/>
                    <a:pt x="105" y="168"/>
                  </a:cubicBezTo>
                  <a:cubicBezTo>
                    <a:pt x="173" y="216"/>
                    <a:pt x="342" y="263"/>
                    <a:pt x="405" y="28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419640" y="4618080"/>
              <a:ext cx="633240" cy="225360"/>
            </a:xfrm>
            <a:custGeom>
              <a:avLst/>
              <a:gdLst/>
              <a:ahLst/>
              <a:rect l="l" t="t" r="r" b="b"/>
              <a:pathLst>
                <a:path w="399" h="142">
                  <a:moveTo>
                    <a:pt x="0" y="142"/>
                  </a:moveTo>
                  <a:cubicBezTo>
                    <a:pt x="39" y="95"/>
                    <a:pt x="79" y="47"/>
                    <a:pt x="117" y="25"/>
                  </a:cubicBezTo>
                  <a:cubicBezTo>
                    <a:pt x="155" y="3"/>
                    <a:pt x="180" y="0"/>
                    <a:pt x="227" y="9"/>
                  </a:cubicBezTo>
                  <a:cubicBezTo>
                    <a:pt x="274" y="18"/>
                    <a:pt x="363" y="65"/>
                    <a:pt x="399" y="79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4910400" y="3511440"/>
            <a:ext cx="1432080" cy="1695960"/>
            <a:chOff x="4910400" y="3511440"/>
            <a:chExt cx="1432080" cy="1695960"/>
          </a:xfrm>
        </p:grpSpPr>
        <p:sp>
          <p:nvSpPr>
            <p:cNvPr id="634" name=""/>
            <p:cNvSpPr/>
            <p:nvPr/>
          </p:nvSpPr>
          <p:spPr>
            <a:xfrm>
              <a:off x="6056280" y="3511440"/>
              <a:ext cx="0" cy="4082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05000" y="383544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910400" y="4749840"/>
              <a:ext cx="60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843160" y="480852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899320" y="4229280"/>
              <a:ext cx="144360" cy="599760"/>
            </a:xfrm>
            <a:custGeom>
              <a:avLst/>
              <a:gdLst/>
              <a:ahLst/>
              <a:rect l="l" t="t" r="r" b="b"/>
              <a:pathLst>
                <a:path w="91" h="378">
                  <a:moveTo>
                    <a:pt x="91" y="0"/>
                  </a:moveTo>
                  <a:cubicBezTo>
                    <a:pt x="85" y="18"/>
                    <a:pt x="69" y="74"/>
                    <a:pt x="55" y="108"/>
                  </a:cubicBezTo>
                  <a:cubicBezTo>
                    <a:pt x="41" y="142"/>
                    <a:pt x="14" y="171"/>
                    <a:pt x="7" y="204"/>
                  </a:cubicBezTo>
                  <a:cubicBezTo>
                    <a:pt x="0" y="237"/>
                    <a:pt x="8" y="280"/>
                    <a:pt x="13" y="309"/>
                  </a:cubicBezTo>
                  <a:cubicBezTo>
                    <a:pt x="18" y="338"/>
                    <a:pt x="32" y="364"/>
                    <a:pt x="37" y="37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62560" y="4637160"/>
              <a:ext cx="628560" cy="258840"/>
            </a:xfrm>
            <a:custGeom>
              <a:avLst/>
              <a:gdLst/>
              <a:ahLst/>
              <a:rect l="l" t="t" r="r" b="b"/>
              <a:pathLst>
                <a:path w="396" h="163">
                  <a:moveTo>
                    <a:pt x="396" y="163"/>
                  </a:moveTo>
                  <a:cubicBezTo>
                    <a:pt x="385" y="144"/>
                    <a:pt x="358" y="71"/>
                    <a:pt x="327" y="46"/>
                  </a:cubicBezTo>
                  <a:cubicBezTo>
                    <a:pt x="296" y="21"/>
                    <a:pt x="261" y="0"/>
                    <a:pt x="207" y="10"/>
                  </a:cubicBezTo>
                  <a:cubicBezTo>
                    <a:pt x="153" y="20"/>
                    <a:pt x="43" y="86"/>
                    <a:pt x="0" y="106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2324160" y="3289320"/>
            <a:ext cx="4457520" cy="2362320"/>
          </a:xfrm>
          <a:custGeom>
            <a:avLst/>
            <a:gdLst/>
            <a:ahLst/>
            <a:rect l="l" t="t" r="r" b="b"/>
            <a:pathLst>
              <a:path w="2808" h="1848">
                <a:moveTo>
                  <a:pt x="0" y="0"/>
                </a:moveTo>
                <a:lnTo>
                  <a:pt x="2808" y="0"/>
                </a:lnTo>
                <a:lnTo>
                  <a:pt x="2808" y="1848"/>
                </a:lnTo>
                <a:lnTo>
                  <a:pt x="8" y="1848"/>
                </a:lnTo>
                <a:lnTo>
                  <a:pt x="8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accu-electro1-bis" descr=""/>
          <p:cNvPicPr/>
          <p:nvPr/>
        </p:nvPicPr>
        <p:blipFill>
          <a:blip r:embed="rId2"/>
          <a:stretch/>
        </p:blipFill>
        <p:spPr>
          <a:xfrm>
            <a:off x="2671920" y="3521160"/>
            <a:ext cx="946080" cy="1976400"/>
          </a:xfrm>
          <a:prstGeom prst="rect">
            <a:avLst/>
          </a:prstGeom>
          <a:ln w="0">
            <a:noFill/>
          </a:ln>
        </p:spPr>
      </p:pic>
      <p:pic>
        <p:nvPicPr>
          <p:cNvPr id="642" name="accu-electro2-bis" descr=""/>
          <p:cNvPicPr/>
          <p:nvPr/>
        </p:nvPicPr>
        <p:blipFill>
          <a:blip r:embed="rId3"/>
          <a:stretch/>
        </p:blipFill>
        <p:spPr>
          <a:xfrm>
            <a:off x="5756400" y="3554280"/>
            <a:ext cx="582480" cy="180036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écharge de 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898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ela permet de définir la nature des électr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3060720" y="3073320"/>
            <a:ext cx="150840" cy="571680"/>
            <a:chOff x="3060720" y="3073320"/>
            <a:chExt cx="150840" cy="571680"/>
          </a:xfrm>
        </p:grpSpPr>
        <p:sp>
          <p:nvSpPr>
            <p:cNvPr id="646" name=""/>
            <p:cNvSpPr/>
            <p:nvPr/>
          </p:nvSpPr>
          <p:spPr>
            <a:xfrm>
              <a:off x="3137040" y="3238560"/>
              <a:ext cx="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06072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5989680" y="3073320"/>
            <a:ext cx="150840" cy="571320"/>
            <a:chOff x="5989680" y="3073320"/>
            <a:chExt cx="150840" cy="571320"/>
          </a:xfrm>
        </p:grpSpPr>
        <p:sp>
          <p:nvSpPr>
            <p:cNvPr id="649" name=""/>
            <p:cNvSpPr/>
            <p:nvPr/>
          </p:nvSpPr>
          <p:spPr>
            <a:xfrm>
              <a:off x="6066000" y="3238560"/>
              <a:ext cx="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98968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4259160" y="22287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141720" y="2305080"/>
            <a:ext cx="293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791240" y="1844640"/>
            <a:ext cx="49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622840" y="1873080"/>
            <a:ext cx="49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3137040" y="2305080"/>
            <a:ext cx="0" cy="76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6064200" y="2298240"/>
            <a:ext cx="0" cy="76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21280" y="200016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33960" y="2050920"/>
            <a:ext cx="4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73360" y="207648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43360" y="2060640"/>
            <a:ext cx="4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2806200" y="2230560"/>
            <a:ext cx="3558600" cy="678960"/>
            <a:chOff x="2806200" y="2230560"/>
            <a:chExt cx="3558600" cy="678960"/>
          </a:xfrm>
        </p:grpSpPr>
        <p:sp>
          <p:nvSpPr>
            <p:cNvPr id="662" name=""/>
            <p:cNvSpPr/>
            <p:nvPr/>
          </p:nvSpPr>
          <p:spPr>
            <a:xfrm flipV="1">
              <a:off x="3132000" y="250164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068880" y="244008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19440" y="2314440"/>
              <a:ext cx="408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65160" y="22305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098760" y="24382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06200" y="24494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3285360" y="2733840"/>
            <a:ext cx="2652120" cy="590400"/>
            <a:chOff x="3285360" y="2733840"/>
            <a:chExt cx="2652120" cy="590400"/>
          </a:xfrm>
        </p:grpSpPr>
        <p:grpSp>
          <p:nvGrpSpPr>
            <p:cNvPr id="669" name=""/>
            <p:cNvGrpSpPr/>
            <p:nvPr/>
          </p:nvGrpSpPr>
          <p:grpSpPr>
            <a:xfrm>
              <a:off x="3285360" y="2733840"/>
              <a:ext cx="385200" cy="520560"/>
              <a:chOff x="3285360" y="2733840"/>
              <a:chExt cx="385200" cy="520560"/>
            </a:xfrm>
          </p:grpSpPr>
          <p:sp>
            <p:nvSpPr>
              <p:cNvPr id="670" name=""/>
              <p:cNvSpPr/>
              <p:nvPr/>
            </p:nvSpPr>
            <p:spPr>
              <a:xfrm flipV="1">
                <a:off x="3295440" y="275256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285360" y="273384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5552280" y="2803680"/>
              <a:ext cx="385200" cy="520560"/>
              <a:chOff x="5552280" y="2803680"/>
              <a:chExt cx="385200" cy="520560"/>
            </a:xfrm>
          </p:grpSpPr>
          <p:sp>
            <p:nvSpPr>
              <p:cNvPr id="673" name=""/>
              <p:cNvSpPr/>
              <p:nvPr/>
            </p:nvSpPr>
            <p:spPr>
              <a:xfrm>
                <a:off x="5929200" y="285552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52280" y="280368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5" name=""/>
          <p:cNvSpPr/>
          <p:nvPr/>
        </p:nvSpPr>
        <p:spPr>
          <a:xfrm>
            <a:off x="236160" y="5384880"/>
            <a:ext cx="4420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b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4 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Pb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2630520" y="2876400"/>
            <a:ext cx="3894120" cy="241560"/>
            <a:chOff x="2630520" y="2876400"/>
            <a:chExt cx="3894120" cy="241560"/>
          </a:xfrm>
        </p:grpSpPr>
        <p:grpSp>
          <p:nvGrpSpPr>
            <p:cNvPr id="677" name=""/>
            <p:cNvGrpSpPr/>
            <p:nvPr/>
          </p:nvGrpSpPr>
          <p:grpSpPr>
            <a:xfrm>
              <a:off x="2630520" y="2876400"/>
              <a:ext cx="241200" cy="241560"/>
              <a:chOff x="2630520" y="2876400"/>
              <a:chExt cx="241200" cy="241560"/>
            </a:xfrm>
          </p:grpSpPr>
          <p:sp>
            <p:nvSpPr>
              <p:cNvPr id="678" name=""/>
              <p:cNvSpPr/>
              <p:nvPr/>
            </p:nvSpPr>
            <p:spPr>
              <a:xfrm>
                <a:off x="2751120" y="2876400"/>
                <a:ext cx="0" cy="24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630520" y="2997000"/>
                <a:ext cx="241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6283440" y="3002040"/>
              <a:ext cx="24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6760440" y="538488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xy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b = Pb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64400" y="345456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TH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966720" y="353052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883960" y="3486240"/>
            <a:ext cx="1762200" cy="1648800"/>
            <a:chOff x="2883960" y="3486240"/>
            <a:chExt cx="1762200" cy="1648800"/>
          </a:xfrm>
        </p:grpSpPr>
        <p:sp>
          <p:nvSpPr>
            <p:cNvPr id="685" name=""/>
            <p:cNvSpPr/>
            <p:nvPr/>
          </p:nvSpPr>
          <p:spPr>
            <a:xfrm>
              <a:off x="2883960" y="38098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37400" y="4519440"/>
              <a:ext cx="60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373200" y="4694400"/>
              <a:ext cx="70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O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135240" y="3486240"/>
              <a:ext cx="0" cy="4078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143160" y="4181400"/>
              <a:ext cx="642960" cy="457200"/>
            </a:xfrm>
            <a:custGeom>
              <a:avLst/>
              <a:gdLst/>
              <a:ahLst/>
              <a:rect l="l" t="t" r="r" b="b"/>
              <a:pathLst>
                <a:path w="405" h="288">
                  <a:moveTo>
                    <a:pt x="0" y="0"/>
                  </a:moveTo>
                  <a:cubicBezTo>
                    <a:pt x="17" y="28"/>
                    <a:pt x="37" y="120"/>
                    <a:pt x="105" y="168"/>
                  </a:cubicBezTo>
                  <a:cubicBezTo>
                    <a:pt x="173" y="216"/>
                    <a:pt x="342" y="263"/>
                    <a:pt x="405" y="28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419640" y="4618080"/>
              <a:ext cx="633240" cy="225360"/>
            </a:xfrm>
            <a:custGeom>
              <a:avLst/>
              <a:gdLst/>
              <a:ahLst/>
              <a:rect l="l" t="t" r="r" b="b"/>
              <a:pathLst>
                <a:path w="399" h="142">
                  <a:moveTo>
                    <a:pt x="0" y="142"/>
                  </a:moveTo>
                  <a:cubicBezTo>
                    <a:pt x="39" y="95"/>
                    <a:pt x="79" y="47"/>
                    <a:pt x="117" y="25"/>
                  </a:cubicBezTo>
                  <a:cubicBezTo>
                    <a:pt x="155" y="3"/>
                    <a:pt x="180" y="0"/>
                    <a:pt x="227" y="9"/>
                  </a:cubicBezTo>
                  <a:cubicBezTo>
                    <a:pt x="274" y="18"/>
                    <a:pt x="363" y="65"/>
                    <a:pt x="399" y="79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4910400" y="3511440"/>
            <a:ext cx="1432080" cy="1695960"/>
            <a:chOff x="4910400" y="3511440"/>
            <a:chExt cx="1432080" cy="1695960"/>
          </a:xfrm>
        </p:grpSpPr>
        <p:sp>
          <p:nvSpPr>
            <p:cNvPr id="692" name=""/>
            <p:cNvSpPr/>
            <p:nvPr/>
          </p:nvSpPr>
          <p:spPr>
            <a:xfrm>
              <a:off x="6056280" y="3511440"/>
              <a:ext cx="0" cy="4082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805000" y="383544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910400" y="4749840"/>
              <a:ext cx="60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843160" y="480852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899320" y="4229280"/>
              <a:ext cx="144360" cy="599760"/>
            </a:xfrm>
            <a:custGeom>
              <a:avLst/>
              <a:gdLst/>
              <a:ahLst/>
              <a:rect l="l" t="t" r="r" b="b"/>
              <a:pathLst>
                <a:path w="91" h="378">
                  <a:moveTo>
                    <a:pt x="91" y="0"/>
                  </a:moveTo>
                  <a:cubicBezTo>
                    <a:pt x="85" y="18"/>
                    <a:pt x="69" y="74"/>
                    <a:pt x="55" y="108"/>
                  </a:cubicBezTo>
                  <a:cubicBezTo>
                    <a:pt x="41" y="142"/>
                    <a:pt x="14" y="171"/>
                    <a:pt x="7" y="204"/>
                  </a:cubicBezTo>
                  <a:cubicBezTo>
                    <a:pt x="0" y="237"/>
                    <a:pt x="8" y="280"/>
                    <a:pt x="13" y="309"/>
                  </a:cubicBezTo>
                  <a:cubicBezTo>
                    <a:pt x="18" y="338"/>
                    <a:pt x="32" y="364"/>
                    <a:pt x="37" y="37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362560" y="4637160"/>
              <a:ext cx="628560" cy="258840"/>
            </a:xfrm>
            <a:custGeom>
              <a:avLst/>
              <a:gdLst/>
              <a:ahLst/>
              <a:rect l="l" t="t" r="r" b="b"/>
              <a:pathLst>
                <a:path w="396" h="163">
                  <a:moveTo>
                    <a:pt x="396" y="163"/>
                  </a:moveTo>
                  <a:cubicBezTo>
                    <a:pt x="385" y="144"/>
                    <a:pt x="358" y="71"/>
                    <a:pt x="327" y="46"/>
                  </a:cubicBezTo>
                  <a:cubicBezTo>
                    <a:pt x="296" y="21"/>
                    <a:pt x="261" y="0"/>
                    <a:pt x="207" y="10"/>
                  </a:cubicBezTo>
                  <a:cubicBezTo>
                    <a:pt x="153" y="20"/>
                    <a:pt x="43" y="86"/>
                    <a:pt x="0" y="106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419040" y="2451240"/>
            <a:ext cx="63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’</a:t>
            </a:r>
            <a:r>
              <a:rPr b="1" lang="fr-FR" sz="2400" spc="-1" strike="noStrike">
                <a:solidFill>
                  <a:srgbClr val="cc0066"/>
                </a:solidFill>
                <a:latin typeface="Times New Roman"/>
              </a:rPr>
              <a:t>ANOD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st l’électrode sur laquelle se produit l’</a:t>
            </a:r>
            <a:r>
              <a:rPr b="1" lang="fr-FR" sz="2400" spc="-1" strike="noStrike">
                <a:solidFill>
                  <a:srgbClr val="cc0066"/>
                </a:solidFill>
                <a:latin typeface="Times New Roman"/>
              </a:rPr>
              <a:t>OXYD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905120" y="4229280"/>
            <a:ext cx="688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CATHOD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st l’électrode sur laquelle se produit la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REDUC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2619360" y="393840"/>
            <a:ext cx="4495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Défini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254160" y="1866960"/>
            <a:ext cx="64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xydation à l’anode         Pb = Pb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7280" y="879480"/>
            <a:ext cx="833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Times New Roman"/>
              </a:rPr>
              <a:t>L’équation est celle du fonctionnement spontané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2000" y="4327560"/>
            <a:ext cx="8734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Équation  PbO</a:t>
            </a:r>
            <a:r>
              <a:rPr b="0" lang="fr-FR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+ Pb + 4 H</a:t>
            </a:r>
            <a:r>
              <a:rPr b="0" lang="fr-FR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= 2 Pb</a:t>
            </a:r>
            <a:r>
              <a:rPr b="0" lang="fr-FR" sz="36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fr-FR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2 H</a:t>
            </a:r>
            <a:r>
              <a:rPr b="0" lang="fr-FR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écharge de 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79360" y="2946240"/>
            <a:ext cx="782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duction à la cathode     Pb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4 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Pb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5604120" y="2024640"/>
            <a:ext cx="2102040" cy="559080"/>
            <a:chOff x="5604120" y="2024640"/>
            <a:chExt cx="2102040" cy="559080"/>
          </a:xfrm>
        </p:grpSpPr>
        <p:sp>
          <p:nvSpPr>
            <p:cNvPr id="707" name=""/>
            <p:cNvSpPr/>
            <p:nvPr/>
          </p:nvSpPr>
          <p:spPr>
            <a:xfrm rot="864600">
              <a:off x="5626080" y="2145960"/>
              <a:ext cx="1015920" cy="304920"/>
            </a:xfrm>
            <a:custGeom>
              <a:avLst/>
              <a:gdLst>
                <a:gd name="textAreaLeft" fmla="*/ 126720 w 1015920"/>
                <a:gd name="textAreaRight" fmla="*/ 889200 w 101592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652080" y="2124000"/>
              <a:ext cx="105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borne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5718600" y="3358080"/>
            <a:ext cx="2171880" cy="559080"/>
            <a:chOff x="5718600" y="3358080"/>
            <a:chExt cx="2171880" cy="559080"/>
          </a:xfrm>
        </p:grpSpPr>
        <p:sp>
          <p:nvSpPr>
            <p:cNvPr id="710" name=""/>
            <p:cNvSpPr/>
            <p:nvPr/>
          </p:nvSpPr>
          <p:spPr>
            <a:xfrm rot="864600">
              <a:off x="5740560" y="3479400"/>
              <a:ext cx="1015920" cy="304920"/>
            </a:xfrm>
            <a:custGeom>
              <a:avLst/>
              <a:gdLst>
                <a:gd name="textAreaLeft" fmla="*/ 126720 w 1015920"/>
                <a:gd name="textAreaRight" fmla="*/ 889200 w 101592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66560" y="3457440"/>
              <a:ext cx="112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borne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200160" y="5407200"/>
            <a:ext cx="87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décharge de l’accumulateur au plomb consomme les solides des électrodes et des ions 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e l’électrolyte (le pH augmente).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0" y="2346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Lors de la charge, il se produit une électroly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0" y="3514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Il faut utiliser un générateur pour «charger» l’accumulate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0" y="9907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tude de la char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2324160" y="3289320"/>
            <a:ext cx="4457520" cy="2362320"/>
          </a:xfrm>
          <a:custGeom>
            <a:avLst/>
            <a:gdLst/>
            <a:ahLst/>
            <a:rect l="l" t="t" r="r" b="b"/>
            <a:pathLst>
              <a:path w="2808" h="1848">
                <a:moveTo>
                  <a:pt x="0" y="0"/>
                </a:moveTo>
                <a:lnTo>
                  <a:pt x="2808" y="0"/>
                </a:lnTo>
                <a:lnTo>
                  <a:pt x="2808" y="1848"/>
                </a:lnTo>
                <a:lnTo>
                  <a:pt x="8" y="1848"/>
                </a:lnTo>
                <a:lnTo>
                  <a:pt x="8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accu-electro1-bis" descr=""/>
          <p:cNvPicPr/>
          <p:nvPr/>
        </p:nvPicPr>
        <p:blipFill>
          <a:blip r:embed="rId2"/>
          <a:stretch/>
        </p:blipFill>
        <p:spPr>
          <a:xfrm>
            <a:off x="2671920" y="3521160"/>
            <a:ext cx="946080" cy="1976400"/>
          </a:xfrm>
          <a:prstGeom prst="rect">
            <a:avLst/>
          </a:prstGeom>
          <a:ln w="0">
            <a:noFill/>
          </a:ln>
        </p:spPr>
      </p:pic>
      <p:pic>
        <p:nvPicPr>
          <p:cNvPr id="719" name="accu-electro2-bis" descr=""/>
          <p:cNvPicPr/>
          <p:nvPr/>
        </p:nvPicPr>
        <p:blipFill>
          <a:blip r:embed="rId3"/>
          <a:stretch/>
        </p:blipFill>
        <p:spPr>
          <a:xfrm>
            <a:off x="5756400" y="3554280"/>
            <a:ext cx="582480" cy="1800360"/>
          </a:xfrm>
          <a:prstGeom prst="rect">
            <a:avLst/>
          </a:prstGeom>
          <a:ln w="0">
            <a:noFill/>
          </a:ln>
        </p:spPr>
      </p:pic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harge de 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69800" y="337824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181480" y="5797440"/>
            <a:ext cx="372456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concentrée d’aci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lfurique  : 2 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S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 flipV="1">
            <a:off x="4467240" y="5378040"/>
            <a:ext cx="79992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251120" y="353052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44600" y="4127400"/>
            <a:ext cx="146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couverte d’oxyde de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0" y="898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On relie les bornes par un circuit électrique contenant un génér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3060720" y="3073320"/>
            <a:ext cx="150840" cy="571680"/>
            <a:chOff x="3060720" y="3073320"/>
            <a:chExt cx="150840" cy="571680"/>
          </a:xfrm>
        </p:grpSpPr>
        <p:sp>
          <p:nvSpPr>
            <p:cNvPr id="728" name=""/>
            <p:cNvSpPr/>
            <p:nvPr/>
          </p:nvSpPr>
          <p:spPr>
            <a:xfrm>
              <a:off x="3137040" y="3238560"/>
              <a:ext cx="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06072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5989680" y="3073320"/>
            <a:ext cx="150840" cy="571320"/>
            <a:chOff x="5989680" y="3073320"/>
            <a:chExt cx="150840" cy="571320"/>
          </a:xfrm>
        </p:grpSpPr>
        <p:sp>
          <p:nvSpPr>
            <p:cNvPr id="731" name=""/>
            <p:cNvSpPr/>
            <p:nvPr/>
          </p:nvSpPr>
          <p:spPr>
            <a:xfrm>
              <a:off x="6066000" y="3238560"/>
              <a:ext cx="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8968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1739880" y="4051440"/>
            <a:ext cx="1373040" cy="69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600200" y="4762440"/>
            <a:ext cx="133344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6053040" y="4292640"/>
            <a:ext cx="15796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600200" y="4762440"/>
            <a:ext cx="1200240" cy="1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3137040" y="2006640"/>
            <a:ext cx="2931840" cy="1066680"/>
            <a:chOff x="3137040" y="2006640"/>
            <a:chExt cx="2931840" cy="1066680"/>
          </a:xfrm>
        </p:grpSpPr>
        <p:sp>
          <p:nvSpPr>
            <p:cNvPr id="738" name=""/>
            <p:cNvSpPr/>
            <p:nvPr/>
          </p:nvSpPr>
          <p:spPr>
            <a:xfrm>
              <a:off x="4259160" y="2228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3137040" y="2305080"/>
              <a:ext cx="0" cy="76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6064200" y="23047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379760" y="2006640"/>
              <a:ext cx="60984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141720" y="2305080"/>
              <a:ext cx="292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564800" y="246384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971960" y="2082960"/>
              <a:ext cx="171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4203720" y="2041560"/>
              <a:ext cx="171360" cy="177840"/>
              <a:chOff x="4203720" y="2041560"/>
              <a:chExt cx="171360" cy="177840"/>
            </a:xfrm>
          </p:grpSpPr>
          <p:sp>
            <p:nvSpPr>
              <p:cNvPr id="746" name=""/>
              <p:cNvSpPr/>
              <p:nvPr/>
            </p:nvSpPr>
            <p:spPr>
              <a:xfrm>
                <a:off x="4203720" y="21337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288680" y="204156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8" name=""/>
          <p:cNvSpPr/>
          <p:nvPr/>
        </p:nvSpPr>
        <p:spPr>
          <a:xfrm>
            <a:off x="0" y="1330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La borne + du générateur est reliée à l’électrode d’oxyde de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2324160" y="3289320"/>
            <a:ext cx="4457520" cy="2362320"/>
          </a:xfrm>
          <a:custGeom>
            <a:avLst/>
            <a:gdLst/>
            <a:ahLst/>
            <a:rect l="l" t="t" r="r" b="b"/>
            <a:pathLst>
              <a:path w="2808" h="1848">
                <a:moveTo>
                  <a:pt x="0" y="0"/>
                </a:moveTo>
                <a:lnTo>
                  <a:pt x="2808" y="0"/>
                </a:lnTo>
                <a:lnTo>
                  <a:pt x="2808" y="1848"/>
                </a:lnTo>
                <a:lnTo>
                  <a:pt x="8" y="1848"/>
                </a:lnTo>
                <a:lnTo>
                  <a:pt x="8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accu-electro1-bis" descr=""/>
          <p:cNvPicPr/>
          <p:nvPr/>
        </p:nvPicPr>
        <p:blipFill>
          <a:blip r:embed="rId2"/>
          <a:stretch/>
        </p:blipFill>
        <p:spPr>
          <a:xfrm>
            <a:off x="2671920" y="3521160"/>
            <a:ext cx="946080" cy="1976400"/>
          </a:xfrm>
          <a:prstGeom prst="rect">
            <a:avLst/>
          </a:prstGeom>
          <a:ln w="0">
            <a:noFill/>
          </a:ln>
        </p:spPr>
      </p:pic>
      <p:pic>
        <p:nvPicPr>
          <p:cNvPr id="751" name="accu-electro2-bis" descr=""/>
          <p:cNvPicPr/>
          <p:nvPr/>
        </p:nvPicPr>
        <p:blipFill>
          <a:blip r:embed="rId3"/>
          <a:stretch/>
        </p:blipFill>
        <p:spPr>
          <a:xfrm>
            <a:off x="5756400" y="3554280"/>
            <a:ext cx="582480" cy="1800360"/>
          </a:xfrm>
          <a:prstGeom prst="rect">
            <a:avLst/>
          </a:prstGeom>
          <a:ln w="0">
            <a:noFill/>
          </a:ln>
        </p:spPr>
      </p:pic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harge de 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69800" y="337824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181480" y="5797440"/>
            <a:ext cx="372456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concentrée d’aci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lfurique  : 2 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S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 flipV="1">
            <a:off x="4467240" y="5378040"/>
            <a:ext cx="79992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251120" y="353052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44600" y="4127400"/>
            <a:ext cx="146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couverte d’oxyde de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0" y="898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Le  générateur impose le sens du cou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3060720" y="3073320"/>
            <a:ext cx="150840" cy="571680"/>
            <a:chOff x="3060720" y="3073320"/>
            <a:chExt cx="150840" cy="571680"/>
          </a:xfrm>
        </p:grpSpPr>
        <p:sp>
          <p:nvSpPr>
            <p:cNvPr id="760" name=""/>
            <p:cNvSpPr/>
            <p:nvPr/>
          </p:nvSpPr>
          <p:spPr>
            <a:xfrm>
              <a:off x="3137040" y="3238560"/>
              <a:ext cx="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06072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989680" y="3073320"/>
            <a:ext cx="150840" cy="571320"/>
            <a:chOff x="5989680" y="3073320"/>
            <a:chExt cx="150840" cy="571320"/>
          </a:xfrm>
        </p:grpSpPr>
        <p:sp>
          <p:nvSpPr>
            <p:cNvPr id="763" name=""/>
            <p:cNvSpPr/>
            <p:nvPr/>
          </p:nvSpPr>
          <p:spPr>
            <a:xfrm>
              <a:off x="6066000" y="3238560"/>
              <a:ext cx="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98968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1739880" y="4051440"/>
            <a:ext cx="1373040" cy="69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600200" y="4762440"/>
            <a:ext cx="133344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6053040" y="4292640"/>
            <a:ext cx="15796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00200" y="4762440"/>
            <a:ext cx="1200240" cy="1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137040" y="2006640"/>
            <a:ext cx="2931840" cy="1066680"/>
            <a:chOff x="3137040" y="2006640"/>
            <a:chExt cx="2931840" cy="1066680"/>
          </a:xfrm>
        </p:grpSpPr>
        <p:sp>
          <p:nvSpPr>
            <p:cNvPr id="770" name=""/>
            <p:cNvSpPr/>
            <p:nvPr/>
          </p:nvSpPr>
          <p:spPr>
            <a:xfrm>
              <a:off x="4259160" y="2228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3137040" y="2305080"/>
              <a:ext cx="0" cy="76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6064200" y="23047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379760" y="2006640"/>
              <a:ext cx="60984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141720" y="2305080"/>
              <a:ext cx="292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564800" y="246384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971960" y="2082960"/>
              <a:ext cx="171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4203720" y="2041560"/>
              <a:ext cx="171360" cy="177840"/>
              <a:chOff x="4203720" y="2041560"/>
              <a:chExt cx="171360" cy="177840"/>
            </a:xfrm>
          </p:grpSpPr>
          <p:sp>
            <p:nvSpPr>
              <p:cNvPr id="778" name=""/>
              <p:cNvSpPr/>
              <p:nvPr/>
            </p:nvSpPr>
            <p:spPr>
              <a:xfrm>
                <a:off x="4203720" y="21337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288680" y="204156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758680" y="2425680"/>
            <a:ext cx="3653640" cy="496440"/>
            <a:chOff x="2758680" y="2425680"/>
            <a:chExt cx="3653640" cy="496440"/>
          </a:xfrm>
        </p:grpSpPr>
        <p:sp>
          <p:nvSpPr>
            <p:cNvPr id="781" name=""/>
            <p:cNvSpPr/>
            <p:nvPr/>
          </p:nvSpPr>
          <p:spPr>
            <a:xfrm flipV="1">
              <a:off x="6066000" y="251424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135240" y="245268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758680" y="24256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146280" y="24494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2324160" y="3289320"/>
            <a:ext cx="4457520" cy="2362320"/>
          </a:xfrm>
          <a:custGeom>
            <a:avLst/>
            <a:gdLst/>
            <a:ahLst/>
            <a:rect l="l" t="t" r="r" b="b"/>
            <a:pathLst>
              <a:path w="2808" h="1848">
                <a:moveTo>
                  <a:pt x="0" y="0"/>
                </a:moveTo>
                <a:lnTo>
                  <a:pt x="2808" y="0"/>
                </a:lnTo>
                <a:lnTo>
                  <a:pt x="2808" y="1848"/>
                </a:lnTo>
                <a:lnTo>
                  <a:pt x="8" y="1848"/>
                </a:lnTo>
                <a:lnTo>
                  <a:pt x="8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accu-electro1-bis" descr=""/>
          <p:cNvPicPr/>
          <p:nvPr/>
        </p:nvPicPr>
        <p:blipFill>
          <a:blip r:embed="rId2"/>
          <a:stretch/>
        </p:blipFill>
        <p:spPr>
          <a:xfrm>
            <a:off x="2671920" y="3521160"/>
            <a:ext cx="946080" cy="1976400"/>
          </a:xfrm>
          <a:prstGeom prst="rect">
            <a:avLst/>
          </a:prstGeom>
          <a:ln w="0">
            <a:noFill/>
          </a:ln>
        </p:spPr>
      </p:pic>
      <p:pic>
        <p:nvPicPr>
          <p:cNvPr id="787" name="accu-electro2-bis" descr=""/>
          <p:cNvPicPr/>
          <p:nvPr/>
        </p:nvPicPr>
        <p:blipFill>
          <a:blip r:embed="rId3"/>
          <a:stretch/>
        </p:blipFill>
        <p:spPr>
          <a:xfrm>
            <a:off x="5756400" y="3554280"/>
            <a:ext cx="582480" cy="1800360"/>
          </a:xfrm>
          <a:prstGeom prst="rect">
            <a:avLst/>
          </a:prstGeom>
          <a:ln w="0">
            <a:noFill/>
          </a:ln>
        </p:spPr>
      </p:pic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harge de 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69800" y="337824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181480" y="5797440"/>
            <a:ext cx="372456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concentrée d’aci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lfurique  : 2 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S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 flipV="1">
            <a:off x="4467240" y="5378040"/>
            <a:ext cx="79992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251120" y="353052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44600" y="4127400"/>
            <a:ext cx="146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couverte d’oxyde de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3060720" y="3073320"/>
            <a:ext cx="150840" cy="571680"/>
            <a:chOff x="3060720" y="3073320"/>
            <a:chExt cx="150840" cy="571680"/>
          </a:xfrm>
        </p:grpSpPr>
        <p:sp>
          <p:nvSpPr>
            <p:cNvPr id="795" name=""/>
            <p:cNvSpPr/>
            <p:nvPr/>
          </p:nvSpPr>
          <p:spPr>
            <a:xfrm>
              <a:off x="3137040" y="3238560"/>
              <a:ext cx="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06072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5989680" y="3073320"/>
            <a:ext cx="150840" cy="571320"/>
            <a:chOff x="5989680" y="3073320"/>
            <a:chExt cx="150840" cy="571320"/>
          </a:xfrm>
        </p:grpSpPr>
        <p:sp>
          <p:nvSpPr>
            <p:cNvPr id="798" name=""/>
            <p:cNvSpPr/>
            <p:nvPr/>
          </p:nvSpPr>
          <p:spPr>
            <a:xfrm>
              <a:off x="6066000" y="3238560"/>
              <a:ext cx="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98968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1739880" y="4051440"/>
            <a:ext cx="1373040" cy="69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00200" y="4762440"/>
            <a:ext cx="133344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6053040" y="4292640"/>
            <a:ext cx="15796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600200" y="4762440"/>
            <a:ext cx="1200240" cy="1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3137040" y="2006640"/>
            <a:ext cx="2931840" cy="1066680"/>
            <a:chOff x="3137040" y="2006640"/>
            <a:chExt cx="2931840" cy="1066680"/>
          </a:xfrm>
        </p:grpSpPr>
        <p:sp>
          <p:nvSpPr>
            <p:cNvPr id="805" name=""/>
            <p:cNvSpPr/>
            <p:nvPr/>
          </p:nvSpPr>
          <p:spPr>
            <a:xfrm>
              <a:off x="4259160" y="2228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137040" y="2305080"/>
              <a:ext cx="0" cy="76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6064200" y="23047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79760" y="2006640"/>
              <a:ext cx="60984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41720" y="2305080"/>
              <a:ext cx="292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64800" y="246384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971960" y="2082960"/>
              <a:ext cx="171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4203720" y="2041560"/>
              <a:ext cx="171360" cy="177840"/>
              <a:chOff x="4203720" y="2041560"/>
              <a:chExt cx="171360" cy="177840"/>
            </a:xfrm>
          </p:grpSpPr>
          <p:sp>
            <p:nvSpPr>
              <p:cNvPr id="813" name=""/>
              <p:cNvSpPr/>
              <p:nvPr/>
            </p:nvSpPr>
            <p:spPr>
              <a:xfrm>
                <a:off x="4203720" y="21337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288680" y="204156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5" name=""/>
          <p:cNvSpPr/>
          <p:nvPr/>
        </p:nvSpPr>
        <p:spPr>
          <a:xfrm>
            <a:off x="0" y="898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Dans le circuit électrique, le courant est du à la circulation des é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3300480" y="2678040"/>
            <a:ext cx="2617920" cy="652320"/>
            <a:chOff x="3300480" y="2678040"/>
            <a:chExt cx="2617920" cy="652320"/>
          </a:xfrm>
        </p:grpSpPr>
        <p:grpSp>
          <p:nvGrpSpPr>
            <p:cNvPr id="817" name=""/>
            <p:cNvGrpSpPr/>
            <p:nvPr/>
          </p:nvGrpSpPr>
          <p:grpSpPr>
            <a:xfrm>
              <a:off x="5533200" y="2809800"/>
              <a:ext cx="385200" cy="520560"/>
              <a:chOff x="5533200" y="2809800"/>
              <a:chExt cx="385200" cy="520560"/>
            </a:xfrm>
          </p:grpSpPr>
          <p:sp>
            <p:nvSpPr>
              <p:cNvPr id="818" name=""/>
              <p:cNvSpPr/>
              <p:nvPr/>
            </p:nvSpPr>
            <p:spPr>
              <a:xfrm flipV="1">
                <a:off x="5886360" y="2841480"/>
                <a:ext cx="0" cy="4082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533200" y="280980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3300480" y="2678040"/>
              <a:ext cx="389160" cy="531720"/>
              <a:chOff x="3300480" y="2678040"/>
              <a:chExt cx="389160" cy="531720"/>
            </a:xfrm>
          </p:grpSpPr>
          <p:sp>
            <p:nvSpPr>
              <p:cNvPr id="821" name=""/>
              <p:cNvSpPr/>
              <p:nvPr/>
            </p:nvSpPr>
            <p:spPr>
              <a:xfrm>
                <a:off x="3300480" y="2678040"/>
                <a:ext cx="0" cy="4082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304440" y="268920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3" name=""/>
          <p:cNvGrpSpPr/>
          <p:nvPr/>
        </p:nvGrpSpPr>
        <p:grpSpPr>
          <a:xfrm>
            <a:off x="2758680" y="2425680"/>
            <a:ext cx="3653640" cy="496440"/>
            <a:chOff x="2758680" y="2425680"/>
            <a:chExt cx="3653640" cy="496440"/>
          </a:xfrm>
        </p:grpSpPr>
        <p:sp>
          <p:nvSpPr>
            <p:cNvPr id="824" name=""/>
            <p:cNvSpPr/>
            <p:nvPr/>
          </p:nvSpPr>
          <p:spPr>
            <a:xfrm flipV="1">
              <a:off x="6066000" y="251424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35240" y="245268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58680" y="24256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146280" y="24494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2324160" y="3289320"/>
            <a:ext cx="4457520" cy="2362320"/>
          </a:xfrm>
          <a:custGeom>
            <a:avLst/>
            <a:gdLst/>
            <a:ahLst/>
            <a:rect l="l" t="t" r="r" b="b"/>
            <a:pathLst>
              <a:path w="2808" h="1848">
                <a:moveTo>
                  <a:pt x="0" y="0"/>
                </a:moveTo>
                <a:lnTo>
                  <a:pt x="2808" y="0"/>
                </a:lnTo>
                <a:lnTo>
                  <a:pt x="2808" y="1848"/>
                </a:lnTo>
                <a:lnTo>
                  <a:pt x="8" y="1848"/>
                </a:lnTo>
                <a:lnTo>
                  <a:pt x="8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9" name="accu-electro1-bis" descr=""/>
          <p:cNvPicPr/>
          <p:nvPr/>
        </p:nvPicPr>
        <p:blipFill>
          <a:blip r:embed="rId2"/>
          <a:stretch/>
        </p:blipFill>
        <p:spPr>
          <a:xfrm>
            <a:off x="2671920" y="3521160"/>
            <a:ext cx="946080" cy="1976400"/>
          </a:xfrm>
          <a:prstGeom prst="rect">
            <a:avLst/>
          </a:prstGeom>
          <a:ln w="0">
            <a:noFill/>
          </a:ln>
        </p:spPr>
      </p:pic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harge de 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3060720" y="3073320"/>
            <a:ext cx="150840" cy="571680"/>
            <a:chOff x="3060720" y="3073320"/>
            <a:chExt cx="150840" cy="571680"/>
          </a:xfrm>
        </p:grpSpPr>
        <p:sp>
          <p:nvSpPr>
            <p:cNvPr id="832" name=""/>
            <p:cNvSpPr/>
            <p:nvPr/>
          </p:nvSpPr>
          <p:spPr>
            <a:xfrm>
              <a:off x="3137040" y="3238560"/>
              <a:ext cx="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06072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5989680" y="3073320"/>
            <a:ext cx="150840" cy="571320"/>
            <a:chOff x="5989680" y="3073320"/>
            <a:chExt cx="150840" cy="571320"/>
          </a:xfrm>
        </p:grpSpPr>
        <p:sp>
          <p:nvSpPr>
            <p:cNvPr id="835" name=""/>
            <p:cNvSpPr/>
            <p:nvPr/>
          </p:nvSpPr>
          <p:spPr>
            <a:xfrm>
              <a:off x="6066000" y="3238560"/>
              <a:ext cx="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98968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3137040" y="2006640"/>
            <a:ext cx="2931840" cy="1066680"/>
            <a:chOff x="3137040" y="2006640"/>
            <a:chExt cx="2931840" cy="1066680"/>
          </a:xfrm>
        </p:grpSpPr>
        <p:sp>
          <p:nvSpPr>
            <p:cNvPr id="838" name=""/>
            <p:cNvSpPr/>
            <p:nvPr/>
          </p:nvSpPr>
          <p:spPr>
            <a:xfrm>
              <a:off x="4259160" y="2228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3137040" y="2305080"/>
              <a:ext cx="0" cy="76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6064200" y="23047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379760" y="2006640"/>
              <a:ext cx="60984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141720" y="2305080"/>
              <a:ext cx="292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564800" y="246384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971960" y="2082960"/>
              <a:ext cx="171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5" name=""/>
            <p:cNvGrpSpPr/>
            <p:nvPr/>
          </p:nvGrpSpPr>
          <p:grpSpPr>
            <a:xfrm>
              <a:off x="4203720" y="2041560"/>
              <a:ext cx="171360" cy="177840"/>
              <a:chOff x="4203720" y="2041560"/>
              <a:chExt cx="171360" cy="177840"/>
            </a:xfrm>
          </p:grpSpPr>
          <p:sp>
            <p:nvSpPr>
              <p:cNvPr id="846" name=""/>
              <p:cNvSpPr/>
              <p:nvPr/>
            </p:nvSpPr>
            <p:spPr>
              <a:xfrm>
                <a:off x="4203720" y="21337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288680" y="204156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8" name=""/>
          <p:cNvSpPr/>
          <p:nvPr/>
        </p:nvSpPr>
        <p:spPr>
          <a:xfrm>
            <a:off x="0" y="898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Les électrons sont consommés par la réduction des ions plomb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3300480" y="2678040"/>
            <a:ext cx="2617920" cy="652320"/>
            <a:chOff x="3300480" y="2678040"/>
            <a:chExt cx="2617920" cy="652320"/>
          </a:xfrm>
        </p:grpSpPr>
        <p:grpSp>
          <p:nvGrpSpPr>
            <p:cNvPr id="850" name=""/>
            <p:cNvGrpSpPr/>
            <p:nvPr/>
          </p:nvGrpSpPr>
          <p:grpSpPr>
            <a:xfrm>
              <a:off x="5533200" y="2809800"/>
              <a:ext cx="385200" cy="520560"/>
              <a:chOff x="5533200" y="2809800"/>
              <a:chExt cx="385200" cy="520560"/>
            </a:xfrm>
          </p:grpSpPr>
          <p:sp>
            <p:nvSpPr>
              <p:cNvPr id="851" name=""/>
              <p:cNvSpPr/>
              <p:nvPr/>
            </p:nvSpPr>
            <p:spPr>
              <a:xfrm flipV="1">
                <a:off x="5886360" y="2841480"/>
                <a:ext cx="0" cy="4082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533200" y="280980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3300480" y="2678040"/>
              <a:ext cx="389160" cy="531720"/>
              <a:chOff x="3300480" y="2678040"/>
              <a:chExt cx="389160" cy="531720"/>
            </a:xfrm>
          </p:grpSpPr>
          <p:sp>
            <p:nvSpPr>
              <p:cNvPr id="854" name=""/>
              <p:cNvSpPr/>
              <p:nvPr/>
            </p:nvSpPr>
            <p:spPr>
              <a:xfrm>
                <a:off x="3300480" y="2678040"/>
                <a:ext cx="0" cy="4082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04440" y="268920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6" name=""/>
          <p:cNvGrpSpPr/>
          <p:nvPr/>
        </p:nvGrpSpPr>
        <p:grpSpPr>
          <a:xfrm>
            <a:off x="2758680" y="2425680"/>
            <a:ext cx="3653640" cy="496440"/>
            <a:chOff x="2758680" y="2425680"/>
            <a:chExt cx="3653640" cy="496440"/>
          </a:xfrm>
        </p:grpSpPr>
        <p:sp>
          <p:nvSpPr>
            <p:cNvPr id="857" name=""/>
            <p:cNvSpPr/>
            <p:nvPr/>
          </p:nvSpPr>
          <p:spPr>
            <a:xfrm flipV="1">
              <a:off x="6066000" y="251424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135240" y="245268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758680" y="24256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146280" y="24494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6760440" y="538488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P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2" name="accu-electro2-bis" descr=""/>
          <p:cNvPicPr/>
          <p:nvPr/>
        </p:nvPicPr>
        <p:blipFill>
          <a:blip r:embed="rId3"/>
          <a:stretch/>
        </p:blipFill>
        <p:spPr>
          <a:xfrm>
            <a:off x="5756400" y="3554280"/>
            <a:ext cx="582480" cy="1800360"/>
          </a:xfrm>
          <a:prstGeom prst="rect">
            <a:avLst/>
          </a:prstGeom>
          <a:ln w="0">
            <a:noFill/>
          </a:ln>
        </p:spPr>
      </p:pic>
      <p:grpSp>
        <p:nvGrpSpPr>
          <p:cNvPr id="863" name=""/>
          <p:cNvGrpSpPr/>
          <p:nvPr/>
        </p:nvGrpSpPr>
        <p:grpSpPr>
          <a:xfrm>
            <a:off x="4910400" y="3497400"/>
            <a:ext cx="1432080" cy="1710000"/>
            <a:chOff x="4910400" y="3497400"/>
            <a:chExt cx="1432080" cy="1710000"/>
          </a:xfrm>
        </p:grpSpPr>
        <p:sp>
          <p:nvSpPr>
            <p:cNvPr id="864" name=""/>
            <p:cNvSpPr/>
            <p:nvPr/>
          </p:nvSpPr>
          <p:spPr>
            <a:xfrm>
              <a:off x="6060960" y="3497400"/>
              <a:ext cx="0" cy="4078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05000" y="383544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910400" y="4749840"/>
              <a:ext cx="60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843160" y="480852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899320" y="4229280"/>
              <a:ext cx="144360" cy="599760"/>
            </a:xfrm>
            <a:custGeom>
              <a:avLst/>
              <a:gdLst/>
              <a:ahLst/>
              <a:rect l="l" t="t" r="r" b="b"/>
              <a:pathLst>
                <a:path w="91" h="378">
                  <a:moveTo>
                    <a:pt x="91" y="0"/>
                  </a:moveTo>
                  <a:cubicBezTo>
                    <a:pt x="85" y="18"/>
                    <a:pt x="69" y="74"/>
                    <a:pt x="55" y="108"/>
                  </a:cubicBezTo>
                  <a:cubicBezTo>
                    <a:pt x="41" y="142"/>
                    <a:pt x="14" y="171"/>
                    <a:pt x="7" y="204"/>
                  </a:cubicBezTo>
                  <a:cubicBezTo>
                    <a:pt x="0" y="237"/>
                    <a:pt x="8" y="280"/>
                    <a:pt x="13" y="309"/>
                  </a:cubicBezTo>
                  <a:cubicBezTo>
                    <a:pt x="18" y="338"/>
                    <a:pt x="32" y="364"/>
                    <a:pt x="37" y="37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362560" y="4637160"/>
              <a:ext cx="628560" cy="258840"/>
            </a:xfrm>
            <a:custGeom>
              <a:avLst/>
              <a:gdLst/>
              <a:ahLst/>
              <a:rect l="l" t="t" r="r" b="b"/>
              <a:pathLst>
                <a:path w="396" h="163">
                  <a:moveTo>
                    <a:pt x="396" y="163"/>
                  </a:moveTo>
                  <a:cubicBezTo>
                    <a:pt x="385" y="144"/>
                    <a:pt x="358" y="71"/>
                    <a:pt x="327" y="46"/>
                  </a:cubicBezTo>
                  <a:cubicBezTo>
                    <a:pt x="296" y="21"/>
                    <a:pt x="261" y="0"/>
                    <a:pt x="207" y="10"/>
                  </a:cubicBezTo>
                  <a:cubicBezTo>
                    <a:pt x="153" y="20"/>
                    <a:pt x="43" y="86"/>
                    <a:pt x="0" y="106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2324160" y="3289320"/>
            <a:ext cx="4457520" cy="2362320"/>
          </a:xfrm>
          <a:custGeom>
            <a:avLst/>
            <a:gdLst/>
            <a:ahLst/>
            <a:rect l="l" t="t" r="r" b="b"/>
            <a:pathLst>
              <a:path w="2808" h="1848">
                <a:moveTo>
                  <a:pt x="0" y="0"/>
                </a:moveTo>
                <a:lnTo>
                  <a:pt x="2808" y="0"/>
                </a:lnTo>
                <a:lnTo>
                  <a:pt x="2808" y="1848"/>
                </a:lnTo>
                <a:lnTo>
                  <a:pt x="8" y="1848"/>
                </a:lnTo>
                <a:lnTo>
                  <a:pt x="8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1" name="accu-electro1-bis" descr=""/>
          <p:cNvPicPr/>
          <p:nvPr/>
        </p:nvPicPr>
        <p:blipFill>
          <a:blip r:embed="rId2"/>
          <a:stretch/>
        </p:blipFill>
        <p:spPr>
          <a:xfrm>
            <a:off x="2671920" y="3521160"/>
            <a:ext cx="946080" cy="1976400"/>
          </a:xfrm>
          <a:prstGeom prst="rect">
            <a:avLst/>
          </a:prstGeom>
          <a:ln w="0">
            <a:noFill/>
          </a:ln>
        </p:spPr>
      </p:pic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harge de 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3060720" y="3073320"/>
            <a:ext cx="150840" cy="571680"/>
            <a:chOff x="3060720" y="3073320"/>
            <a:chExt cx="150840" cy="571680"/>
          </a:xfrm>
        </p:grpSpPr>
        <p:sp>
          <p:nvSpPr>
            <p:cNvPr id="874" name=""/>
            <p:cNvSpPr/>
            <p:nvPr/>
          </p:nvSpPr>
          <p:spPr>
            <a:xfrm>
              <a:off x="3137040" y="3238560"/>
              <a:ext cx="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6072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5989680" y="3073320"/>
            <a:ext cx="150840" cy="571320"/>
            <a:chOff x="5989680" y="3073320"/>
            <a:chExt cx="150840" cy="571320"/>
          </a:xfrm>
        </p:grpSpPr>
        <p:sp>
          <p:nvSpPr>
            <p:cNvPr id="877" name=""/>
            <p:cNvSpPr/>
            <p:nvPr/>
          </p:nvSpPr>
          <p:spPr>
            <a:xfrm>
              <a:off x="6066000" y="3238560"/>
              <a:ext cx="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98968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3137040" y="2006640"/>
            <a:ext cx="2931840" cy="1066680"/>
            <a:chOff x="3137040" y="2006640"/>
            <a:chExt cx="2931840" cy="1066680"/>
          </a:xfrm>
        </p:grpSpPr>
        <p:sp>
          <p:nvSpPr>
            <p:cNvPr id="880" name=""/>
            <p:cNvSpPr/>
            <p:nvPr/>
          </p:nvSpPr>
          <p:spPr>
            <a:xfrm>
              <a:off x="4259160" y="2228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3137040" y="2305080"/>
              <a:ext cx="0" cy="76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6064200" y="23047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379760" y="2006640"/>
              <a:ext cx="60984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41720" y="2305080"/>
              <a:ext cx="292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564800" y="246384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971960" y="2082960"/>
              <a:ext cx="171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" name=""/>
            <p:cNvGrpSpPr/>
            <p:nvPr/>
          </p:nvGrpSpPr>
          <p:grpSpPr>
            <a:xfrm>
              <a:off x="4203720" y="2041560"/>
              <a:ext cx="171360" cy="177840"/>
              <a:chOff x="4203720" y="2041560"/>
              <a:chExt cx="171360" cy="177840"/>
            </a:xfrm>
          </p:grpSpPr>
          <p:sp>
            <p:nvSpPr>
              <p:cNvPr id="888" name=""/>
              <p:cNvSpPr/>
              <p:nvPr/>
            </p:nvSpPr>
            <p:spPr>
              <a:xfrm>
                <a:off x="4203720" y="21337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288680" y="204156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0" name=""/>
          <p:cNvSpPr/>
          <p:nvPr/>
        </p:nvSpPr>
        <p:spPr>
          <a:xfrm>
            <a:off x="0" y="898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ela forme du plomb solide qui se dépose sur l’électr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3300480" y="2678040"/>
            <a:ext cx="2617920" cy="652320"/>
            <a:chOff x="3300480" y="2678040"/>
            <a:chExt cx="2617920" cy="652320"/>
          </a:xfrm>
        </p:grpSpPr>
        <p:grpSp>
          <p:nvGrpSpPr>
            <p:cNvPr id="892" name=""/>
            <p:cNvGrpSpPr/>
            <p:nvPr/>
          </p:nvGrpSpPr>
          <p:grpSpPr>
            <a:xfrm>
              <a:off x="5533200" y="2809800"/>
              <a:ext cx="385200" cy="520560"/>
              <a:chOff x="5533200" y="2809800"/>
              <a:chExt cx="385200" cy="520560"/>
            </a:xfrm>
          </p:grpSpPr>
          <p:sp>
            <p:nvSpPr>
              <p:cNvPr id="893" name=""/>
              <p:cNvSpPr/>
              <p:nvPr/>
            </p:nvSpPr>
            <p:spPr>
              <a:xfrm flipV="1">
                <a:off x="5886360" y="2841480"/>
                <a:ext cx="0" cy="4082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533200" y="280980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3300480" y="2678040"/>
              <a:ext cx="389160" cy="531720"/>
              <a:chOff x="3300480" y="2678040"/>
              <a:chExt cx="389160" cy="531720"/>
            </a:xfrm>
          </p:grpSpPr>
          <p:sp>
            <p:nvSpPr>
              <p:cNvPr id="896" name=""/>
              <p:cNvSpPr/>
              <p:nvPr/>
            </p:nvSpPr>
            <p:spPr>
              <a:xfrm>
                <a:off x="3300480" y="2678040"/>
                <a:ext cx="0" cy="4082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304440" y="268920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8" name=""/>
          <p:cNvGrpSpPr/>
          <p:nvPr/>
        </p:nvGrpSpPr>
        <p:grpSpPr>
          <a:xfrm>
            <a:off x="2758680" y="2425680"/>
            <a:ext cx="3653640" cy="496440"/>
            <a:chOff x="2758680" y="2425680"/>
            <a:chExt cx="3653640" cy="496440"/>
          </a:xfrm>
        </p:grpSpPr>
        <p:sp>
          <p:nvSpPr>
            <p:cNvPr id="899" name=""/>
            <p:cNvSpPr/>
            <p:nvPr/>
          </p:nvSpPr>
          <p:spPr>
            <a:xfrm flipV="1">
              <a:off x="6066000" y="251424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135240" y="245268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758680" y="24256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146280" y="24494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6760440" y="538488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P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4" name="accu-electro2-bis" descr=""/>
          <p:cNvPicPr/>
          <p:nvPr/>
        </p:nvPicPr>
        <p:blipFill>
          <a:blip r:embed="rId3"/>
          <a:stretch/>
        </p:blipFill>
        <p:spPr>
          <a:xfrm>
            <a:off x="5756400" y="3554280"/>
            <a:ext cx="582480" cy="1800360"/>
          </a:xfrm>
          <a:prstGeom prst="rect">
            <a:avLst/>
          </a:prstGeom>
          <a:ln w="0">
            <a:noFill/>
          </a:ln>
        </p:spPr>
      </p:pic>
      <p:grpSp>
        <p:nvGrpSpPr>
          <p:cNvPr id="905" name=""/>
          <p:cNvGrpSpPr/>
          <p:nvPr/>
        </p:nvGrpSpPr>
        <p:grpSpPr>
          <a:xfrm>
            <a:off x="4910400" y="3497400"/>
            <a:ext cx="1432080" cy="1710000"/>
            <a:chOff x="4910400" y="3497400"/>
            <a:chExt cx="1432080" cy="1710000"/>
          </a:xfrm>
        </p:grpSpPr>
        <p:sp>
          <p:nvSpPr>
            <p:cNvPr id="906" name=""/>
            <p:cNvSpPr/>
            <p:nvPr/>
          </p:nvSpPr>
          <p:spPr>
            <a:xfrm>
              <a:off x="6060960" y="3497400"/>
              <a:ext cx="0" cy="4078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805000" y="383544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910400" y="4749840"/>
              <a:ext cx="60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843160" y="480852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899320" y="4229280"/>
              <a:ext cx="144360" cy="599760"/>
            </a:xfrm>
            <a:custGeom>
              <a:avLst/>
              <a:gdLst/>
              <a:ahLst/>
              <a:rect l="l" t="t" r="r" b="b"/>
              <a:pathLst>
                <a:path w="91" h="378">
                  <a:moveTo>
                    <a:pt x="91" y="0"/>
                  </a:moveTo>
                  <a:cubicBezTo>
                    <a:pt x="85" y="18"/>
                    <a:pt x="69" y="74"/>
                    <a:pt x="55" y="108"/>
                  </a:cubicBezTo>
                  <a:cubicBezTo>
                    <a:pt x="41" y="142"/>
                    <a:pt x="14" y="171"/>
                    <a:pt x="7" y="204"/>
                  </a:cubicBezTo>
                  <a:cubicBezTo>
                    <a:pt x="0" y="237"/>
                    <a:pt x="8" y="280"/>
                    <a:pt x="13" y="309"/>
                  </a:cubicBezTo>
                  <a:cubicBezTo>
                    <a:pt x="18" y="338"/>
                    <a:pt x="32" y="364"/>
                    <a:pt x="37" y="37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362560" y="4637160"/>
              <a:ext cx="628560" cy="258840"/>
            </a:xfrm>
            <a:custGeom>
              <a:avLst/>
              <a:gdLst/>
              <a:ahLst/>
              <a:rect l="l" t="t" r="r" b="b"/>
              <a:pathLst>
                <a:path w="396" h="163">
                  <a:moveTo>
                    <a:pt x="396" y="163"/>
                  </a:moveTo>
                  <a:cubicBezTo>
                    <a:pt x="385" y="144"/>
                    <a:pt x="358" y="71"/>
                    <a:pt x="327" y="46"/>
                  </a:cubicBezTo>
                  <a:cubicBezTo>
                    <a:pt x="296" y="21"/>
                    <a:pt x="261" y="0"/>
                    <a:pt x="207" y="10"/>
                  </a:cubicBezTo>
                  <a:cubicBezTo>
                    <a:pt x="153" y="20"/>
                    <a:pt x="43" y="86"/>
                    <a:pt x="0" y="106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324160" y="3289320"/>
            <a:ext cx="4457520" cy="2362320"/>
          </a:xfrm>
          <a:custGeom>
            <a:avLst/>
            <a:gdLst/>
            <a:ahLst/>
            <a:rect l="l" t="t" r="r" b="b"/>
            <a:pathLst>
              <a:path w="2808" h="1848">
                <a:moveTo>
                  <a:pt x="0" y="0"/>
                </a:moveTo>
                <a:lnTo>
                  <a:pt x="2808" y="0"/>
                </a:lnTo>
                <a:lnTo>
                  <a:pt x="2808" y="1848"/>
                </a:lnTo>
                <a:lnTo>
                  <a:pt x="8" y="1848"/>
                </a:lnTo>
                <a:lnTo>
                  <a:pt x="8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9800" y="337824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5797440"/>
            <a:ext cx="372456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concentrée d’aci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lfurique  : 2 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S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67240" y="5378040"/>
            <a:ext cx="79992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3680" y="898560"/>
            <a:ext cx="873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L’une des électrodes est recouverte d’oxyde de plomb PbO</a:t>
            </a:r>
            <a:r>
              <a:rPr b="0" lang="fr-FR" sz="24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51120" y="353052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4600" y="4127400"/>
            <a:ext cx="146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couverte d’oxyde de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ccu-electro1" descr=""/>
          <p:cNvPicPr/>
          <p:nvPr/>
        </p:nvPicPr>
        <p:blipFill>
          <a:blip r:embed="rId2"/>
          <a:stretch/>
        </p:blipFill>
        <p:spPr>
          <a:xfrm>
            <a:off x="2530440" y="3476520"/>
            <a:ext cx="1230480" cy="2082960"/>
          </a:xfrm>
          <a:prstGeom prst="rect">
            <a:avLst/>
          </a:prstGeom>
          <a:ln w="0">
            <a:noFill/>
          </a:ln>
        </p:spPr>
      </p:pic>
      <p:pic>
        <p:nvPicPr>
          <p:cNvPr id="64" name="accu-electro2" descr=""/>
          <p:cNvPicPr/>
          <p:nvPr/>
        </p:nvPicPr>
        <p:blipFill>
          <a:blip r:embed="rId3"/>
          <a:stretch/>
        </p:blipFill>
        <p:spPr>
          <a:xfrm>
            <a:off x="5694480" y="3540240"/>
            <a:ext cx="803160" cy="1832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39880" y="4051440"/>
            <a:ext cx="1373040" cy="69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4762440"/>
            <a:ext cx="1200240" cy="1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053040" y="4292640"/>
            <a:ext cx="15796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2324160" y="3289320"/>
            <a:ext cx="4457520" cy="2362320"/>
          </a:xfrm>
          <a:custGeom>
            <a:avLst/>
            <a:gdLst/>
            <a:ahLst/>
            <a:rect l="l" t="t" r="r" b="b"/>
            <a:pathLst>
              <a:path w="2808" h="1848">
                <a:moveTo>
                  <a:pt x="0" y="0"/>
                </a:moveTo>
                <a:lnTo>
                  <a:pt x="2808" y="0"/>
                </a:lnTo>
                <a:lnTo>
                  <a:pt x="2808" y="1848"/>
                </a:lnTo>
                <a:lnTo>
                  <a:pt x="8" y="1848"/>
                </a:lnTo>
                <a:lnTo>
                  <a:pt x="8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3" name="accu-electro2" descr=""/>
          <p:cNvPicPr/>
          <p:nvPr/>
        </p:nvPicPr>
        <p:blipFill>
          <a:blip r:embed="rId2"/>
          <a:stretch/>
        </p:blipFill>
        <p:spPr>
          <a:xfrm>
            <a:off x="5694480" y="3540240"/>
            <a:ext cx="803160" cy="1832040"/>
          </a:xfrm>
          <a:prstGeom prst="rect">
            <a:avLst/>
          </a:prstGeom>
          <a:ln w="0">
            <a:noFill/>
          </a:ln>
        </p:spPr>
      </p:pic>
      <p:pic>
        <p:nvPicPr>
          <p:cNvPr id="914" name="accu-electro1-bis" descr=""/>
          <p:cNvPicPr/>
          <p:nvPr/>
        </p:nvPicPr>
        <p:blipFill>
          <a:blip r:embed="rId3"/>
          <a:stretch/>
        </p:blipFill>
        <p:spPr>
          <a:xfrm>
            <a:off x="2671920" y="3521160"/>
            <a:ext cx="946080" cy="197640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harge de 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3060720" y="3073320"/>
            <a:ext cx="150840" cy="571680"/>
            <a:chOff x="3060720" y="3073320"/>
            <a:chExt cx="150840" cy="571680"/>
          </a:xfrm>
        </p:grpSpPr>
        <p:sp>
          <p:nvSpPr>
            <p:cNvPr id="917" name=""/>
            <p:cNvSpPr/>
            <p:nvPr/>
          </p:nvSpPr>
          <p:spPr>
            <a:xfrm>
              <a:off x="3137040" y="3238560"/>
              <a:ext cx="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06072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5989680" y="3073320"/>
            <a:ext cx="150840" cy="571320"/>
            <a:chOff x="5989680" y="3073320"/>
            <a:chExt cx="150840" cy="571320"/>
          </a:xfrm>
        </p:grpSpPr>
        <p:sp>
          <p:nvSpPr>
            <p:cNvPr id="920" name=""/>
            <p:cNvSpPr/>
            <p:nvPr/>
          </p:nvSpPr>
          <p:spPr>
            <a:xfrm>
              <a:off x="6066000" y="3238560"/>
              <a:ext cx="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98968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3137040" y="2006640"/>
            <a:ext cx="2931840" cy="1066680"/>
            <a:chOff x="3137040" y="2006640"/>
            <a:chExt cx="2931840" cy="1066680"/>
          </a:xfrm>
        </p:grpSpPr>
        <p:sp>
          <p:nvSpPr>
            <p:cNvPr id="923" name=""/>
            <p:cNvSpPr/>
            <p:nvPr/>
          </p:nvSpPr>
          <p:spPr>
            <a:xfrm>
              <a:off x="4259160" y="2228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3137040" y="2305080"/>
              <a:ext cx="0" cy="76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6064200" y="23047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379760" y="2006640"/>
              <a:ext cx="60984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141720" y="2305080"/>
              <a:ext cx="292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564800" y="246384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971960" y="2082960"/>
              <a:ext cx="171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0" name=""/>
            <p:cNvGrpSpPr/>
            <p:nvPr/>
          </p:nvGrpSpPr>
          <p:grpSpPr>
            <a:xfrm>
              <a:off x="4203720" y="2041560"/>
              <a:ext cx="171360" cy="177840"/>
              <a:chOff x="4203720" y="2041560"/>
              <a:chExt cx="171360" cy="177840"/>
            </a:xfrm>
          </p:grpSpPr>
          <p:sp>
            <p:nvSpPr>
              <p:cNvPr id="931" name=""/>
              <p:cNvSpPr/>
              <p:nvPr/>
            </p:nvSpPr>
            <p:spPr>
              <a:xfrm>
                <a:off x="4203720" y="21337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288680" y="204156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3" name=""/>
          <p:cNvSpPr/>
          <p:nvPr/>
        </p:nvSpPr>
        <p:spPr>
          <a:xfrm>
            <a:off x="0" y="898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ela forme du plomb solide qui se dépose sur l’électr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3300480" y="2678040"/>
            <a:ext cx="2617920" cy="652320"/>
            <a:chOff x="3300480" y="2678040"/>
            <a:chExt cx="2617920" cy="652320"/>
          </a:xfrm>
        </p:grpSpPr>
        <p:grpSp>
          <p:nvGrpSpPr>
            <p:cNvPr id="935" name=""/>
            <p:cNvGrpSpPr/>
            <p:nvPr/>
          </p:nvGrpSpPr>
          <p:grpSpPr>
            <a:xfrm>
              <a:off x="5533200" y="2809800"/>
              <a:ext cx="385200" cy="520560"/>
              <a:chOff x="5533200" y="2809800"/>
              <a:chExt cx="385200" cy="520560"/>
            </a:xfrm>
          </p:grpSpPr>
          <p:sp>
            <p:nvSpPr>
              <p:cNvPr id="936" name=""/>
              <p:cNvSpPr/>
              <p:nvPr/>
            </p:nvSpPr>
            <p:spPr>
              <a:xfrm flipV="1">
                <a:off x="5886360" y="2841480"/>
                <a:ext cx="0" cy="4082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533200" y="280980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3300480" y="2678040"/>
              <a:ext cx="389160" cy="531720"/>
              <a:chOff x="3300480" y="2678040"/>
              <a:chExt cx="389160" cy="531720"/>
            </a:xfrm>
          </p:grpSpPr>
          <p:sp>
            <p:nvSpPr>
              <p:cNvPr id="939" name=""/>
              <p:cNvSpPr/>
              <p:nvPr/>
            </p:nvSpPr>
            <p:spPr>
              <a:xfrm>
                <a:off x="3300480" y="2678040"/>
                <a:ext cx="0" cy="4082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304440" y="268920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1" name=""/>
          <p:cNvGrpSpPr/>
          <p:nvPr/>
        </p:nvGrpSpPr>
        <p:grpSpPr>
          <a:xfrm>
            <a:off x="2758680" y="2425680"/>
            <a:ext cx="3653640" cy="496440"/>
            <a:chOff x="2758680" y="2425680"/>
            <a:chExt cx="3653640" cy="496440"/>
          </a:xfrm>
        </p:grpSpPr>
        <p:sp>
          <p:nvSpPr>
            <p:cNvPr id="942" name=""/>
            <p:cNvSpPr/>
            <p:nvPr/>
          </p:nvSpPr>
          <p:spPr>
            <a:xfrm flipV="1">
              <a:off x="6066000" y="251424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135240" y="245268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758680" y="24256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146280" y="24494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6760440" y="538488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P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4910400" y="3497400"/>
            <a:ext cx="1432080" cy="1710000"/>
            <a:chOff x="4910400" y="3497400"/>
            <a:chExt cx="1432080" cy="1710000"/>
          </a:xfrm>
        </p:grpSpPr>
        <p:sp>
          <p:nvSpPr>
            <p:cNvPr id="948" name=""/>
            <p:cNvSpPr/>
            <p:nvPr/>
          </p:nvSpPr>
          <p:spPr>
            <a:xfrm>
              <a:off x="6060960" y="3497400"/>
              <a:ext cx="0" cy="4078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805000" y="383544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910400" y="4749840"/>
              <a:ext cx="60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843160" y="480852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899320" y="4229280"/>
              <a:ext cx="144360" cy="599760"/>
            </a:xfrm>
            <a:custGeom>
              <a:avLst/>
              <a:gdLst/>
              <a:ahLst/>
              <a:rect l="l" t="t" r="r" b="b"/>
              <a:pathLst>
                <a:path w="91" h="378">
                  <a:moveTo>
                    <a:pt x="91" y="0"/>
                  </a:moveTo>
                  <a:cubicBezTo>
                    <a:pt x="85" y="18"/>
                    <a:pt x="69" y="74"/>
                    <a:pt x="55" y="108"/>
                  </a:cubicBezTo>
                  <a:cubicBezTo>
                    <a:pt x="41" y="142"/>
                    <a:pt x="14" y="171"/>
                    <a:pt x="7" y="204"/>
                  </a:cubicBezTo>
                  <a:cubicBezTo>
                    <a:pt x="0" y="237"/>
                    <a:pt x="8" y="280"/>
                    <a:pt x="13" y="309"/>
                  </a:cubicBezTo>
                  <a:cubicBezTo>
                    <a:pt x="18" y="338"/>
                    <a:pt x="32" y="364"/>
                    <a:pt x="37" y="37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362560" y="4637160"/>
              <a:ext cx="628560" cy="258840"/>
            </a:xfrm>
            <a:custGeom>
              <a:avLst/>
              <a:gdLst/>
              <a:ahLst/>
              <a:rect l="l" t="t" r="r" b="b"/>
              <a:pathLst>
                <a:path w="396" h="163">
                  <a:moveTo>
                    <a:pt x="396" y="163"/>
                  </a:moveTo>
                  <a:cubicBezTo>
                    <a:pt x="385" y="144"/>
                    <a:pt x="358" y="71"/>
                    <a:pt x="327" y="46"/>
                  </a:cubicBezTo>
                  <a:cubicBezTo>
                    <a:pt x="296" y="21"/>
                    <a:pt x="261" y="0"/>
                    <a:pt x="207" y="10"/>
                  </a:cubicBezTo>
                  <a:cubicBezTo>
                    <a:pt x="153" y="20"/>
                    <a:pt x="43" y="86"/>
                    <a:pt x="0" y="106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2324160" y="3289320"/>
            <a:ext cx="4457520" cy="2362320"/>
          </a:xfrm>
          <a:custGeom>
            <a:avLst/>
            <a:gdLst/>
            <a:ahLst/>
            <a:rect l="l" t="t" r="r" b="b"/>
            <a:pathLst>
              <a:path w="2808" h="1848">
                <a:moveTo>
                  <a:pt x="0" y="0"/>
                </a:moveTo>
                <a:lnTo>
                  <a:pt x="2808" y="0"/>
                </a:lnTo>
                <a:lnTo>
                  <a:pt x="2808" y="1848"/>
                </a:lnTo>
                <a:lnTo>
                  <a:pt x="8" y="1848"/>
                </a:lnTo>
                <a:lnTo>
                  <a:pt x="8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5" name="accu-electro2" descr=""/>
          <p:cNvPicPr/>
          <p:nvPr/>
        </p:nvPicPr>
        <p:blipFill>
          <a:blip r:embed="rId2"/>
          <a:stretch/>
        </p:blipFill>
        <p:spPr>
          <a:xfrm>
            <a:off x="5694480" y="3540240"/>
            <a:ext cx="803160" cy="1832040"/>
          </a:xfrm>
          <a:prstGeom prst="rect">
            <a:avLst/>
          </a:prstGeom>
          <a:ln w="0">
            <a:noFill/>
          </a:ln>
        </p:spPr>
      </p:pic>
      <p:pic>
        <p:nvPicPr>
          <p:cNvPr id="956" name="accu-electro1-bis" descr=""/>
          <p:cNvPicPr/>
          <p:nvPr/>
        </p:nvPicPr>
        <p:blipFill>
          <a:blip r:embed="rId3"/>
          <a:stretch/>
        </p:blipFill>
        <p:spPr>
          <a:xfrm>
            <a:off x="2671920" y="3521160"/>
            <a:ext cx="946080" cy="19764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harge de 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3060720" y="3073320"/>
            <a:ext cx="150840" cy="571680"/>
            <a:chOff x="3060720" y="3073320"/>
            <a:chExt cx="150840" cy="571680"/>
          </a:xfrm>
        </p:grpSpPr>
        <p:sp>
          <p:nvSpPr>
            <p:cNvPr id="959" name=""/>
            <p:cNvSpPr/>
            <p:nvPr/>
          </p:nvSpPr>
          <p:spPr>
            <a:xfrm>
              <a:off x="3137040" y="3238560"/>
              <a:ext cx="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06072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5989680" y="3073320"/>
            <a:ext cx="150840" cy="571320"/>
            <a:chOff x="5989680" y="3073320"/>
            <a:chExt cx="150840" cy="571320"/>
          </a:xfrm>
        </p:grpSpPr>
        <p:sp>
          <p:nvSpPr>
            <p:cNvPr id="962" name=""/>
            <p:cNvSpPr/>
            <p:nvPr/>
          </p:nvSpPr>
          <p:spPr>
            <a:xfrm>
              <a:off x="6066000" y="3238560"/>
              <a:ext cx="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98968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3137040" y="2006640"/>
            <a:ext cx="2931840" cy="1066680"/>
            <a:chOff x="3137040" y="2006640"/>
            <a:chExt cx="2931840" cy="1066680"/>
          </a:xfrm>
        </p:grpSpPr>
        <p:sp>
          <p:nvSpPr>
            <p:cNvPr id="965" name=""/>
            <p:cNvSpPr/>
            <p:nvPr/>
          </p:nvSpPr>
          <p:spPr>
            <a:xfrm>
              <a:off x="4259160" y="2228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3137040" y="2305080"/>
              <a:ext cx="0" cy="76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6064200" y="23047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379760" y="2006640"/>
              <a:ext cx="60984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141720" y="2305080"/>
              <a:ext cx="292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564800" y="246384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971960" y="2082960"/>
              <a:ext cx="171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4203720" y="2041560"/>
              <a:ext cx="171360" cy="177840"/>
              <a:chOff x="4203720" y="2041560"/>
              <a:chExt cx="171360" cy="177840"/>
            </a:xfrm>
          </p:grpSpPr>
          <p:sp>
            <p:nvSpPr>
              <p:cNvPr id="973" name=""/>
              <p:cNvSpPr/>
              <p:nvPr/>
            </p:nvSpPr>
            <p:spPr>
              <a:xfrm>
                <a:off x="4203720" y="21337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288680" y="204156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5" name=""/>
          <p:cNvGrpSpPr/>
          <p:nvPr/>
        </p:nvGrpSpPr>
        <p:grpSpPr>
          <a:xfrm>
            <a:off x="3300480" y="2678040"/>
            <a:ext cx="2617920" cy="652320"/>
            <a:chOff x="3300480" y="2678040"/>
            <a:chExt cx="2617920" cy="652320"/>
          </a:xfrm>
        </p:grpSpPr>
        <p:grpSp>
          <p:nvGrpSpPr>
            <p:cNvPr id="976" name=""/>
            <p:cNvGrpSpPr/>
            <p:nvPr/>
          </p:nvGrpSpPr>
          <p:grpSpPr>
            <a:xfrm>
              <a:off x="5533200" y="2809800"/>
              <a:ext cx="385200" cy="520560"/>
              <a:chOff x="5533200" y="2809800"/>
              <a:chExt cx="385200" cy="520560"/>
            </a:xfrm>
          </p:grpSpPr>
          <p:sp>
            <p:nvSpPr>
              <p:cNvPr id="977" name=""/>
              <p:cNvSpPr/>
              <p:nvPr/>
            </p:nvSpPr>
            <p:spPr>
              <a:xfrm flipV="1">
                <a:off x="5886360" y="2841480"/>
                <a:ext cx="0" cy="4082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533200" y="280980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3300480" y="2678040"/>
              <a:ext cx="389160" cy="531720"/>
              <a:chOff x="3300480" y="2678040"/>
              <a:chExt cx="389160" cy="531720"/>
            </a:xfrm>
          </p:grpSpPr>
          <p:sp>
            <p:nvSpPr>
              <p:cNvPr id="980" name=""/>
              <p:cNvSpPr/>
              <p:nvPr/>
            </p:nvSpPr>
            <p:spPr>
              <a:xfrm>
                <a:off x="3300480" y="2678040"/>
                <a:ext cx="0" cy="4082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304440" y="268920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2" name=""/>
          <p:cNvGrpSpPr/>
          <p:nvPr/>
        </p:nvGrpSpPr>
        <p:grpSpPr>
          <a:xfrm>
            <a:off x="2758680" y="2425680"/>
            <a:ext cx="3653640" cy="496440"/>
            <a:chOff x="2758680" y="2425680"/>
            <a:chExt cx="3653640" cy="496440"/>
          </a:xfrm>
        </p:grpSpPr>
        <p:sp>
          <p:nvSpPr>
            <p:cNvPr id="983" name=""/>
            <p:cNvSpPr/>
            <p:nvPr/>
          </p:nvSpPr>
          <p:spPr>
            <a:xfrm flipV="1">
              <a:off x="6066000" y="251424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135240" y="245268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758680" y="24256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46280" y="24494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6760440" y="538488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P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36160" y="5384880"/>
            <a:ext cx="4420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xy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 = Pb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4 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883960" y="3486240"/>
            <a:ext cx="1762200" cy="1648800"/>
            <a:chOff x="2883960" y="3486240"/>
            <a:chExt cx="1762200" cy="1648800"/>
          </a:xfrm>
        </p:grpSpPr>
        <p:sp>
          <p:nvSpPr>
            <p:cNvPr id="990" name=""/>
            <p:cNvSpPr/>
            <p:nvPr/>
          </p:nvSpPr>
          <p:spPr>
            <a:xfrm>
              <a:off x="3135240" y="3486240"/>
              <a:ext cx="0" cy="4078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83960" y="38098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037400" y="4519440"/>
              <a:ext cx="60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373200" y="4694400"/>
              <a:ext cx="70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O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143160" y="4181400"/>
              <a:ext cx="706680" cy="457200"/>
            </a:xfrm>
            <a:custGeom>
              <a:avLst/>
              <a:gdLst/>
              <a:ahLst/>
              <a:rect l="l" t="t" r="r" b="b"/>
              <a:pathLst>
                <a:path w="405" h="288">
                  <a:moveTo>
                    <a:pt x="0" y="0"/>
                  </a:moveTo>
                  <a:cubicBezTo>
                    <a:pt x="17" y="28"/>
                    <a:pt x="37" y="120"/>
                    <a:pt x="105" y="168"/>
                  </a:cubicBezTo>
                  <a:cubicBezTo>
                    <a:pt x="173" y="216"/>
                    <a:pt x="342" y="263"/>
                    <a:pt x="405" y="28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483000" y="4618080"/>
              <a:ext cx="569880" cy="191880"/>
            </a:xfrm>
            <a:custGeom>
              <a:avLst/>
              <a:gdLst/>
              <a:ahLst/>
              <a:rect l="l" t="t" r="r" b="b"/>
              <a:pathLst>
                <a:path w="399" h="142">
                  <a:moveTo>
                    <a:pt x="0" y="142"/>
                  </a:moveTo>
                  <a:cubicBezTo>
                    <a:pt x="39" y="95"/>
                    <a:pt x="79" y="47"/>
                    <a:pt x="117" y="25"/>
                  </a:cubicBezTo>
                  <a:cubicBezTo>
                    <a:pt x="155" y="3"/>
                    <a:pt x="180" y="0"/>
                    <a:pt x="227" y="9"/>
                  </a:cubicBezTo>
                  <a:cubicBezTo>
                    <a:pt x="274" y="18"/>
                    <a:pt x="363" y="65"/>
                    <a:pt x="399" y="79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0" y="898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Les électrons sont libérés par l’oxydation des ions plomb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4910400" y="3497400"/>
            <a:ext cx="1432080" cy="1710000"/>
            <a:chOff x="4910400" y="3497400"/>
            <a:chExt cx="1432080" cy="1710000"/>
          </a:xfrm>
        </p:grpSpPr>
        <p:sp>
          <p:nvSpPr>
            <p:cNvPr id="998" name=""/>
            <p:cNvSpPr/>
            <p:nvPr/>
          </p:nvSpPr>
          <p:spPr>
            <a:xfrm>
              <a:off x="6060960" y="3497400"/>
              <a:ext cx="0" cy="4078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805000" y="383544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910400" y="4749840"/>
              <a:ext cx="60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843160" y="480852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899320" y="4229280"/>
              <a:ext cx="144360" cy="599760"/>
            </a:xfrm>
            <a:custGeom>
              <a:avLst/>
              <a:gdLst/>
              <a:ahLst/>
              <a:rect l="l" t="t" r="r" b="b"/>
              <a:pathLst>
                <a:path w="91" h="378">
                  <a:moveTo>
                    <a:pt x="91" y="0"/>
                  </a:moveTo>
                  <a:cubicBezTo>
                    <a:pt x="85" y="18"/>
                    <a:pt x="69" y="74"/>
                    <a:pt x="55" y="108"/>
                  </a:cubicBezTo>
                  <a:cubicBezTo>
                    <a:pt x="41" y="142"/>
                    <a:pt x="14" y="171"/>
                    <a:pt x="7" y="204"/>
                  </a:cubicBezTo>
                  <a:cubicBezTo>
                    <a:pt x="0" y="237"/>
                    <a:pt x="8" y="280"/>
                    <a:pt x="13" y="309"/>
                  </a:cubicBezTo>
                  <a:cubicBezTo>
                    <a:pt x="18" y="338"/>
                    <a:pt x="32" y="364"/>
                    <a:pt x="37" y="37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362560" y="4637160"/>
              <a:ext cx="628560" cy="258840"/>
            </a:xfrm>
            <a:custGeom>
              <a:avLst/>
              <a:gdLst/>
              <a:ahLst/>
              <a:rect l="l" t="t" r="r" b="b"/>
              <a:pathLst>
                <a:path w="396" h="163">
                  <a:moveTo>
                    <a:pt x="396" y="163"/>
                  </a:moveTo>
                  <a:cubicBezTo>
                    <a:pt x="385" y="144"/>
                    <a:pt x="358" y="71"/>
                    <a:pt x="327" y="46"/>
                  </a:cubicBezTo>
                  <a:cubicBezTo>
                    <a:pt x="296" y="21"/>
                    <a:pt x="261" y="0"/>
                    <a:pt x="207" y="10"/>
                  </a:cubicBezTo>
                  <a:cubicBezTo>
                    <a:pt x="153" y="20"/>
                    <a:pt x="43" y="86"/>
                    <a:pt x="0" y="106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2324160" y="3289320"/>
            <a:ext cx="4457520" cy="2362320"/>
          </a:xfrm>
          <a:custGeom>
            <a:avLst/>
            <a:gdLst/>
            <a:ahLst/>
            <a:rect l="l" t="t" r="r" b="b"/>
            <a:pathLst>
              <a:path w="2808" h="1848">
                <a:moveTo>
                  <a:pt x="0" y="0"/>
                </a:moveTo>
                <a:lnTo>
                  <a:pt x="2808" y="0"/>
                </a:lnTo>
                <a:lnTo>
                  <a:pt x="2808" y="1848"/>
                </a:lnTo>
                <a:lnTo>
                  <a:pt x="8" y="1848"/>
                </a:lnTo>
                <a:lnTo>
                  <a:pt x="8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5" name="accu-electro2" descr=""/>
          <p:cNvPicPr/>
          <p:nvPr/>
        </p:nvPicPr>
        <p:blipFill>
          <a:blip r:embed="rId2"/>
          <a:stretch/>
        </p:blipFill>
        <p:spPr>
          <a:xfrm>
            <a:off x="5694480" y="3540240"/>
            <a:ext cx="803160" cy="1832040"/>
          </a:xfrm>
          <a:prstGeom prst="rect">
            <a:avLst/>
          </a:prstGeom>
          <a:ln w="0">
            <a:noFill/>
          </a:ln>
        </p:spPr>
      </p:pic>
      <p:pic>
        <p:nvPicPr>
          <p:cNvPr id="1006" name="accu-electro1-bis" descr=""/>
          <p:cNvPicPr/>
          <p:nvPr/>
        </p:nvPicPr>
        <p:blipFill>
          <a:blip r:embed="rId3"/>
          <a:stretch/>
        </p:blipFill>
        <p:spPr>
          <a:xfrm>
            <a:off x="2671920" y="3521160"/>
            <a:ext cx="946080" cy="1976400"/>
          </a:xfrm>
          <a:prstGeom prst="rect">
            <a:avLst/>
          </a:prstGeom>
          <a:ln w="0">
            <a:noFill/>
          </a:ln>
        </p:spPr>
      </p:pic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harge de 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3060720" y="3073320"/>
            <a:ext cx="150840" cy="571680"/>
            <a:chOff x="3060720" y="3073320"/>
            <a:chExt cx="150840" cy="571680"/>
          </a:xfrm>
        </p:grpSpPr>
        <p:sp>
          <p:nvSpPr>
            <p:cNvPr id="1009" name=""/>
            <p:cNvSpPr/>
            <p:nvPr/>
          </p:nvSpPr>
          <p:spPr>
            <a:xfrm>
              <a:off x="3137040" y="3238560"/>
              <a:ext cx="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06072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5989680" y="3073320"/>
            <a:ext cx="150840" cy="571320"/>
            <a:chOff x="5989680" y="3073320"/>
            <a:chExt cx="150840" cy="571320"/>
          </a:xfrm>
        </p:grpSpPr>
        <p:sp>
          <p:nvSpPr>
            <p:cNvPr id="1012" name=""/>
            <p:cNvSpPr/>
            <p:nvPr/>
          </p:nvSpPr>
          <p:spPr>
            <a:xfrm>
              <a:off x="6066000" y="3238560"/>
              <a:ext cx="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98968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3137040" y="2006640"/>
            <a:ext cx="2931840" cy="1066680"/>
            <a:chOff x="3137040" y="2006640"/>
            <a:chExt cx="2931840" cy="1066680"/>
          </a:xfrm>
        </p:grpSpPr>
        <p:sp>
          <p:nvSpPr>
            <p:cNvPr id="1015" name=""/>
            <p:cNvSpPr/>
            <p:nvPr/>
          </p:nvSpPr>
          <p:spPr>
            <a:xfrm>
              <a:off x="4259160" y="2228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3137040" y="2305080"/>
              <a:ext cx="0" cy="76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6064200" y="23047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379760" y="2006640"/>
              <a:ext cx="60984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141720" y="2305080"/>
              <a:ext cx="292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564800" y="246384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971960" y="2082960"/>
              <a:ext cx="171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2" name=""/>
            <p:cNvGrpSpPr/>
            <p:nvPr/>
          </p:nvGrpSpPr>
          <p:grpSpPr>
            <a:xfrm>
              <a:off x="4203720" y="2041560"/>
              <a:ext cx="171360" cy="177840"/>
              <a:chOff x="4203720" y="2041560"/>
              <a:chExt cx="171360" cy="177840"/>
            </a:xfrm>
          </p:grpSpPr>
          <p:sp>
            <p:nvSpPr>
              <p:cNvPr id="1023" name=""/>
              <p:cNvSpPr/>
              <p:nvPr/>
            </p:nvSpPr>
            <p:spPr>
              <a:xfrm>
                <a:off x="4203720" y="21337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288680" y="204156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5" name=""/>
          <p:cNvGrpSpPr/>
          <p:nvPr/>
        </p:nvGrpSpPr>
        <p:grpSpPr>
          <a:xfrm>
            <a:off x="3300480" y="2678040"/>
            <a:ext cx="2617920" cy="652320"/>
            <a:chOff x="3300480" y="2678040"/>
            <a:chExt cx="2617920" cy="652320"/>
          </a:xfrm>
        </p:grpSpPr>
        <p:grpSp>
          <p:nvGrpSpPr>
            <p:cNvPr id="1026" name=""/>
            <p:cNvGrpSpPr/>
            <p:nvPr/>
          </p:nvGrpSpPr>
          <p:grpSpPr>
            <a:xfrm>
              <a:off x="5533200" y="2809800"/>
              <a:ext cx="385200" cy="520560"/>
              <a:chOff x="5533200" y="2809800"/>
              <a:chExt cx="385200" cy="520560"/>
            </a:xfrm>
          </p:grpSpPr>
          <p:sp>
            <p:nvSpPr>
              <p:cNvPr id="1027" name=""/>
              <p:cNvSpPr/>
              <p:nvPr/>
            </p:nvSpPr>
            <p:spPr>
              <a:xfrm flipV="1">
                <a:off x="5886360" y="2841480"/>
                <a:ext cx="0" cy="4082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533200" y="280980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3300480" y="2678040"/>
              <a:ext cx="389160" cy="531720"/>
              <a:chOff x="3300480" y="2678040"/>
              <a:chExt cx="389160" cy="531720"/>
            </a:xfrm>
          </p:grpSpPr>
          <p:sp>
            <p:nvSpPr>
              <p:cNvPr id="1030" name=""/>
              <p:cNvSpPr/>
              <p:nvPr/>
            </p:nvSpPr>
            <p:spPr>
              <a:xfrm>
                <a:off x="3300480" y="2678040"/>
                <a:ext cx="0" cy="4082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304440" y="268920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2" name=""/>
          <p:cNvGrpSpPr/>
          <p:nvPr/>
        </p:nvGrpSpPr>
        <p:grpSpPr>
          <a:xfrm>
            <a:off x="2758680" y="2425680"/>
            <a:ext cx="3653640" cy="496440"/>
            <a:chOff x="2758680" y="2425680"/>
            <a:chExt cx="3653640" cy="496440"/>
          </a:xfrm>
        </p:grpSpPr>
        <p:sp>
          <p:nvSpPr>
            <p:cNvPr id="1033" name=""/>
            <p:cNvSpPr/>
            <p:nvPr/>
          </p:nvSpPr>
          <p:spPr>
            <a:xfrm flipV="1">
              <a:off x="6066000" y="251424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135240" y="245268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58680" y="24256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146280" y="24494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6760440" y="538488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P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36160" y="5384880"/>
            <a:ext cx="4420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xy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 = Pb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4 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898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ela forme de l’oxyde de plomb qui se dépose sur l’électr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2883960" y="3486240"/>
            <a:ext cx="1762200" cy="1648800"/>
            <a:chOff x="2883960" y="3486240"/>
            <a:chExt cx="1762200" cy="1648800"/>
          </a:xfrm>
        </p:grpSpPr>
        <p:sp>
          <p:nvSpPr>
            <p:cNvPr id="1041" name=""/>
            <p:cNvSpPr/>
            <p:nvPr/>
          </p:nvSpPr>
          <p:spPr>
            <a:xfrm>
              <a:off x="3135240" y="3486240"/>
              <a:ext cx="0" cy="4078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883960" y="38098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037400" y="4519440"/>
              <a:ext cx="60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373200" y="4694400"/>
              <a:ext cx="70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O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143160" y="4181400"/>
              <a:ext cx="706680" cy="457200"/>
            </a:xfrm>
            <a:custGeom>
              <a:avLst/>
              <a:gdLst/>
              <a:ahLst/>
              <a:rect l="l" t="t" r="r" b="b"/>
              <a:pathLst>
                <a:path w="405" h="288">
                  <a:moveTo>
                    <a:pt x="0" y="0"/>
                  </a:moveTo>
                  <a:cubicBezTo>
                    <a:pt x="17" y="28"/>
                    <a:pt x="37" y="120"/>
                    <a:pt x="105" y="168"/>
                  </a:cubicBezTo>
                  <a:cubicBezTo>
                    <a:pt x="173" y="216"/>
                    <a:pt x="342" y="263"/>
                    <a:pt x="405" y="28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483000" y="4618080"/>
              <a:ext cx="569880" cy="191880"/>
            </a:xfrm>
            <a:custGeom>
              <a:avLst/>
              <a:gdLst/>
              <a:ahLst/>
              <a:rect l="l" t="t" r="r" b="b"/>
              <a:pathLst>
                <a:path w="399" h="142">
                  <a:moveTo>
                    <a:pt x="0" y="142"/>
                  </a:moveTo>
                  <a:cubicBezTo>
                    <a:pt x="39" y="95"/>
                    <a:pt x="79" y="47"/>
                    <a:pt x="117" y="25"/>
                  </a:cubicBezTo>
                  <a:cubicBezTo>
                    <a:pt x="155" y="3"/>
                    <a:pt x="180" y="0"/>
                    <a:pt x="227" y="9"/>
                  </a:cubicBezTo>
                  <a:cubicBezTo>
                    <a:pt x="274" y="18"/>
                    <a:pt x="363" y="65"/>
                    <a:pt x="399" y="79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4910400" y="3497400"/>
            <a:ext cx="1432080" cy="1710000"/>
            <a:chOff x="4910400" y="3497400"/>
            <a:chExt cx="1432080" cy="1710000"/>
          </a:xfrm>
        </p:grpSpPr>
        <p:sp>
          <p:nvSpPr>
            <p:cNvPr id="1048" name=""/>
            <p:cNvSpPr/>
            <p:nvPr/>
          </p:nvSpPr>
          <p:spPr>
            <a:xfrm>
              <a:off x="6060960" y="3497400"/>
              <a:ext cx="0" cy="4078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805000" y="383544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910400" y="4749840"/>
              <a:ext cx="60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843160" y="480852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899320" y="4229280"/>
              <a:ext cx="144360" cy="599760"/>
            </a:xfrm>
            <a:custGeom>
              <a:avLst/>
              <a:gdLst/>
              <a:ahLst/>
              <a:rect l="l" t="t" r="r" b="b"/>
              <a:pathLst>
                <a:path w="91" h="378">
                  <a:moveTo>
                    <a:pt x="91" y="0"/>
                  </a:moveTo>
                  <a:cubicBezTo>
                    <a:pt x="85" y="18"/>
                    <a:pt x="69" y="74"/>
                    <a:pt x="55" y="108"/>
                  </a:cubicBezTo>
                  <a:cubicBezTo>
                    <a:pt x="41" y="142"/>
                    <a:pt x="14" y="171"/>
                    <a:pt x="7" y="204"/>
                  </a:cubicBezTo>
                  <a:cubicBezTo>
                    <a:pt x="0" y="237"/>
                    <a:pt x="8" y="280"/>
                    <a:pt x="13" y="309"/>
                  </a:cubicBezTo>
                  <a:cubicBezTo>
                    <a:pt x="18" y="338"/>
                    <a:pt x="32" y="364"/>
                    <a:pt x="37" y="37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62560" y="4637160"/>
              <a:ext cx="628560" cy="258840"/>
            </a:xfrm>
            <a:custGeom>
              <a:avLst/>
              <a:gdLst/>
              <a:ahLst/>
              <a:rect l="l" t="t" r="r" b="b"/>
              <a:pathLst>
                <a:path w="396" h="163">
                  <a:moveTo>
                    <a:pt x="396" y="163"/>
                  </a:moveTo>
                  <a:cubicBezTo>
                    <a:pt x="385" y="144"/>
                    <a:pt x="358" y="71"/>
                    <a:pt x="327" y="46"/>
                  </a:cubicBezTo>
                  <a:cubicBezTo>
                    <a:pt x="296" y="21"/>
                    <a:pt x="261" y="0"/>
                    <a:pt x="207" y="10"/>
                  </a:cubicBezTo>
                  <a:cubicBezTo>
                    <a:pt x="153" y="20"/>
                    <a:pt x="43" y="86"/>
                    <a:pt x="0" y="106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2324160" y="3289320"/>
            <a:ext cx="4457520" cy="2362320"/>
          </a:xfrm>
          <a:custGeom>
            <a:avLst/>
            <a:gdLst/>
            <a:ahLst/>
            <a:rect l="l" t="t" r="r" b="b"/>
            <a:pathLst>
              <a:path w="2808" h="1848">
                <a:moveTo>
                  <a:pt x="0" y="0"/>
                </a:moveTo>
                <a:lnTo>
                  <a:pt x="2808" y="0"/>
                </a:lnTo>
                <a:lnTo>
                  <a:pt x="2808" y="1848"/>
                </a:lnTo>
                <a:lnTo>
                  <a:pt x="8" y="1848"/>
                </a:lnTo>
                <a:lnTo>
                  <a:pt x="8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5" name="accu-electro1" descr=""/>
          <p:cNvPicPr/>
          <p:nvPr/>
        </p:nvPicPr>
        <p:blipFill>
          <a:blip r:embed="rId2"/>
          <a:stretch/>
        </p:blipFill>
        <p:spPr>
          <a:xfrm>
            <a:off x="2530440" y="3476520"/>
            <a:ext cx="1230480" cy="2082960"/>
          </a:xfrm>
          <a:prstGeom prst="rect">
            <a:avLst/>
          </a:prstGeom>
          <a:ln w="0">
            <a:noFill/>
          </a:ln>
        </p:spPr>
      </p:pic>
      <p:pic>
        <p:nvPicPr>
          <p:cNvPr id="1056" name="accu-electro2" descr=""/>
          <p:cNvPicPr/>
          <p:nvPr/>
        </p:nvPicPr>
        <p:blipFill>
          <a:blip r:embed="rId3"/>
          <a:stretch/>
        </p:blipFill>
        <p:spPr>
          <a:xfrm>
            <a:off x="5694480" y="3540240"/>
            <a:ext cx="803160" cy="1832040"/>
          </a:xfrm>
          <a:prstGeom prst="rect">
            <a:avLst/>
          </a:prstGeom>
          <a:ln w="0">
            <a:noFill/>
          </a:ln>
        </p:spPr>
      </p:pic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harge de 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8" name=""/>
          <p:cNvGrpSpPr/>
          <p:nvPr/>
        </p:nvGrpSpPr>
        <p:grpSpPr>
          <a:xfrm>
            <a:off x="3060720" y="3073320"/>
            <a:ext cx="150840" cy="571680"/>
            <a:chOff x="3060720" y="3073320"/>
            <a:chExt cx="150840" cy="571680"/>
          </a:xfrm>
        </p:grpSpPr>
        <p:sp>
          <p:nvSpPr>
            <p:cNvPr id="1059" name=""/>
            <p:cNvSpPr/>
            <p:nvPr/>
          </p:nvSpPr>
          <p:spPr>
            <a:xfrm>
              <a:off x="3137040" y="3238560"/>
              <a:ext cx="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06072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5989680" y="3073320"/>
            <a:ext cx="150840" cy="571320"/>
            <a:chOff x="5989680" y="3073320"/>
            <a:chExt cx="150840" cy="571320"/>
          </a:xfrm>
        </p:grpSpPr>
        <p:sp>
          <p:nvSpPr>
            <p:cNvPr id="1062" name=""/>
            <p:cNvSpPr/>
            <p:nvPr/>
          </p:nvSpPr>
          <p:spPr>
            <a:xfrm>
              <a:off x="6066000" y="3238560"/>
              <a:ext cx="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98968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3137040" y="2006640"/>
            <a:ext cx="2931840" cy="1066680"/>
            <a:chOff x="3137040" y="2006640"/>
            <a:chExt cx="2931840" cy="1066680"/>
          </a:xfrm>
        </p:grpSpPr>
        <p:sp>
          <p:nvSpPr>
            <p:cNvPr id="1065" name=""/>
            <p:cNvSpPr/>
            <p:nvPr/>
          </p:nvSpPr>
          <p:spPr>
            <a:xfrm>
              <a:off x="4259160" y="2228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3137040" y="2305080"/>
              <a:ext cx="0" cy="76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6064200" y="23047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379760" y="2006640"/>
              <a:ext cx="60984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141720" y="2305080"/>
              <a:ext cx="292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564800" y="246384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971960" y="2082960"/>
              <a:ext cx="171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2" name=""/>
            <p:cNvGrpSpPr/>
            <p:nvPr/>
          </p:nvGrpSpPr>
          <p:grpSpPr>
            <a:xfrm>
              <a:off x="4203720" y="2041560"/>
              <a:ext cx="171360" cy="177840"/>
              <a:chOff x="4203720" y="2041560"/>
              <a:chExt cx="171360" cy="177840"/>
            </a:xfrm>
          </p:grpSpPr>
          <p:sp>
            <p:nvSpPr>
              <p:cNvPr id="1073" name=""/>
              <p:cNvSpPr/>
              <p:nvPr/>
            </p:nvSpPr>
            <p:spPr>
              <a:xfrm>
                <a:off x="4203720" y="21337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288680" y="204156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5" name=""/>
          <p:cNvGrpSpPr/>
          <p:nvPr/>
        </p:nvGrpSpPr>
        <p:grpSpPr>
          <a:xfrm>
            <a:off x="3300480" y="2678040"/>
            <a:ext cx="2617920" cy="652320"/>
            <a:chOff x="3300480" y="2678040"/>
            <a:chExt cx="2617920" cy="652320"/>
          </a:xfrm>
        </p:grpSpPr>
        <p:grpSp>
          <p:nvGrpSpPr>
            <p:cNvPr id="1076" name=""/>
            <p:cNvGrpSpPr/>
            <p:nvPr/>
          </p:nvGrpSpPr>
          <p:grpSpPr>
            <a:xfrm>
              <a:off x="5533200" y="2809800"/>
              <a:ext cx="385200" cy="520560"/>
              <a:chOff x="5533200" y="2809800"/>
              <a:chExt cx="385200" cy="520560"/>
            </a:xfrm>
          </p:grpSpPr>
          <p:sp>
            <p:nvSpPr>
              <p:cNvPr id="1077" name=""/>
              <p:cNvSpPr/>
              <p:nvPr/>
            </p:nvSpPr>
            <p:spPr>
              <a:xfrm flipV="1">
                <a:off x="5886360" y="2841480"/>
                <a:ext cx="0" cy="4082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33200" y="280980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3300480" y="2678040"/>
              <a:ext cx="389160" cy="531720"/>
              <a:chOff x="3300480" y="2678040"/>
              <a:chExt cx="389160" cy="531720"/>
            </a:xfrm>
          </p:grpSpPr>
          <p:sp>
            <p:nvSpPr>
              <p:cNvPr id="1080" name=""/>
              <p:cNvSpPr/>
              <p:nvPr/>
            </p:nvSpPr>
            <p:spPr>
              <a:xfrm>
                <a:off x="3300480" y="2678040"/>
                <a:ext cx="0" cy="4082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304440" y="268920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2" name=""/>
          <p:cNvGrpSpPr/>
          <p:nvPr/>
        </p:nvGrpSpPr>
        <p:grpSpPr>
          <a:xfrm>
            <a:off x="2758680" y="2425680"/>
            <a:ext cx="3653640" cy="496440"/>
            <a:chOff x="2758680" y="2425680"/>
            <a:chExt cx="3653640" cy="496440"/>
          </a:xfrm>
        </p:grpSpPr>
        <p:sp>
          <p:nvSpPr>
            <p:cNvPr id="1083" name=""/>
            <p:cNvSpPr/>
            <p:nvPr/>
          </p:nvSpPr>
          <p:spPr>
            <a:xfrm flipV="1">
              <a:off x="6066000" y="251424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135240" y="245268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758680" y="24256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146280" y="24494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6760440" y="538488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P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36160" y="5384880"/>
            <a:ext cx="4420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xy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 = Pb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4 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0" y="898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ela forme de l’oxyde de plomb qui se dépose sur l’électr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2883960" y="3486240"/>
            <a:ext cx="1762200" cy="1648800"/>
            <a:chOff x="2883960" y="3486240"/>
            <a:chExt cx="1762200" cy="1648800"/>
          </a:xfrm>
        </p:grpSpPr>
        <p:sp>
          <p:nvSpPr>
            <p:cNvPr id="1091" name=""/>
            <p:cNvSpPr/>
            <p:nvPr/>
          </p:nvSpPr>
          <p:spPr>
            <a:xfrm>
              <a:off x="3135240" y="3486240"/>
              <a:ext cx="0" cy="4078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83960" y="38098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037400" y="4519440"/>
              <a:ext cx="60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73200" y="4694400"/>
              <a:ext cx="70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O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143160" y="4181400"/>
              <a:ext cx="706680" cy="457200"/>
            </a:xfrm>
            <a:custGeom>
              <a:avLst/>
              <a:gdLst/>
              <a:ahLst/>
              <a:rect l="l" t="t" r="r" b="b"/>
              <a:pathLst>
                <a:path w="405" h="288">
                  <a:moveTo>
                    <a:pt x="0" y="0"/>
                  </a:moveTo>
                  <a:cubicBezTo>
                    <a:pt x="17" y="28"/>
                    <a:pt x="37" y="120"/>
                    <a:pt x="105" y="168"/>
                  </a:cubicBezTo>
                  <a:cubicBezTo>
                    <a:pt x="173" y="216"/>
                    <a:pt x="342" y="263"/>
                    <a:pt x="405" y="28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483000" y="4618080"/>
              <a:ext cx="569880" cy="191880"/>
            </a:xfrm>
            <a:custGeom>
              <a:avLst/>
              <a:gdLst/>
              <a:ahLst/>
              <a:rect l="l" t="t" r="r" b="b"/>
              <a:pathLst>
                <a:path w="399" h="142">
                  <a:moveTo>
                    <a:pt x="0" y="142"/>
                  </a:moveTo>
                  <a:cubicBezTo>
                    <a:pt x="39" y="95"/>
                    <a:pt x="79" y="47"/>
                    <a:pt x="117" y="25"/>
                  </a:cubicBezTo>
                  <a:cubicBezTo>
                    <a:pt x="155" y="3"/>
                    <a:pt x="180" y="0"/>
                    <a:pt x="227" y="9"/>
                  </a:cubicBezTo>
                  <a:cubicBezTo>
                    <a:pt x="274" y="18"/>
                    <a:pt x="363" y="65"/>
                    <a:pt x="399" y="79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4910400" y="3497400"/>
            <a:ext cx="1432080" cy="1710000"/>
            <a:chOff x="4910400" y="3497400"/>
            <a:chExt cx="1432080" cy="1710000"/>
          </a:xfrm>
        </p:grpSpPr>
        <p:sp>
          <p:nvSpPr>
            <p:cNvPr id="1098" name=""/>
            <p:cNvSpPr/>
            <p:nvPr/>
          </p:nvSpPr>
          <p:spPr>
            <a:xfrm>
              <a:off x="6060960" y="3497400"/>
              <a:ext cx="0" cy="4078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805000" y="383544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910400" y="4749840"/>
              <a:ext cx="60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843160" y="480852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899320" y="4229280"/>
              <a:ext cx="144360" cy="599760"/>
            </a:xfrm>
            <a:custGeom>
              <a:avLst/>
              <a:gdLst/>
              <a:ahLst/>
              <a:rect l="l" t="t" r="r" b="b"/>
              <a:pathLst>
                <a:path w="91" h="378">
                  <a:moveTo>
                    <a:pt x="91" y="0"/>
                  </a:moveTo>
                  <a:cubicBezTo>
                    <a:pt x="85" y="18"/>
                    <a:pt x="69" y="74"/>
                    <a:pt x="55" y="108"/>
                  </a:cubicBezTo>
                  <a:cubicBezTo>
                    <a:pt x="41" y="142"/>
                    <a:pt x="14" y="171"/>
                    <a:pt x="7" y="204"/>
                  </a:cubicBezTo>
                  <a:cubicBezTo>
                    <a:pt x="0" y="237"/>
                    <a:pt x="8" y="280"/>
                    <a:pt x="13" y="309"/>
                  </a:cubicBezTo>
                  <a:cubicBezTo>
                    <a:pt x="18" y="338"/>
                    <a:pt x="32" y="364"/>
                    <a:pt x="37" y="37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362560" y="4637160"/>
              <a:ext cx="628560" cy="258840"/>
            </a:xfrm>
            <a:custGeom>
              <a:avLst/>
              <a:gdLst/>
              <a:ahLst/>
              <a:rect l="l" t="t" r="r" b="b"/>
              <a:pathLst>
                <a:path w="396" h="163">
                  <a:moveTo>
                    <a:pt x="396" y="163"/>
                  </a:moveTo>
                  <a:cubicBezTo>
                    <a:pt x="385" y="144"/>
                    <a:pt x="358" y="71"/>
                    <a:pt x="327" y="46"/>
                  </a:cubicBezTo>
                  <a:cubicBezTo>
                    <a:pt x="296" y="21"/>
                    <a:pt x="261" y="0"/>
                    <a:pt x="207" y="10"/>
                  </a:cubicBezTo>
                  <a:cubicBezTo>
                    <a:pt x="153" y="20"/>
                    <a:pt x="43" y="86"/>
                    <a:pt x="0" y="106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2324160" y="3289320"/>
            <a:ext cx="4457520" cy="2362320"/>
          </a:xfrm>
          <a:custGeom>
            <a:avLst/>
            <a:gdLst/>
            <a:ahLst/>
            <a:rect l="l" t="t" r="r" b="b"/>
            <a:pathLst>
              <a:path w="2808" h="1848">
                <a:moveTo>
                  <a:pt x="0" y="0"/>
                </a:moveTo>
                <a:lnTo>
                  <a:pt x="2808" y="0"/>
                </a:lnTo>
                <a:lnTo>
                  <a:pt x="2808" y="1848"/>
                </a:lnTo>
                <a:lnTo>
                  <a:pt x="8" y="1848"/>
                </a:lnTo>
                <a:lnTo>
                  <a:pt x="8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5" name="accu-electro1" descr=""/>
          <p:cNvPicPr/>
          <p:nvPr/>
        </p:nvPicPr>
        <p:blipFill>
          <a:blip r:embed="rId2"/>
          <a:stretch/>
        </p:blipFill>
        <p:spPr>
          <a:xfrm>
            <a:off x="2530440" y="3476520"/>
            <a:ext cx="1230480" cy="2082960"/>
          </a:xfrm>
          <a:prstGeom prst="rect">
            <a:avLst/>
          </a:prstGeom>
          <a:ln w="0">
            <a:noFill/>
          </a:ln>
        </p:spPr>
      </p:pic>
      <p:pic>
        <p:nvPicPr>
          <p:cNvPr id="1106" name="accu-electro2" descr=""/>
          <p:cNvPicPr/>
          <p:nvPr/>
        </p:nvPicPr>
        <p:blipFill>
          <a:blip r:embed="rId3"/>
          <a:stretch/>
        </p:blipFill>
        <p:spPr>
          <a:xfrm>
            <a:off x="5694480" y="3540240"/>
            <a:ext cx="803160" cy="1832040"/>
          </a:xfrm>
          <a:prstGeom prst="rect">
            <a:avLst/>
          </a:prstGeom>
          <a:ln w="0">
            <a:noFill/>
          </a:ln>
        </p:spPr>
      </p:pic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harge de 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3060720" y="3073320"/>
            <a:ext cx="150840" cy="571680"/>
            <a:chOff x="3060720" y="3073320"/>
            <a:chExt cx="150840" cy="571680"/>
          </a:xfrm>
        </p:grpSpPr>
        <p:sp>
          <p:nvSpPr>
            <p:cNvPr id="1109" name=""/>
            <p:cNvSpPr/>
            <p:nvPr/>
          </p:nvSpPr>
          <p:spPr>
            <a:xfrm>
              <a:off x="3137040" y="3238560"/>
              <a:ext cx="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06072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5989680" y="3073320"/>
            <a:ext cx="150840" cy="571320"/>
            <a:chOff x="5989680" y="3073320"/>
            <a:chExt cx="150840" cy="571320"/>
          </a:xfrm>
        </p:grpSpPr>
        <p:sp>
          <p:nvSpPr>
            <p:cNvPr id="1112" name=""/>
            <p:cNvSpPr/>
            <p:nvPr/>
          </p:nvSpPr>
          <p:spPr>
            <a:xfrm>
              <a:off x="6066000" y="3238560"/>
              <a:ext cx="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98968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3137040" y="2006640"/>
            <a:ext cx="2931840" cy="1066680"/>
            <a:chOff x="3137040" y="2006640"/>
            <a:chExt cx="2931840" cy="1066680"/>
          </a:xfrm>
        </p:grpSpPr>
        <p:sp>
          <p:nvSpPr>
            <p:cNvPr id="1115" name=""/>
            <p:cNvSpPr/>
            <p:nvPr/>
          </p:nvSpPr>
          <p:spPr>
            <a:xfrm>
              <a:off x="4259160" y="2228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3137040" y="2305080"/>
              <a:ext cx="0" cy="76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6064200" y="23047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379760" y="2006640"/>
              <a:ext cx="60984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141720" y="2305080"/>
              <a:ext cx="292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564800" y="246384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971960" y="2082960"/>
              <a:ext cx="171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4203720" y="2041560"/>
              <a:ext cx="171360" cy="177840"/>
              <a:chOff x="4203720" y="2041560"/>
              <a:chExt cx="171360" cy="177840"/>
            </a:xfrm>
          </p:grpSpPr>
          <p:sp>
            <p:nvSpPr>
              <p:cNvPr id="1123" name=""/>
              <p:cNvSpPr/>
              <p:nvPr/>
            </p:nvSpPr>
            <p:spPr>
              <a:xfrm>
                <a:off x="4203720" y="21337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288680" y="204156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5" name=""/>
          <p:cNvGrpSpPr/>
          <p:nvPr/>
        </p:nvGrpSpPr>
        <p:grpSpPr>
          <a:xfrm>
            <a:off x="3300480" y="2678040"/>
            <a:ext cx="2617920" cy="652320"/>
            <a:chOff x="3300480" y="2678040"/>
            <a:chExt cx="2617920" cy="652320"/>
          </a:xfrm>
        </p:grpSpPr>
        <p:grpSp>
          <p:nvGrpSpPr>
            <p:cNvPr id="1126" name=""/>
            <p:cNvGrpSpPr/>
            <p:nvPr/>
          </p:nvGrpSpPr>
          <p:grpSpPr>
            <a:xfrm>
              <a:off x="5533200" y="2809800"/>
              <a:ext cx="385200" cy="520560"/>
              <a:chOff x="5533200" y="2809800"/>
              <a:chExt cx="385200" cy="520560"/>
            </a:xfrm>
          </p:grpSpPr>
          <p:sp>
            <p:nvSpPr>
              <p:cNvPr id="1127" name=""/>
              <p:cNvSpPr/>
              <p:nvPr/>
            </p:nvSpPr>
            <p:spPr>
              <a:xfrm flipV="1">
                <a:off x="5886360" y="2841480"/>
                <a:ext cx="0" cy="4082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533200" y="280980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9" name=""/>
            <p:cNvGrpSpPr/>
            <p:nvPr/>
          </p:nvGrpSpPr>
          <p:grpSpPr>
            <a:xfrm>
              <a:off x="3300480" y="2678040"/>
              <a:ext cx="389160" cy="531720"/>
              <a:chOff x="3300480" y="2678040"/>
              <a:chExt cx="389160" cy="531720"/>
            </a:xfrm>
          </p:grpSpPr>
          <p:sp>
            <p:nvSpPr>
              <p:cNvPr id="1130" name=""/>
              <p:cNvSpPr/>
              <p:nvPr/>
            </p:nvSpPr>
            <p:spPr>
              <a:xfrm>
                <a:off x="3300480" y="2678040"/>
                <a:ext cx="0" cy="4082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304440" y="268920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2" name=""/>
          <p:cNvGrpSpPr/>
          <p:nvPr/>
        </p:nvGrpSpPr>
        <p:grpSpPr>
          <a:xfrm>
            <a:off x="2758680" y="2425680"/>
            <a:ext cx="3653640" cy="496440"/>
            <a:chOff x="2758680" y="2425680"/>
            <a:chExt cx="3653640" cy="496440"/>
          </a:xfrm>
        </p:grpSpPr>
        <p:sp>
          <p:nvSpPr>
            <p:cNvPr id="1133" name=""/>
            <p:cNvSpPr/>
            <p:nvPr/>
          </p:nvSpPr>
          <p:spPr>
            <a:xfrm flipV="1">
              <a:off x="6066000" y="251424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135240" y="2452680"/>
              <a:ext cx="0" cy="40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758680" y="24256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146280" y="24494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6760440" y="538488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P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36160" y="5384880"/>
            <a:ext cx="4420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xy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 = Pb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4 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0" y="898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ela permet de définir la nature des électr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106760" y="346716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TH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93000" y="344160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2883960" y="3486240"/>
            <a:ext cx="1762200" cy="1648800"/>
            <a:chOff x="2883960" y="3486240"/>
            <a:chExt cx="1762200" cy="1648800"/>
          </a:xfrm>
        </p:grpSpPr>
        <p:sp>
          <p:nvSpPr>
            <p:cNvPr id="1143" name=""/>
            <p:cNvSpPr/>
            <p:nvPr/>
          </p:nvSpPr>
          <p:spPr>
            <a:xfrm>
              <a:off x="3135240" y="3486240"/>
              <a:ext cx="0" cy="4078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883960" y="38098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037400" y="4519440"/>
              <a:ext cx="60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373200" y="4694400"/>
              <a:ext cx="70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O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143160" y="4181400"/>
              <a:ext cx="706680" cy="457200"/>
            </a:xfrm>
            <a:custGeom>
              <a:avLst/>
              <a:gdLst/>
              <a:ahLst/>
              <a:rect l="l" t="t" r="r" b="b"/>
              <a:pathLst>
                <a:path w="405" h="288">
                  <a:moveTo>
                    <a:pt x="0" y="0"/>
                  </a:moveTo>
                  <a:cubicBezTo>
                    <a:pt x="17" y="28"/>
                    <a:pt x="37" y="120"/>
                    <a:pt x="105" y="168"/>
                  </a:cubicBezTo>
                  <a:cubicBezTo>
                    <a:pt x="173" y="216"/>
                    <a:pt x="342" y="263"/>
                    <a:pt x="405" y="28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483000" y="4618080"/>
              <a:ext cx="569880" cy="191880"/>
            </a:xfrm>
            <a:custGeom>
              <a:avLst/>
              <a:gdLst/>
              <a:ahLst/>
              <a:rect l="l" t="t" r="r" b="b"/>
              <a:pathLst>
                <a:path w="399" h="142">
                  <a:moveTo>
                    <a:pt x="0" y="142"/>
                  </a:moveTo>
                  <a:cubicBezTo>
                    <a:pt x="39" y="95"/>
                    <a:pt x="79" y="47"/>
                    <a:pt x="117" y="25"/>
                  </a:cubicBezTo>
                  <a:cubicBezTo>
                    <a:pt x="155" y="3"/>
                    <a:pt x="180" y="0"/>
                    <a:pt x="227" y="9"/>
                  </a:cubicBezTo>
                  <a:cubicBezTo>
                    <a:pt x="274" y="18"/>
                    <a:pt x="363" y="65"/>
                    <a:pt x="399" y="79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4910400" y="3497400"/>
            <a:ext cx="1432080" cy="1710000"/>
            <a:chOff x="4910400" y="3497400"/>
            <a:chExt cx="1432080" cy="1710000"/>
          </a:xfrm>
        </p:grpSpPr>
        <p:sp>
          <p:nvSpPr>
            <p:cNvPr id="1150" name=""/>
            <p:cNvSpPr/>
            <p:nvPr/>
          </p:nvSpPr>
          <p:spPr>
            <a:xfrm>
              <a:off x="6060960" y="3497400"/>
              <a:ext cx="0" cy="4078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805000" y="383544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10400" y="4749840"/>
              <a:ext cx="60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843160" y="480852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899320" y="4229280"/>
              <a:ext cx="144360" cy="599760"/>
            </a:xfrm>
            <a:custGeom>
              <a:avLst/>
              <a:gdLst/>
              <a:ahLst/>
              <a:rect l="l" t="t" r="r" b="b"/>
              <a:pathLst>
                <a:path w="91" h="378">
                  <a:moveTo>
                    <a:pt x="91" y="0"/>
                  </a:moveTo>
                  <a:cubicBezTo>
                    <a:pt x="85" y="18"/>
                    <a:pt x="69" y="74"/>
                    <a:pt x="55" y="108"/>
                  </a:cubicBezTo>
                  <a:cubicBezTo>
                    <a:pt x="41" y="142"/>
                    <a:pt x="14" y="171"/>
                    <a:pt x="7" y="204"/>
                  </a:cubicBezTo>
                  <a:cubicBezTo>
                    <a:pt x="0" y="237"/>
                    <a:pt x="8" y="280"/>
                    <a:pt x="13" y="309"/>
                  </a:cubicBezTo>
                  <a:cubicBezTo>
                    <a:pt x="18" y="338"/>
                    <a:pt x="32" y="364"/>
                    <a:pt x="37" y="37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362560" y="4637160"/>
              <a:ext cx="628560" cy="258840"/>
            </a:xfrm>
            <a:custGeom>
              <a:avLst/>
              <a:gdLst/>
              <a:ahLst/>
              <a:rect l="l" t="t" r="r" b="b"/>
              <a:pathLst>
                <a:path w="396" h="163">
                  <a:moveTo>
                    <a:pt x="396" y="163"/>
                  </a:moveTo>
                  <a:cubicBezTo>
                    <a:pt x="385" y="144"/>
                    <a:pt x="358" y="71"/>
                    <a:pt x="327" y="46"/>
                  </a:cubicBezTo>
                  <a:cubicBezTo>
                    <a:pt x="296" y="21"/>
                    <a:pt x="261" y="0"/>
                    <a:pt x="207" y="10"/>
                  </a:cubicBezTo>
                  <a:cubicBezTo>
                    <a:pt x="153" y="20"/>
                    <a:pt x="43" y="86"/>
                    <a:pt x="0" y="106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419040" y="2451240"/>
            <a:ext cx="63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’</a:t>
            </a:r>
            <a:r>
              <a:rPr b="1" lang="fr-FR" sz="2400" spc="-1" strike="noStrike">
                <a:solidFill>
                  <a:srgbClr val="cc0066"/>
                </a:solidFill>
                <a:latin typeface="Times New Roman"/>
              </a:rPr>
              <a:t>ANOD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st l’électrode sur laquelle se produit l’</a:t>
            </a:r>
            <a:r>
              <a:rPr b="1" lang="fr-FR" sz="2400" spc="-1" strike="noStrike">
                <a:solidFill>
                  <a:srgbClr val="cc0066"/>
                </a:solidFill>
                <a:latin typeface="Times New Roman"/>
              </a:rPr>
              <a:t>OXYD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905120" y="4229280"/>
            <a:ext cx="688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CATHOD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st l’électrode sur laquelle se produit la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REDUC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2619360" y="393840"/>
            <a:ext cx="4495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Défini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split dir="out" orient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254160" y="1866960"/>
            <a:ext cx="772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xydation à l’anode    Pb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 = Pb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4 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78000" y="87948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Times New Roman"/>
              </a:rPr>
              <a:t>L’équation est celle du fonctionnement forcé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62000" y="4327560"/>
            <a:ext cx="8734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Équation 2 Pb</a:t>
            </a:r>
            <a:r>
              <a:rPr b="0" lang="fr-FR" sz="36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fr-FR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2 H</a:t>
            </a:r>
            <a:r>
              <a:rPr b="0" lang="fr-FR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O = PbO</a:t>
            </a:r>
            <a:r>
              <a:rPr b="0" lang="fr-FR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+ Pb + 4 H</a:t>
            </a:r>
            <a:r>
              <a:rPr b="0" lang="fr-FR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harge de 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79360" y="2946240"/>
            <a:ext cx="78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duction à la cathode     Pb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 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00160" y="5407200"/>
            <a:ext cx="87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charge de l’accumulateur au plomb forme les solides des électrodes et des ions 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e l’électrolyte (le pH diminue).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191040" y="1292400"/>
            <a:ext cx="261288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Dé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spontan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anode</a:t>
            </a:r>
            <a:br>
              <a:rPr sz="2400"/>
            </a:br>
            <a:r>
              <a:rPr b="0" lang="fr-FR" sz="2000" spc="-1" strike="noStrike">
                <a:solidFill>
                  <a:srgbClr val="990000"/>
                </a:solidFill>
                <a:latin typeface="Times New Roman"/>
              </a:rPr>
              <a:t>- de la p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athode</a:t>
            </a:r>
            <a:br>
              <a:rPr sz="2400"/>
            </a:b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imes New Roman"/>
              </a:rPr>
              <a:t>+ de la p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829480" y="1241280"/>
            <a:ext cx="285084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forc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récepte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athode</a:t>
            </a:r>
            <a:br>
              <a:rPr sz="2400"/>
            </a:br>
            <a:r>
              <a:rPr b="0" lang="fr-FR" sz="2000" spc="-1" strike="noStrike">
                <a:solidFill>
                  <a:srgbClr val="990000"/>
                </a:solidFill>
                <a:latin typeface="Times New Roman"/>
              </a:rPr>
              <a:t>reliée au - du génér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anode</a:t>
            </a:r>
            <a:br>
              <a:rPr sz="2400"/>
            </a:b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imes New Roman"/>
              </a:rPr>
              <a:t>reliée au + du génér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44600" y="1241280"/>
            <a:ext cx="2577960" cy="47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type de dipô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électrode de Pb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électrode de PbO</a:t>
            </a:r>
            <a:r>
              <a:rPr b="0" lang="fr-FR" sz="24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162240" y="1193760"/>
            <a:ext cx="0" cy="431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867280" y="1203480"/>
            <a:ext cx="0" cy="43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8591400" y="1200240"/>
            <a:ext cx="12960" cy="43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162240" y="1187280"/>
            <a:ext cx="543420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V="1">
            <a:off x="463680" y="1839600"/>
            <a:ext cx="81262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488880" y="2601720"/>
            <a:ext cx="81266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63680" y="3324240"/>
            <a:ext cx="813888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63680" y="4429080"/>
            <a:ext cx="811368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63680" y="1822320"/>
            <a:ext cx="12600" cy="372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76280" y="5533920"/>
            <a:ext cx="812628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55680" y="2629080"/>
            <a:ext cx="8369280" cy="34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191040" y="1292400"/>
            <a:ext cx="261288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Dé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spontan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génér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anode</a:t>
            </a:r>
            <a:br>
              <a:rPr sz="2400"/>
            </a:br>
            <a:r>
              <a:rPr b="0" lang="fr-FR" sz="2000" spc="-1" strike="noStrike">
                <a:solidFill>
                  <a:srgbClr val="990000"/>
                </a:solidFill>
                <a:latin typeface="Times New Roman"/>
              </a:rPr>
              <a:t>- de la p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athode</a:t>
            </a:r>
            <a:br>
              <a:rPr sz="2400"/>
            </a:b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imes New Roman"/>
              </a:rPr>
              <a:t>+ de la p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829480" y="1241280"/>
            <a:ext cx="285084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forc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récepte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athode</a:t>
            </a:r>
            <a:br>
              <a:rPr sz="2400"/>
            </a:br>
            <a:r>
              <a:rPr b="0" lang="fr-FR" sz="2000" spc="-1" strike="noStrike">
                <a:solidFill>
                  <a:srgbClr val="990000"/>
                </a:solidFill>
                <a:latin typeface="Times New Roman"/>
              </a:rPr>
              <a:t>reliée au - du génér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anode</a:t>
            </a:r>
            <a:br>
              <a:rPr sz="2400"/>
            </a:b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imes New Roman"/>
              </a:rPr>
              <a:t>reliée au + du génér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44600" y="1241280"/>
            <a:ext cx="2577960" cy="47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type de dipô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électrode de Pb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électrode de PbO</a:t>
            </a:r>
            <a:r>
              <a:rPr b="0" lang="fr-FR" sz="24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162240" y="1193760"/>
            <a:ext cx="0" cy="431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867280" y="1203480"/>
            <a:ext cx="0" cy="43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8591400" y="1200240"/>
            <a:ext cx="12960" cy="43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162240" y="1187280"/>
            <a:ext cx="543420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63680" y="1839600"/>
            <a:ext cx="81262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88880" y="2601720"/>
            <a:ext cx="81266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63680" y="3324240"/>
            <a:ext cx="813888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63680" y="4429080"/>
            <a:ext cx="811368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63680" y="1822320"/>
            <a:ext cx="12600" cy="372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76280" y="5533920"/>
            <a:ext cx="812628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55680" y="3352680"/>
            <a:ext cx="8369280" cy="294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191040" y="1292400"/>
            <a:ext cx="261288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Dé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spontan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génér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anode</a:t>
            </a:r>
            <a:br>
              <a:rPr sz="2400"/>
            </a:br>
            <a:r>
              <a:rPr b="0" lang="fr-FR" sz="2000" spc="-1" strike="noStrike">
                <a:solidFill>
                  <a:srgbClr val="990000"/>
                </a:solidFill>
                <a:latin typeface="Times New Roman"/>
              </a:rPr>
              <a:t>- de la p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athode</a:t>
            </a:r>
            <a:br>
              <a:rPr sz="2400"/>
            </a:b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imes New Roman"/>
              </a:rPr>
              <a:t>+ de la p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829480" y="1241280"/>
            <a:ext cx="285084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forc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récepte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athode</a:t>
            </a:r>
            <a:br>
              <a:rPr sz="2400"/>
            </a:br>
            <a:r>
              <a:rPr b="0" lang="fr-FR" sz="2000" spc="-1" strike="noStrike">
                <a:solidFill>
                  <a:srgbClr val="990000"/>
                </a:solidFill>
                <a:latin typeface="Times New Roman"/>
              </a:rPr>
              <a:t>reliée au - du génér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anode</a:t>
            </a:r>
            <a:br>
              <a:rPr sz="2400"/>
            </a:b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imes New Roman"/>
              </a:rPr>
              <a:t>reliée au + du génér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44600" y="1241280"/>
            <a:ext cx="2577960" cy="47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type de dipô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électrode de Pb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électrode de PbO</a:t>
            </a:r>
            <a:r>
              <a:rPr b="0" lang="fr-FR" sz="24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162240" y="1193760"/>
            <a:ext cx="0" cy="431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867280" y="1203480"/>
            <a:ext cx="0" cy="43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8591400" y="1200240"/>
            <a:ext cx="12960" cy="43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162240" y="1187280"/>
            <a:ext cx="543420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463680" y="1839600"/>
            <a:ext cx="81262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488880" y="2601720"/>
            <a:ext cx="81266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63680" y="3324240"/>
            <a:ext cx="813888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63680" y="4429080"/>
            <a:ext cx="811368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63680" y="1822320"/>
            <a:ext cx="12600" cy="372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76280" y="5533920"/>
            <a:ext cx="812628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55680" y="4457880"/>
            <a:ext cx="836928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324160" y="3289320"/>
            <a:ext cx="4457520" cy="2362320"/>
          </a:xfrm>
          <a:custGeom>
            <a:avLst/>
            <a:gdLst/>
            <a:ahLst/>
            <a:rect l="l" t="t" r="r" b="b"/>
            <a:pathLst>
              <a:path w="2808" h="1848">
                <a:moveTo>
                  <a:pt x="0" y="0"/>
                </a:moveTo>
                <a:lnTo>
                  <a:pt x="2808" y="0"/>
                </a:lnTo>
                <a:lnTo>
                  <a:pt x="2808" y="1848"/>
                </a:lnTo>
                <a:lnTo>
                  <a:pt x="8" y="1848"/>
                </a:lnTo>
                <a:lnTo>
                  <a:pt x="8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9800" y="337824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5797440"/>
            <a:ext cx="372456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concentrée d’aci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lfurique  : 2 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S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467240" y="5378040"/>
            <a:ext cx="79992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51120" y="353052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4600" y="4127400"/>
            <a:ext cx="146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couverte d’oxyde de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3680" y="898560"/>
            <a:ext cx="873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Des connecteurs permettent de relier les électrodes</a:t>
            </a:r>
            <a:br>
              <a:rPr sz="2400"/>
            </a:b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à un circuit élec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060720" y="3073320"/>
            <a:ext cx="150840" cy="571680"/>
            <a:chOff x="3060720" y="3073320"/>
            <a:chExt cx="150840" cy="571680"/>
          </a:xfrm>
        </p:grpSpPr>
        <p:sp>
          <p:nvSpPr>
            <p:cNvPr id="77" name=""/>
            <p:cNvSpPr/>
            <p:nvPr/>
          </p:nvSpPr>
          <p:spPr>
            <a:xfrm>
              <a:off x="3137040" y="3238560"/>
              <a:ext cx="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6072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989680" y="3073320"/>
            <a:ext cx="150840" cy="571320"/>
            <a:chOff x="5989680" y="3073320"/>
            <a:chExt cx="150840" cy="571320"/>
          </a:xfrm>
        </p:grpSpPr>
        <p:sp>
          <p:nvSpPr>
            <p:cNvPr id="80" name=""/>
            <p:cNvSpPr/>
            <p:nvPr/>
          </p:nvSpPr>
          <p:spPr>
            <a:xfrm>
              <a:off x="6066000" y="3238560"/>
              <a:ext cx="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8968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" name="accu-electro1" descr=""/>
          <p:cNvPicPr/>
          <p:nvPr/>
        </p:nvPicPr>
        <p:blipFill>
          <a:blip r:embed="rId2"/>
          <a:stretch/>
        </p:blipFill>
        <p:spPr>
          <a:xfrm>
            <a:off x="2530440" y="3476520"/>
            <a:ext cx="1230480" cy="2082960"/>
          </a:xfrm>
          <a:prstGeom prst="rect">
            <a:avLst/>
          </a:prstGeom>
          <a:ln w="0">
            <a:noFill/>
          </a:ln>
        </p:spPr>
      </p:pic>
      <p:pic>
        <p:nvPicPr>
          <p:cNvPr id="83" name="accu-electro2" descr=""/>
          <p:cNvPicPr/>
          <p:nvPr/>
        </p:nvPicPr>
        <p:blipFill>
          <a:blip r:embed="rId3"/>
          <a:stretch/>
        </p:blipFill>
        <p:spPr>
          <a:xfrm>
            <a:off x="5694480" y="3540240"/>
            <a:ext cx="803160" cy="1832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739880" y="4051440"/>
            <a:ext cx="1373040" cy="69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053040" y="4292640"/>
            <a:ext cx="15796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4762440"/>
            <a:ext cx="1200240" cy="1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191040" y="1292400"/>
            <a:ext cx="261288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Dé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spontan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génér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anode</a:t>
            </a:r>
            <a:br>
              <a:rPr sz="2400"/>
            </a:br>
            <a:r>
              <a:rPr b="0" lang="fr-FR" sz="2000" spc="-1" strike="noStrike">
                <a:solidFill>
                  <a:srgbClr val="990000"/>
                </a:solidFill>
                <a:latin typeface="Times New Roman"/>
              </a:rPr>
              <a:t>- de la p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athode</a:t>
            </a:r>
            <a:br>
              <a:rPr sz="2400"/>
            </a:b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imes New Roman"/>
              </a:rPr>
              <a:t>+ de la p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829480" y="1241280"/>
            <a:ext cx="285084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forc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récepte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athode</a:t>
            </a:r>
            <a:br>
              <a:rPr sz="2400"/>
            </a:br>
            <a:r>
              <a:rPr b="0" lang="fr-FR" sz="2000" spc="-1" strike="noStrike">
                <a:solidFill>
                  <a:srgbClr val="990000"/>
                </a:solidFill>
                <a:latin typeface="Times New Roman"/>
              </a:rPr>
              <a:t>reliée au - du génér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anode</a:t>
            </a:r>
            <a:br>
              <a:rPr sz="2400"/>
            </a:b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imes New Roman"/>
              </a:rPr>
              <a:t>reliée au + du génér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44600" y="1241280"/>
            <a:ext cx="2577960" cy="47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type de dipô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électrode de Pb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électrode de PbO</a:t>
            </a:r>
            <a:r>
              <a:rPr b="0" lang="fr-FR" sz="24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162240" y="1193760"/>
            <a:ext cx="0" cy="431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867280" y="1203480"/>
            <a:ext cx="0" cy="43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8591400" y="1200240"/>
            <a:ext cx="12960" cy="43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162240" y="1187280"/>
            <a:ext cx="543420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463680" y="1839600"/>
            <a:ext cx="81262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488880" y="2601720"/>
            <a:ext cx="81266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63680" y="3324240"/>
            <a:ext cx="813888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63680" y="4429080"/>
            <a:ext cx="811368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63680" y="1822320"/>
            <a:ext cx="12600" cy="372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76280" y="5533920"/>
            <a:ext cx="812628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s accumulate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65520" y="1069920"/>
            <a:ext cx="66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l n’y a pas que des accumulateurs au plom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l existe de nombreux autres types d’accumulateurs  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nickel-cadmium (Ni-C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nickel-hydrure métallique (Ni-M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lithium-ion (Li-ion)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012680" y="3686040"/>
            <a:ext cx="684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L’expression « pile rechargeable » est souvent utilisée à tort pour désigner un accumulateur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0" y="50706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batteries comme celle de démarrage des automobiles ou celles des téléphones portables sont constituées de plusieurs accumulateurs associés en série (pour augmenter la f.é.m.) et/ou en parallèle (pour augmenter l’énergie emmagasiné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324160" y="3289320"/>
            <a:ext cx="4457520" cy="2362320"/>
          </a:xfrm>
          <a:custGeom>
            <a:avLst/>
            <a:gdLst/>
            <a:ahLst/>
            <a:rect l="l" t="t" r="r" b="b"/>
            <a:pathLst>
              <a:path w="2808" h="1848">
                <a:moveTo>
                  <a:pt x="0" y="0"/>
                </a:moveTo>
                <a:lnTo>
                  <a:pt x="2808" y="0"/>
                </a:lnTo>
                <a:lnTo>
                  <a:pt x="2808" y="1848"/>
                </a:lnTo>
                <a:lnTo>
                  <a:pt x="8" y="1848"/>
                </a:lnTo>
                <a:lnTo>
                  <a:pt x="8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9800" y="337824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5797440"/>
            <a:ext cx="372456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concentrée d’aci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lfurique  : 2 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S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467240" y="5378040"/>
            <a:ext cx="79992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51120" y="353052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4600" y="4127400"/>
            <a:ext cx="146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couverte d’oxyde de p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3680" y="898560"/>
            <a:ext cx="87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Le fonctionnement met en jeu deux couples réd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060720" y="3073320"/>
            <a:ext cx="150840" cy="571680"/>
            <a:chOff x="3060720" y="3073320"/>
            <a:chExt cx="150840" cy="571680"/>
          </a:xfrm>
        </p:grpSpPr>
        <p:sp>
          <p:nvSpPr>
            <p:cNvPr id="96" name=""/>
            <p:cNvSpPr/>
            <p:nvPr/>
          </p:nvSpPr>
          <p:spPr>
            <a:xfrm>
              <a:off x="3137040" y="3238560"/>
              <a:ext cx="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6072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989680" y="3073320"/>
            <a:ext cx="150840" cy="571320"/>
            <a:chOff x="5989680" y="3073320"/>
            <a:chExt cx="150840" cy="571320"/>
          </a:xfrm>
        </p:grpSpPr>
        <p:sp>
          <p:nvSpPr>
            <p:cNvPr id="99" name=""/>
            <p:cNvSpPr/>
            <p:nvPr/>
          </p:nvSpPr>
          <p:spPr>
            <a:xfrm>
              <a:off x="6066000" y="3238560"/>
              <a:ext cx="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989680" y="3073320"/>
              <a:ext cx="1508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accu-electro1" descr=""/>
          <p:cNvPicPr/>
          <p:nvPr/>
        </p:nvPicPr>
        <p:blipFill>
          <a:blip r:embed="rId2"/>
          <a:stretch/>
        </p:blipFill>
        <p:spPr>
          <a:xfrm>
            <a:off x="2530440" y="3476520"/>
            <a:ext cx="1230480" cy="2082960"/>
          </a:xfrm>
          <a:prstGeom prst="rect">
            <a:avLst/>
          </a:prstGeom>
          <a:ln w="0">
            <a:noFill/>
          </a:ln>
        </p:spPr>
      </p:pic>
      <p:pic>
        <p:nvPicPr>
          <p:cNvPr id="102" name="accu-electro2" descr=""/>
          <p:cNvPicPr/>
          <p:nvPr/>
        </p:nvPicPr>
        <p:blipFill>
          <a:blip r:embed="rId3"/>
          <a:stretch/>
        </p:blipFill>
        <p:spPr>
          <a:xfrm>
            <a:off x="5694480" y="3540240"/>
            <a:ext cx="803160" cy="1832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739880" y="4051440"/>
            <a:ext cx="1373040" cy="69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053040" y="4292640"/>
            <a:ext cx="15796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4762440"/>
            <a:ext cx="1200240" cy="1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9680" y="2200320"/>
            <a:ext cx="140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b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/Pb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1320" y="2187720"/>
            <a:ext cx="114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/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3680" y="898560"/>
            <a:ext cx="87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et accumulateur peut fonctionner de deux façon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5920" y="1812960"/>
            <a:ext cx="2397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spontan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génér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décha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16520" y="1812960"/>
            <a:ext cx="2330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Électro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forc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récepte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812960"/>
            <a:ext cx="2578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type de dipô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fonctionn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27480" y="1714680"/>
            <a:ext cx="0" cy="330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53160" y="1724040"/>
            <a:ext cx="0" cy="330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85320" y="1720800"/>
            <a:ext cx="0" cy="330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27480" y="1720800"/>
            <a:ext cx="485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93800" y="2703240"/>
            <a:ext cx="7389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87320" y="3541320"/>
            <a:ext cx="7389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93800" y="4322520"/>
            <a:ext cx="7389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93800" y="5027400"/>
            <a:ext cx="7389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93800" y="2711520"/>
            <a:ext cx="0" cy="23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2000" y="2676600"/>
            <a:ext cx="8296200" cy="29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680" y="1638360"/>
            <a:ext cx="2866680" cy="22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0280" y="1600200"/>
            <a:ext cx="762948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1704960"/>
            <a:ext cx="495360" cy="139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886880" y="1628640"/>
            <a:ext cx="628560" cy="122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3680" y="898560"/>
            <a:ext cx="87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et accumulateur peut fonctionner de deux façon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5920" y="1812960"/>
            <a:ext cx="2397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spontan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génér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décha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16520" y="1812960"/>
            <a:ext cx="2330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Électro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forc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récepte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1812960"/>
            <a:ext cx="2578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type de dipô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fonctionn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27480" y="1714680"/>
            <a:ext cx="0" cy="330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53160" y="1724040"/>
            <a:ext cx="0" cy="330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85320" y="1720800"/>
            <a:ext cx="12600" cy="330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27480" y="1720800"/>
            <a:ext cx="485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93800" y="2703240"/>
            <a:ext cx="7389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87320" y="3541320"/>
            <a:ext cx="7389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93800" y="4322520"/>
            <a:ext cx="7389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793800" y="5027400"/>
            <a:ext cx="7389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93800" y="2711520"/>
            <a:ext cx="0" cy="23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4600" y="3552840"/>
            <a:ext cx="8296200" cy="20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3680" y="898560"/>
            <a:ext cx="87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et accumulateur peut fonctionner de deux façon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5920" y="1812960"/>
            <a:ext cx="2397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spontan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génér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décha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16520" y="1812960"/>
            <a:ext cx="2330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Électro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forc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récepte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812960"/>
            <a:ext cx="2578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type de dipô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fonctionn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27480" y="1714680"/>
            <a:ext cx="0" cy="330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53160" y="1724040"/>
            <a:ext cx="0" cy="330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185320" y="1720800"/>
            <a:ext cx="12600" cy="330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27480" y="1720800"/>
            <a:ext cx="485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93800" y="2703240"/>
            <a:ext cx="7389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87320" y="3541320"/>
            <a:ext cx="7389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93800" y="4322520"/>
            <a:ext cx="7389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93800" y="5027400"/>
            <a:ext cx="7389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93800" y="2711520"/>
            <a:ext cx="0" cy="23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4600" y="4340160"/>
            <a:ext cx="8296200" cy="127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'accumulateur au p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3680" y="898560"/>
            <a:ext cx="87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et accumulateur peut fonctionner de deux façon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55920" y="1812960"/>
            <a:ext cx="2397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spontan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génér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décha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16520" y="1812960"/>
            <a:ext cx="2330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Électro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forc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récepte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1812960"/>
            <a:ext cx="2578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type de dipô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fonctionn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27480" y="1714680"/>
            <a:ext cx="0" cy="330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53160" y="1724040"/>
            <a:ext cx="0" cy="330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85320" y="1720800"/>
            <a:ext cx="12600" cy="331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27480" y="1720800"/>
            <a:ext cx="485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3800" y="2703240"/>
            <a:ext cx="7389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787320" y="3541320"/>
            <a:ext cx="7389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93800" y="4322520"/>
            <a:ext cx="7389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93800" y="5027400"/>
            <a:ext cx="7389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93800" y="2711520"/>
            <a:ext cx="0" cy="23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9:10:04Z</dcterms:created>
  <dc:creator>dulaurans</dc:creator>
  <dc:description/>
  <dc:language>en-US</dc:language>
  <cp:lastModifiedBy>dulaurans</cp:lastModifiedBy>
  <dcterms:modified xsi:type="dcterms:W3CDTF">2003-04-01T08:31:00Z</dcterms:modified>
  <cp:revision>37</cp:revision>
  <dc:subject/>
  <dc:title>accumulateur au plomb</dc:title>
</cp:coreProperties>
</file>