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A3A-90BF-4181-9ADE-6A0EB33D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EAA-C1E5-44C3-B9AC-E40CC54A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59C-97BF-4C2E-A9FB-6F5C1B24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B81-247B-4ED4-8712-F6886632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BB3-381F-47D0-8E09-97BF4BBC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D6F-3B23-46BB-BDB0-96AD937C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031-2B16-416F-AB88-01CADB03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AB8-68E5-4ED1-8151-B5725A9D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4B2-00BD-4A7C-B5DF-71BFF060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DA7-9F13-46E1-A340-9B82D66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C65-0784-429B-8D19-F323E6E8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E11-D3C8-4E7E-8AF1-6033450B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1AD2-E363-44A5-B52F-1E343DF35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206360"/>
            <a:ext cx="883908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 ’électrolyse cuivre / brom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75520" y="628668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.   DULAUR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3898800" y="4788000"/>
            <a:ext cx="1143000" cy="901440"/>
          </a:xfrm>
          <a:custGeom>
            <a:avLst/>
            <a:gdLst>
              <a:gd name="textAreaLeft" fmla="*/ 58320 w 1143000"/>
              <a:gd name="textAreaRight" fmla="*/ 1084680 w 1143000"/>
              <a:gd name="textAreaTop" fmla="*/ 58320 h 901440"/>
              <a:gd name="textAreaBottom" fmla="*/ 843120 h 901440"/>
            </a:gdLst>
            <a:ahLst/>
            <a:rect l="textAreaLeft" t="textAreaTop" r="textAreaRight" b="textAreaBottom"/>
            <a:pathLst>
              <a:path w="27386" h="21600">
                <a:moveTo>
                  <a:pt x="0" y="0"/>
                </a:moveTo>
                <a:lnTo>
                  <a:pt x="27386" y="0"/>
                </a:lnTo>
                <a:lnTo>
                  <a:pt x="27386" y="21600"/>
                </a:lnTo>
                <a:lnTo>
                  <a:pt x="0" y="21600"/>
                </a:lnTo>
                <a:close/>
              </a:path>
              <a:path fill="lightenLess" w="27386" h="21600">
                <a:moveTo>
                  <a:pt x="0" y="0"/>
                </a:moveTo>
                <a:lnTo>
                  <a:pt x="27386" y="0"/>
                </a:lnTo>
                <a:lnTo>
                  <a:pt x="25986" y="1400"/>
                </a:lnTo>
                <a:lnTo>
                  <a:pt x="1400" y="1400"/>
                </a:lnTo>
                <a:close/>
              </a:path>
              <a:path fill="darken" w="27386" h="21600">
                <a:moveTo>
                  <a:pt x="27386" y="0"/>
                </a:moveTo>
                <a:lnTo>
                  <a:pt x="27386" y="21600"/>
                </a:lnTo>
                <a:lnTo>
                  <a:pt x="25986" y="20200"/>
                </a:lnTo>
                <a:lnTo>
                  <a:pt x="25986" y="1400"/>
                </a:lnTo>
                <a:close/>
              </a:path>
              <a:path fill="darkenLess" w="27386" h="21600">
                <a:moveTo>
                  <a:pt x="27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6" y="20200"/>
                </a:lnTo>
                <a:close/>
              </a:path>
              <a:path fill="lighten" w="27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6" h="21600">
                <a:moveTo>
                  <a:pt x="6686" y="3794"/>
                </a:moveTo>
                <a:lnTo>
                  <a:pt x="20699" y="10800"/>
                </a:lnTo>
                <a:lnTo>
                  <a:pt x="6686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fond-electrolyse2-2" descr=""/>
          <p:cNvPicPr/>
          <p:nvPr/>
        </p:nvPicPr>
        <p:blipFill>
          <a:blip r:embed="rId1"/>
          <a:stretch/>
        </p:blipFill>
        <p:spPr>
          <a:xfrm>
            <a:off x="2620800" y="2751120"/>
            <a:ext cx="3419640" cy="36673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6000" y="5784840"/>
            <a:ext cx="372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e bromu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uivre (II)  :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2 B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85880" y="5187600"/>
            <a:ext cx="134640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898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électrons sont libérés par l ’oxydation des ions Br</a:t>
            </a:r>
            <a:r>
              <a:rPr b="1" lang="fr-FR" sz="3200" spc="-1" strike="noStrike" baseline="30000">
                <a:solidFill>
                  <a:srgbClr val="99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046320" y="1676520"/>
            <a:ext cx="3052080" cy="1377720"/>
            <a:chOff x="3046320" y="1676520"/>
            <a:chExt cx="3052080" cy="1377720"/>
          </a:xfrm>
        </p:grpSpPr>
        <p:sp>
          <p:nvSpPr>
            <p:cNvPr id="356" name=""/>
            <p:cNvSpPr/>
            <p:nvPr/>
          </p:nvSpPr>
          <p:spPr>
            <a:xfrm>
              <a:off x="4075200" y="2038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97080" y="234936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5956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9908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67120" y="22352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4737240" y="2143080"/>
              <a:ext cx="171360" cy="177840"/>
              <a:chOff x="4737240" y="2143080"/>
              <a:chExt cx="171360" cy="177840"/>
            </a:xfrm>
          </p:grpSpPr>
          <p:sp>
            <p:nvSpPr>
              <p:cNvPr id="362" name=""/>
              <p:cNvSpPr/>
              <p:nvPr/>
            </p:nvSpPr>
            <p:spPr>
              <a:xfrm>
                <a:off x="4737240" y="22287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22200" y="214308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4628520" y="167652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0680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4632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106800" y="2289240"/>
            <a:ext cx="2848320" cy="478800"/>
            <a:chOff x="3106800" y="2289240"/>
            <a:chExt cx="2848320" cy="478800"/>
          </a:xfrm>
        </p:grpSpPr>
        <p:grpSp>
          <p:nvGrpSpPr>
            <p:cNvPr id="368" name=""/>
            <p:cNvGrpSpPr/>
            <p:nvPr/>
          </p:nvGrpSpPr>
          <p:grpSpPr>
            <a:xfrm>
              <a:off x="5659560" y="2289240"/>
              <a:ext cx="295560" cy="459720"/>
              <a:chOff x="5659560" y="2289240"/>
              <a:chExt cx="295560" cy="459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659560" y="239220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689080" y="2289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106800" y="2308320"/>
              <a:ext cx="295560" cy="459720"/>
              <a:chOff x="3106800" y="2308320"/>
              <a:chExt cx="295560" cy="459720"/>
            </a:xfrm>
          </p:grpSpPr>
          <p:sp>
            <p:nvSpPr>
              <p:cNvPr id="372" name=""/>
              <p:cNvSpPr/>
              <p:nvPr/>
            </p:nvSpPr>
            <p:spPr>
              <a:xfrm flipV="1">
                <a:off x="3106800" y="241092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36320" y="23083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4" name=""/>
          <p:cNvGrpSpPr/>
          <p:nvPr/>
        </p:nvGrpSpPr>
        <p:grpSpPr>
          <a:xfrm>
            <a:off x="2612160" y="1859040"/>
            <a:ext cx="2939400" cy="1052280"/>
            <a:chOff x="2612160" y="1859040"/>
            <a:chExt cx="2939400" cy="1052280"/>
          </a:xfrm>
        </p:grpSpPr>
        <p:grpSp>
          <p:nvGrpSpPr>
            <p:cNvPr id="375" name=""/>
            <p:cNvGrpSpPr/>
            <p:nvPr/>
          </p:nvGrpSpPr>
          <p:grpSpPr>
            <a:xfrm>
              <a:off x="2612160" y="2327400"/>
              <a:ext cx="385200" cy="520560"/>
              <a:chOff x="2612160" y="2327400"/>
              <a:chExt cx="385200" cy="520560"/>
            </a:xfrm>
          </p:grpSpPr>
          <p:sp>
            <p:nvSpPr>
              <p:cNvPr id="376" name=""/>
              <p:cNvSpPr/>
              <p:nvPr/>
            </p:nvSpPr>
            <p:spPr>
              <a:xfrm flipV="1">
                <a:off x="2952720" y="23461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612160" y="23274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162040" y="2390760"/>
              <a:ext cx="389520" cy="520560"/>
              <a:chOff x="5162040" y="2390760"/>
              <a:chExt cx="389520" cy="520560"/>
            </a:xfrm>
          </p:grpSpPr>
          <p:sp>
            <p:nvSpPr>
              <p:cNvPr id="379" name=""/>
              <p:cNvSpPr/>
              <p:nvPr/>
            </p:nvSpPr>
            <p:spPr>
              <a:xfrm>
                <a:off x="5551560" y="239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162040" y="23907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296520" y="1859040"/>
              <a:ext cx="428040" cy="520560"/>
              <a:chOff x="3296520" y="1859040"/>
              <a:chExt cx="428040" cy="520560"/>
            </a:xfrm>
          </p:grpSpPr>
          <p:sp>
            <p:nvSpPr>
              <p:cNvPr id="382" name=""/>
              <p:cNvSpPr/>
              <p:nvPr/>
            </p:nvSpPr>
            <p:spPr>
              <a:xfrm>
                <a:off x="3296520" y="2279520"/>
                <a:ext cx="407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3339360" y="18590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077280" y="5066640"/>
            <a:ext cx="277200" cy="495720"/>
            <a:chOff x="3077280" y="5066640"/>
            <a:chExt cx="277200" cy="495720"/>
          </a:xfrm>
        </p:grpSpPr>
        <p:sp>
          <p:nvSpPr>
            <p:cNvPr id="385" name=""/>
            <p:cNvSpPr/>
            <p:nvPr/>
          </p:nvSpPr>
          <p:spPr>
            <a:xfrm rot="4197600">
              <a:off x="3101400" y="5101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15160" y="5180760"/>
              <a:ext cx="139320" cy="3816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615560" y="5802480"/>
            <a:ext cx="487080" cy="311760"/>
            <a:chOff x="4615560" y="5802480"/>
            <a:chExt cx="487080" cy="311760"/>
          </a:xfrm>
        </p:grpSpPr>
        <p:sp>
          <p:nvSpPr>
            <p:cNvPr id="388" name=""/>
            <p:cNvSpPr/>
            <p:nvPr/>
          </p:nvSpPr>
          <p:spPr>
            <a:xfrm rot="20110800">
              <a:off x="4647960" y="5875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4733640" y="5802480"/>
              <a:ext cx="369000" cy="1706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78920" y="4197240"/>
            <a:ext cx="205560" cy="496800"/>
            <a:chOff x="5578920" y="4197240"/>
            <a:chExt cx="205560" cy="496800"/>
          </a:xfrm>
        </p:grpSpPr>
        <p:sp>
          <p:nvSpPr>
            <p:cNvPr id="391" name=""/>
            <p:cNvSpPr/>
            <p:nvPr/>
          </p:nvSpPr>
          <p:spPr>
            <a:xfrm rot="16240800">
              <a:off x="5573520" y="44830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668920" y="4197240"/>
              <a:ext cx="4680" cy="4064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344560" y="5078520"/>
            <a:ext cx="384120" cy="454680"/>
            <a:chOff x="5344560" y="5078520"/>
            <a:chExt cx="384120" cy="454680"/>
          </a:xfrm>
        </p:grpSpPr>
        <p:sp>
          <p:nvSpPr>
            <p:cNvPr id="394" name=""/>
            <p:cNvSpPr/>
            <p:nvPr/>
          </p:nvSpPr>
          <p:spPr>
            <a:xfrm rot="7774200">
              <a:off x="5473440" y="51246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344560" y="5219640"/>
              <a:ext cx="258840" cy="313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675600" y="5747400"/>
            <a:ext cx="481320" cy="336960"/>
            <a:chOff x="3675600" y="5747400"/>
            <a:chExt cx="481320" cy="336960"/>
          </a:xfrm>
        </p:grpSpPr>
        <p:sp>
          <p:nvSpPr>
            <p:cNvPr id="397" name=""/>
            <p:cNvSpPr/>
            <p:nvPr/>
          </p:nvSpPr>
          <p:spPr>
            <a:xfrm rot="12710400">
              <a:off x="3903120" y="583956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3675600" y="5747400"/>
              <a:ext cx="345240" cy="214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000600" y="4210200"/>
            <a:ext cx="205560" cy="496080"/>
            <a:chOff x="3000600" y="4210200"/>
            <a:chExt cx="205560" cy="496080"/>
          </a:xfrm>
        </p:grpSpPr>
        <p:sp>
          <p:nvSpPr>
            <p:cNvPr id="400" name=""/>
            <p:cNvSpPr/>
            <p:nvPr/>
          </p:nvSpPr>
          <p:spPr>
            <a:xfrm rot="16240800">
              <a:off x="2995560" y="4495320"/>
              <a:ext cx="21564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090600" y="4210200"/>
              <a:ext cx="4680" cy="406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449400" y="5163120"/>
            <a:ext cx="497880" cy="208080"/>
            <a:chOff x="6449400" y="5163120"/>
            <a:chExt cx="497880" cy="208080"/>
          </a:xfrm>
        </p:grpSpPr>
        <p:sp>
          <p:nvSpPr>
            <p:cNvPr id="403" name=""/>
            <p:cNvSpPr/>
            <p:nvPr/>
          </p:nvSpPr>
          <p:spPr>
            <a:xfrm rot="78600">
              <a:off x="6451560" y="5165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40840" y="5254200"/>
              <a:ext cx="406440" cy="93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7099200" y="483876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6449400" y="6153840"/>
            <a:ext cx="497880" cy="208080"/>
            <a:chOff x="6449400" y="6153840"/>
            <a:chExt cx="497880" cy="208080"/>
          </a:xfrm>
        </p:grpSpPr>
        <p:sp>
          <p:nvSpPr>
            <p:cNvPr id="407" name=""/>
            <p:cNvSpPr/>
            <p:nvPr/>
          </p:nvSpPr>
          <p:spPr>
            <a:xfrm rot="78600">
              <a:off x="6451560" y="61560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40840" y="6244920"/>
              <a:ext cx="406440" cy="93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7099200" y="582948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5499000" y="3047760"/>
            <a:ext cx="2971080" cy="1104480"/>
            <a:chOff x="5499000" y="3047760"/>
            <a:chExt cx="2971080" cy="1104480"/>
          </a:xfrm>
        </p:grpSpPr>
        <p:sp>
          <p:nvSpPr>
            <p:cNvPr id="411" name=""/>
            <p:cNvSpPr/>
            <p:nvPr/>
          </p:nvSpPr>
          <p:spPr>
            <a:xfrm flipV="1">
              <a:off x="5499000" y="304776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17480" y="3174840"/>
              <a:ext cx="235260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Oxy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 Br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= B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+ 2 e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fond-electrolyse2-2" descr=""/>
          <p:cNvPicPr/>
          <p:nvPr/>
        </p:nvPicPr>
        <p:blipFill>
          <a:blip r:embed="rId1"/>
          <a:stretch/>
        </p:blipFill>
        <p:spPr>
          <a:xfrm>
            <a:off x="2620800" y="2751120"/>
            <a:ext cx="3419640" cy="36673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6000" y="5784840"/>
            <a:ext cx="372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e bromu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uivre (II)  :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2 B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1685880" y="5187600"/>
            <a:ext cx="134640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898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électrons sont consommés par la réduction des ions Cu</a:t>
            </a:r>
            <a:r>
              <a:rPr b="1" lang="fr-FR" sz="3200" spc="-1" strike="noStrike" baseline="30000">
                <a:solidFill>
                  <a:srgbClr val="990000"/>
                </a:solidFill>
                <a:latin typeface="Times New Roman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046320" y="1676520"/>
            <a:ext cx="3052080" cy="1377720"/>
            <a:chOff x="3046320" y="1676520"/>
            <a:chExt cx="3052080" cy="1377720"/>
          </a:xfrm>
        </p:grpSpPr>
        <p:sp>
          <p:nvSpPr>
            <p:cNvPr id="419" name=""/>
            <p:cNvSpPr/>
            <p:nvPr/>
          </p:nvSpPr>
          <p:spPr>
            <a:xfrm>
              <a:off x="4075200" y="2038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97080" y="234936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5956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9908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67120" y="22352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4737240" y="2143080"/>
              <a:ext cx="171360" cy="177840"/>
              <a:chOff x="4737240" y="2143080"/>
              <a:chExt cx="171360" cy="177840"/>
            </a:xfrm>
          </p:grpSpPr>
          <p:sp>
            <p:nvSpPr>
              <p:cNvPr id="425" name=""/>
              <p:cNvSpPr/>
              <p:nvPr/>
            </p:nvSpPr>
            <p:spPr>
              <a:xfrm>
                <a:off x="4737240" y="22287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822200" y="214308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4628520" y="167652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0680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4632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106800" y="2289240"/>
            <a:ext cx="2848320" cy="478800"/>
            <a:chOff x="3106800" y="2289240"/>
            <a:chExt cx="2848320" cy="478800"/>
          </a:xfrm>
        </p:grpSpPr>
        <p:grpSp>
          <p:nvGrpSpPr>
            <p:cNvPr id="431" name=""/>
            <p:cNvGrpSpPr/>
            <p:nvPr/>
          </p:nvGrpSpPr>
          <p:grpSpPr>
            <a:xfrm>
              <a:off x="5659560" y="2289240"/>
              <a:ext cx="295560" cy="459720"/>
              <a:chOff x="5659560" y="2289240"/>
              <a:chExt cx="295560" cy="459720"/>
            </a:xfrm>
          </p:grpSpPr>
          <p:sp>
            <p:nvSpPr>
              <p:cNvPr id="432" name=""/>
              <p:cNvSpPr/>
              <p:nvPr/>
            </p:nvSpPr>
            <p:spPr>
              <a:xfrm>
                <a:off x="5659560" y="239220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89080" y="2289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3106800" y="2308320"/>
              <a:ext cx="295560" cy="459720"/>
              <a:chOff x="3106800" y="2308320"/>
              <a:chExt cx="295560" cy="45972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3106800" y="241092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36320" y="23083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2612160" y="1859040"/>
            <a:ext cx="2939400" cy="1052280"/>
            <a:chOff x="2612160" y="1859040"/>
            <a:chExt cx="2939400" cy="1052280"/>
          </a:xfrm>
        </p:grpSpPr>
        <p:grpSp>
          <p:nvGrpSpPr>
            <p:cNvPr id="438" name=""/>
            <p:cNvGrpSpPr/>
            <p:nvPr/>
          </p:nvGrpSpPr>
          <p:grpSpPr>
            <a:xfrm>
              <a:off x="2612160" y="2327400"/>
              <a:ext cx="385200" cy="520560"/>
              <a:chOff x="2612160" y="2327400"/>
              <a:chExt cx="385200" cy="520560"/>
            </a:xfrm>
          </p:grpSpPr>
          <p:sp>
            <p:nvSpPr>
              <p:cNvPr id="439" name=""/>
              <p:cNvSpPr/>
              <p:nvPr/>
            </p:nvSpPr>
            <p:spPr>
              <a:xfrm flipV="1">
                <a:off x="2952720" y="23461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612160" y="23274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162040" y="2390760"/>
              <a:ext cx="389520" cy="520560"/>
              <a:chOff x="5162040" y="2390760"/>
              <a:chExt cx="389520" cy="520560"/>
            </a:xfrm>
          </p:grpSpPr>
          <p:sp>
            <p:nvSpPr>
              <p:cNvPr id="442" name=""/>
              <p:cNvSpPr/>
              <p:nvPr/>
            </p:nvSpPr>
            <p:spPr>
              <a:xfrm>
                <a:off x="5551560" y="239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62040" y="23907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296520" y="1859040"/>
              <a:ext cx="428040" cy="520560"/>
              <a:chOff x="3296520" y="1859040"/>
              <a:chExt cx="428040" cy="520560"/>
            </a:xfrm>
          </p:grpSpPr>
          <p:sp>
            <p:nvSpPr>
              <p:cNvPr id="445" name=""/>
              <p:cNvSpPr/>
              <p:nvPr/>
            </p:nvSpPr>
            <p:spPr>
              <a:xfrm>
                <a:off x="3296520" y="2279520"/>
                <a:ext cx="407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339360" y="18590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3077280" y="5066640"/>
            <a:ext cx="277200" cy="495720"/>
            <a:chOff x="3077280" y="5066640"/>
            <a:chExt cx="277200" cy="495720"/>
          </a:xfrm>
        </p:grpSpPr>
        <p:sp>
          <p:nvSpPr>
            <p:cNvPr id="448" name=""/>
            <p:cNvSpPr/>
            <p:nvPr/>
          </p:nvSpPr>
          <p:spPr>
            <a:xfrm rot="4197600">
              <a:off x="3101400" y="5101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15160" y="5180760"/>
              <a:ext cx="139320" cy="3816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615560" y="5802480"/>
            <a:ext cx="487080" cy="311760"/>
            <a:chOff x="4615560" y="5802480"/>
            <a:chExt cx="487080" cy="311760"/>
          </a:xfrm>
        </p:grpSpPr>
        <p:sp>
          <p:nvSpPr>
            <p:cNvPr id="451" name=""/>
            <p:cNvSpPr/>
            <p:nvPr/>
          </p:nvSpPr>
          <p:spPr>
            <a:xfrm rot="20110800">
              <a:off x="4647960" y="5875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733640" y="5802480"/>
              <a:ext cx="369000" cy="1706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578920" y="4197240"/>
            <a:ext cx="205560" cy="496800"/>
            <a:chOff x="5578920" y="4197240"/>
            <a:chExt cx="205560" cy="496800"/>
          </a:xfrm>
        </p:grpSpPr>
        <p:sp>
          <p:nvSpPr>
            <p:cNvPr id="454" name=""/>
            <p:cNvSpPr/>
            <p:nvPr/>
          </p:nvSpPr>
          <p:spPr>
            <a:xfrm rot="16240800">
              <a:off x="5573520" y="44830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668920" y="4197240"/>
              <a:ext cx="4680" cy="4064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344560" y="5078520"/>
            <a:ext cx="384120" cy="454680"/>
            <a:chOff x="5344560" y="5078520"/>
            <a:chExt cx="384120" cy="454680"/>
          </a:xfrm>
        </p:grpSpPr>
        <p:sp>
          <p:nvSpPr>
            <p:cNvPr id="457" name=""/>
            <p:cNvSpPr/>
            <p:nvPr/>
          </p:nvSpPr>
          <p:spPr>
            <a:xfrm rot="7774200">
              <a:off x="5473440" y="51246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344560" y="5219640"/>
              <a:ext cx="258840" cy="313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675600" y="5747400"/>
            <a:ext cx="481320" cy="336960"/>
            <a:chOff x="3675600" y="5747400"/>
            <a:chExt cx="481320" cy="336960"/>
          </a:xfrm>
        </p:grpSpPr>
        <p:sp>
          <p:nvSpPr>
            <p:cNvPr id="460" name=""/>
            <p:cNvSpPr/>
            <p:nvPr/>
          </p:nvSpPr>
          <p:spPr>
            <a:xfrm rot="12710400">
              <a:off x="3903120" y="583956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3675600" y="5747400"/>
              <a:ext cx="345240" cy="214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000600" y="4210200"/>
            <a:ext cx="205560" cy="496080"/>
            <a:chOff x="3000600" y="4210200"/>
            <a:chExt cx="205560" cy="496080"/>
          </a:xfrm>
        </p:grpSpPr>
        <p:sp>
          <p:nvSpPr>
            <p:cNvPr id="463" name=""/>
            <p:cNvSpPr/>
            <p:nvPr/>
          </p:nvSpPr>
          <p:spPr>
            <a:xfrm rot="16240800">
              <a:off x="2995560" y="4495320"/>
              <a:ext cx="21564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3090600" y="4210200"/>
              <a:ext cx="4680" cy="406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499000" y="3047760"/>
            <a:ext cx="2971080" cy="1104480"/>
            <a:chOff x="5499000" y="3047760"/>
            <a:chExt cx="2971080" cy="1104480"/>
          </a:xfrm>
        </p:grpSpPr>
        <p:sp>
          <p:nvSpPr>
            <p:cNvPr id="466" name=""/>
            <p:cNvSpPr/>
            <p:nvPr/>
          </p:nvSpPr>
          <p:spPr>
            <a:xfrm flipV="1">
              <a:off x="5499000" y="304776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117480" y="3174840"/>
              <a:ext cx="235260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Oxy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 Br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= B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+ 2 e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449400" y="5163120"/>
            <a:ext cx="497880" cy="208080"/>
            <a:chOff x="6449400" y="5163120"/>
            <a:chExt cx="497880" cy="208080"/>
          </a:xfrm>
        </p:grpSpPr>
        <p:sp>
          <p:nvSpPr>
            <p:cNvPr id="469" name=""/>
            <p:cNvSpPr/>
            <p:nvPr/>
          </p:nvSpPr>
          <p:spPr>
            <a:xfrm rot="78600">
              <a:off x="6451560" y="5165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40840" y="5254200"/>
              <a:ext cx="406440" cy="93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7099200" y="483876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449400" y="6153840"/>
            <a:ext cx="497880" cy="208080"/>
            <a:chOff x="6449400" y="6153840"/>
            <a:chExt cx="497880" cy="208080"/>
          </a:xfrm>
        </p:grpSpPr>
        <p:sp>
          <p:nvSpPr>
            <p:cNvPr id="473" name=""/>
            <p:cNvSpPr/>
            <p:nvPr/>
          </p:nvSpPr>
          <p:spPr>
            <a:xfrm rot="78600">
              <a:off x="6451560" y="61560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40840" y="6244920"/>
              <a:ext cx="406440" cy="93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7099200" y="582948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17440" y="3022200"/>
            <a:ext cx="2728800" cy="1201680"/>
            <a:chOff x="217440" y="3022200"/>
            <a:chExt cx="2728800" cy="1201680"/>
          </a:xfrm>
        </p:grpSpPr>
        <p:sp>
          <p:nvSpPr>
            <p:cNvPr id="477" name=""/>
            <p:cNvSpPr/>
            <p:nvPr/>
          </p:nvSpPr>
          <p:spPr>
            <a:xfrm>
              <a:off x="217440" y="3276720"/>
              <a:ext cx="223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é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+ 2 e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= 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946240" y="302220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fond-electrolyse2-3" descr=""/>
          <p:cNvPicPr/>
          <p:nvPr/>
        </p:nvPicPr>
        <p:blipFill>
          <a:blip r:embed="rId1"/>
          <a:stretch/>
        </p:blipFill>
        <p:spPr>
          <a:xfrm>
            <a:off x="2614680" y="2746440"/>
            <a:ext cx="3419280" cy="36669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6000" y="5784840"/>
            <a:ext cx="372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e bromu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uivre (II)  :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2 B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685880" y="5187600"/>
            <a:ext cx="134640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898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électrons sont consommés par la réduction des ions Cu</a:t>
            </a:r>
            <a:r>
              <a:rPr b="1" lang="fr-FR" sz="3200" spc="-1" strike="noStrike" baseline="30000">
                <a:solidFill>
                  <a:srgbClr val="990000"/>
                </a:solidFill>
                <a:latin typeface="Times New Roman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046320" y="1676520"/>
            <a:ext cx="3052080" cy="1377720"/>
            <a:chOff x="3046320" y="1676520"/>
            <a:chExt cx="3052080" cy="1377720"/>
          </a:xfrm>
        </p:grpSpPr>
        <p:sp>
          <p:nvSpPr>
            <p:cNvPr id="485" name=""/>
            <p:cNvSpPr/>
            <p:nvPr/>
          </p:nvSpPr>
          <p:spPr>
            <a:xfrm>
              <a:off x="4075200" y="2038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97080" y="234936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956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08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67120" y="22352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4737240" y="2143080"/>
              <a:ext cx="171360" cy="177840"/>
              <a:chOff x="4737240" y="2143080"/>
              <a:chExt cx="171360" cy="17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4737240" y="22287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22200" y="214308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628520" y="167652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0680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4632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106800" y="2289240"/>
            <a:ext cx="2848320" cy="478800"/>
            <a:chOff x="3106800" y="2289240"/>
            <a:chExt cx="2848320" cy="478800"/>
          </a:xfrm>
        </p:grpSpPr>
        <p:grpSp>
          <p:nvGrpSpPr>
            <p:cNvPr id="497" name=""/>
            <p:cNvGrpSpPr/>
            <p:nvPr/>
          </p:nvGrpSpPr>
          <p:grpSpPr>
            <a:xfrm>
              <a:off x="5659560" y="2289240"/>
              <a:ext cx="295560" cy="459720"/>
              <a:chOff x="5659560" y="2289240"/>
              <a:chExt cx="295560" cy="459720"/>
            </a:xfrm>
          </p:grpSpPr>
          <p:sp>
            <p:nvSpPr>
              <p:cNvPr id="498" name=""/>
              <p:cNvSpPr/>
              <p:nvPr/>
            </p:nvSpPr>
            <p:spPr>
              <a:xfrm>
                <a:off x="5659560" y="239220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689080" y="2289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3106800" y="2308320"/>
              <a:ext cx="295560" cy="459720"/>
              <a:chOff x="3106800" y="2308320"/>
              <a:chExt cx="295560" cy="459720"/>
            </a:xfrm>
          </p:grpSpPr>
          <p:sp>
            <p:nvSpPr>
              <p:cNvPr id="501" name=""/>
              <p:cNvSpPr/>
              <p:nvPr/>
            </p:nvSpPr>
            <p:spPr>
              <a:xfrm flipV="1">
                <a:off x="3106800" y="241092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36320" y="23083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2612160" y="1859040"/>
            <a:ext cx="2939400" cy="1052280"/>
            <a:chOff x="2612160" y="1859040"/>
            <a:chExt cx="2939400" cy="1052280"/>
          </a:xfrm>
        </p:grpSpPr>
        <p:grpSp>
          <p:nvGrpSpPr>
            <p:cNvPr id="504" name=""/>
            <p:cNvGrpSpPr/>
            <p:nvPr/>
          </p:nvGrpSpPr>
          <p:grpSpPr>
            <a:xfrm>
              <a:off x="2612160" y="2327400"/>
              <a:ext cx="385200" cy="520560"/>
              <a:chOff x="2612160" y="2327400"/>
              <a:chExt cx="385200" cy="520560"/>
            </a:xfrm>
          </p:grpSpPr>
          <p:sp>
            <p:nvSpPr>
              <p:cNvPr id="505" name=""/>
              <p:cNvSpPr/>
              <p:nvPr/>
            </p:nvSpPr>
            <p:spPr>
              <a:xfrm flipV="1">
                <a:off x="2952720" y="23461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612160" y="23274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162040" y="2390760"/>
              <a:ext cx="389520" cy="520560"/>
              <a:chOff x="5162040" y="2390760"/>
              <a:chExt cx="389520" cy="520560"/>
            </a:xfrm>
          </p:grpSpPr>
          <p:sp>
            <p:nvSpPr>
              <p:cNvPr id="508" name=""/>
              <p:cNvSpPr/>
              <p:nvPr/>
            </p:nvSpPr>
            <p:spPr>
              <a:xfrm>
                <a:off x="5551560" y="239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62040" y="23907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296520" y="1859040"/>
              <a:ext cx="428040" cy="520560"/>
              <a:chOff x="3296520" y="1859040"/>
              <a:chExt cx="428040" cy="520560"/>
            </a:xfrm>
          </p:grpSpPr>
          <p:sp>
            <p:nvSpPr>
              <p:cNvPr id="511" name=""/>
              <p:cNvSpPr/>
              <p:nvPr/>
            </p:nvSpPr>
            <p:spPr>
              <a:xfrm>
                <a:off x="3296520" y="2279520"/>
                <a:ext cx="407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3339360" y="18590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3077280" y="5066640"/>
            <a:ext cx="277200" cy="495720"/>
            <a:chOff x="3077280" y="5066640"/>
            <a:chExt cx="277200" cy="495720"/>
          </a:xfrm>
        </p:grpSpPr>
        <p:sp>
          <p:nvSpPr>
            <p:cNvPr id="514" name=""/>
            <p:cNvSpPr/>
            <p:nvPr/>
          </p:nvSpPr>
          <p:spPr>
            <a:xfrm rot="4197600">
              <a:off x="3101400" y="5101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15160" y="5180760"/>
              <a:ext cx="139320" cy="3816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615560" y="5802480"/>
            <a:ext cx="487080" cy="311760"/>
            <a:chOff x="4615560" y="5802480"/>
            <a:chExt cx="487080" cy="311760"/>
          </a:xfrm>
        </p:grpSpPr>
        <p:sp>
          <p:nvSpPr>
            <p:cNvPr id="517" name=""/>
            <p:cNvSpPr/>
            <p:nvPr/>
          </p:nvSpPr>
          <p:spPr>
            <a:xfrm rot="20110800">
              <a:off x="4647960" y="5875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733640" y="5802480"/>
              <a:ext cx="369000" cy="1706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578920" y="4197240"/>
            <a:ext cx="205560" cy="496800"/>
            <a:chOff x="5578920" y="4197240"/>
            <a:chExt cx="205560" cy="496800"/>
          </a:xfrm>
        </p:grpSpPr>
        <p:sp>
          <p:nvSpPr>
            <p:cNvPr id="520" name=""/>
            <p:cNvSpPr/>
            <p:nvPr/>
          </p:nvSpPr>
          <p:spPr>
            <a:xfrm rot="16240800">
              <a:off x="5573520" y="44830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5668920" y="4197240"/>
              <a:ext cx="4680" cy="4064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344560" y="5078520"/>
            <a:ext cx="384120" cy="454680"/>
            <a:chOff x="5344560" y="5078520"/>
            <a:chExt cx="384120" cy="454680"/>
          </a:xfrm>
        </p:grpSpPr>
        <p:sp>
          <p:nvSpPr>
            <p:cNvPr id="523" name=""/>
            <p:cNvSpPr/>
            <p:nvPr/>
          </p:nvSpPr>
          <p:spPr>
            <a:xfrm rot="7774200">
              <a:off x="5473440" y="51246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344560" y="5219640"/>
              <a:ext cx="258840" cy="313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675600" y="5747400"/>
            <a:ext cx="481320" cy="336960"/>
            <a:chOff x="3675600" y="5747400"/>
            <a:chExt cx="481320" cy="336960"/>
          </a:xfrm>
        </p:grpSpPr>
        <p:sp>
          <p:nvSpPr>
            <p:cNvPr id="526" name=""/>
            <p:cNvSpPr/>
            <p:nvPr/>
          </p:nvSpPr>
          <p:spPr>
            <a:xfrm rot="12710400">
              <a:off x="3903120" y="583956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3675600" y="5747400"/>
              <a:ext cx="345240" cy="214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00600" y="4210200"/>
            <a:ext cx="205560" cy="496080"/>
            <a:chOff x="3000600" y="4210200"/>
            <a:chExt cx="205560" cy="496080"/>
          </a:xfrm>
        </p:grpSpPr>
        <p:sp>
          <p:nvSpPr>
            <p:cNvPr id="529" name=""/>
            <p:cNvSpPr/>
            <p:nvPr/>
          </p:nvSpPr>
          <p:spPr>
            <a:xfrm rot="16240800">
              <a:off x="2995560" y="4495320"/>
              <a:ext cx="21564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090600" y="4210200"/>
              <a:ext cx="4680" cy="406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499000" y="3047760"/>
            <a:ext cx="2971080" cy="1104480"/>
            <a:chOff x="5499000" y="3047760"/>
            <a:chExt cx="2971080" cy="1104480"/>
          </a:xfrm>
        </p:grpSpPr>
        <p:sp>
          <p:nvSpPr>
            <p:cNvPr id="532" name=""/>
            <p:cNvSpPr/>
            <p:nvPr/>
          </p:nvSpPr>
          <p:spPr>
            <a:xfrm flipV="1">
              <a:off x="5499000" y="304776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17480" y="3174840"/>
              <a:ext cx="235260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Oxy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 Br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= B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+ 2 e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449400" y="5163120"/>
            <a:ext cx="497880" cy="208080"/>
            <a:chOff x="6449400" y="5163120"/>
            <a:chExt cx="497880" cy="208080"/>
          </a:xfrm>
        </p:grpSpPr>
        <p:sp>
          <p:nvSpPr>
            <p:cNvPr id="535" name=""/>
            <p:cNvSpPr/>
            <p:nvPr/>
          </p:nvSpPr>
          <p:spPr>
            <a:xfrm rot="78600">
              <a:off x="6451560" y="5165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40840" y="5254200"/>
              <a:ext cx="406440" cy="93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7099200" y="483876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449400" y="6153840"/>
            <a:ext cx="497880" cy="208080"/>
            <a:chOff x="6449400" y="6153840"/>
            <a:chExt cx="497880" cy="208080"/>
          </a:xfrm>
        </p:grpSpPr>
        <p:sp>
          <p:nvSpPr>
            <p:cNvPr id="539" name=""/>
            <p:cNvSpPr/>
            <p:nvPr/>
          </p:nvSpPr>
          <p:spPr>
            <a:xfrm rot="78600">
              <a:off x="6451560" y="61560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0840" y="6244920"/>
              <a:ext cx="406440" cy="93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099200" y="582948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17440" y="3022200"/>
            <a:ext cx="2728800" cy="1201680"/>
            <a:chOff x="217440" y="3022200"/>
            <a:chExt cx="2728800" cy="1201680"/>
          </a:xfrm>
        </p:grpSpPr>
        <p:sp>
          <p:nvSpPr>
            <p:cNvPr id="543" name=""/>
            <p:cNvSpPr/>
            <p:nvPr/>
          </p:nvSpPr>
          <p:spPr>
            <a:xfrm>
              <a:off x="217440" y="3276720"/>
              <a:ext cx="223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é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+ 2 e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= 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2946240" y="302220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fond-electrolyse2-3" descr=""/>
          <p:cNvPicPr/>
          <p:nvPr/>
        </p:nvPicPr>
        <p:blipFill>
          <a:blip r:embed="rId1"/>
          <a:stretch/>
        </p:blipFill>
        <p:spPr>
          <a:xfrm>
            <a:off x="2614680" y="2746440"/>
            <a:ext cx="3419280" cy="366696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16000" y="5784840"/>
            <a:ext cx="372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e bromu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uivre (II)  :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2 B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685880" y="5187600"/>
            <a:ext cx="134640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permet de définir la nature des électr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3046320" y="1676520"/>
            <a:ext cx="3052080" cy="1377720"/>
            <a:chOff x="3046320" y="1676520"/>
            <a:chExt cx="3052080" cy="1377720"/>
          </a:xfrm>
        </p:grpSpPr>
        <p:sp>
          <p:nvSpPr>
            <p:cNvPr id="551" name=""/>
            <p:cNvSpPr/>
            <p:nvPr/>
          </p:nvSpPr>
          <p:spPr>
            <a:xfrm>
              <a:off x="4075200" y="2038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97080" y="234936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5956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9908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67120" y="22352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4737240" y="2143080"/>
              <a:ext cx="171360" cy="177840"/>
              <a:chOff x="4737240" y="2143080"/>
              <a:chExt cx="171360" cy="177840"/>
            </a:xfrm>
          </p:grpSpPr>
          <p:sp>
            <p:nvSpPr>
              <p:cNvPr id="557" name=""/>
              <p:cNvSpPr/>
              <p:nvPr/>
            </p:nvSpPr>
            <p:spPr>
              <a:xfrm>
                <a:off x="4737240" y="22287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22200" y="214308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4628520" y="167652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0680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632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106800" y="2289240"/>
            <a:ext cx="2848320" cy="478800"/>
            <a:chOff x="3106800" y="2289240"/>
            <a:chExt cx="2848320" cy="478800"/>
          </a:xfrm>
        </p:grpSpPr>
        <p:grpSp>
          <p:nvGrpSpPr>
            <p:cNvPr id="563" name=""/>
            <p:cNvGrpSpPr/>
            <p:nvPr/>
          </p:nvGrpSpPr>
          <p:grpSpPr>
            <a:xfrm>
              <a:off x="5659560" y="2289240"/>
              <a:ext cx="295560" cy="459720"/>
              <a:chOff x="5659560" y="2289240"/>
              <a:chExt cx="295560" cy="459720"/>
            </a:xfrm>
          </p:grpSpPr>
          <p:sp>
            <p:nvSpPr>
              <p:cNvPr id="564" name=""/>
              <p:cNvSpPr/>
              <p:nvPr/>
            </p:nvSpPr>
            <p:spPr>
              <a:xfrm>
                <a:off x="5659560" y="239220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689080" y="2289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3106800" y="2308320"/>
              <a:ext cx="295560" cy="459720"/>
              <a:chOff x="3106800" y="2308320"/>
              <a:chExt cx="295560" cy="459720"/>
            </a:xfrm>
          </p:grpSpPr>
          <p:sp>
            <p:nvSpPr>
              <p:cNvPr id="567" name=""/>
              <p:cNvSpPr/>
              <p:nvPr/>
            </p:nvSpPr>
            <p:spPr>
              <a:xfrm flipV="1">
                <a:off x="3106800" y="241092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136320" y="23083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2612160" y="1859040"/>
            <a:ext cx="2939400" cy="1052280"/>
            <a:chOff x="2612160" y="1859040"/>
            <a:chExt cx="2939400" cy="1052280"/>
          </a:xfrm>
        </p:grpSpPr>
        <p:grpSp>
          <p:nvGrpSpPr>
            <p:cNvPr id="570" name=""/>
            <p:cNvGrpSpPr/>
            <p:nvPr/>
          </p:nvGrpSpPr>
          <p:grpSpPr>
            <a:xfrm>
              <a:off x="2612160" y="2327400"/>
              <a:ext cx="385200" cy="520560"/>
              <a:chOff x="2612160" y="2327400"/>
              <a:chExt cx="385200" cy="520560"/>
            </a:xfrm>
          </p:grpSpPr>
          <p:sp>
            <p:nvSpPr>
              <p:cNvPr id="571" name=""/>
              <p:cNvSpPr/>
              <p:nvPr/>
            </p:nvSpPr>
            <p:spPr>
              <a:xfrm flipV="1">
                <a:off x="2952720" y="23461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612160" y="23274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62040" y="2390760"/>
              <a:ext cx="389520" cy="520560"/>
              <a:chOff x="5162040" y="2390760"/>
              <a:chExt cx="389520" cy="520560"/>
            </a:xfrm>
          </p:grpSpPr>
          <p:sp>
            <p:nvSpPr>
              <p:cNvPr id="574" name=""/>
              <p:cNvSpPr/>
              <p:nvPr/>
            </p:nvSpPr>
            <p:spPr>
              <a:xfrm>
                <a:off x="5551560" y="239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62040" y="23907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3296520" y="1859040"/>
              <a:ext cx="428040" cy="520560"/>
              <a:chOff x="3296520" y="1859040"/>
              <a:chExt cx="428040" cy="520560"/>
            </a:xfrm>
          </p:grpSpPr>
          <p:sp>
            <p:nvSpPr>
              <p:cNvPr id="577" name=""/>
              <p:cNvSpPr/>
              <p:nvPr/>
            </p:nvSpPr>
            <p:spPr>
              <a:xfrm>
                <a:off x="3296520" y="2279520"/>
                <a:ext cx="407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3339360" y="18590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9" name=""/>
          <p:cNvGrpSpPr/>
          <p:nvPr/>
        </p:nvGrpSpPr>
        <p:grpSpPr>
          <a:xfrm>
            <a:off x="3077280" y="5066640"/>
            <a:ext cx="277200" cy="495720"/>
            <a:chOff x="3077280" y="5066640"/>
            <a:chExt cx="277200" cy="495720"/>
          </a:xfrm>
        </p:grpSpPr>
        <p:sp>
          <p:nvSpPr>
            <p:cNvPr id="580" name=""/>
            <p:cNvSpPr/>
            <p:nvPr/>
          </p:nvSpPr>
          <p:spPr>
            <a:xfrm rot="4197600">
              <a:off x="3101400" y="5101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15160" y="5180760"/>
              <a:ext cx="139320" cy="3816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615560" y="5802480"/>
            <a:ext cx="487080" cy="311760"/>
            <a:chOff x="4615560" y="5802480"/>
            <a:chExt cx="487080" cy="311760"/>
          </a:xfrm>
        </p:grpSpPr>
        <p:sp>
          <p:nvSpPr>
            <p:cNvPr id="583" name=""/>
            <p:cNvSpPr/>
            <p:nvPr/>
          </p:nvSpPr>
          <p:spPr>
            <a:xfrm rot="20110800">
              <a:off x="4647960" y="5875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733640" y="5802480"/>
              <a:ext cx="369000" cy="1706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578920" y="4197240"/>
            <a:ext cx="205560" cy="496800"/>
            <a:chOff x="5578920" y="4197240"/>
            <a:chExt cx="205560" cy="496800"/>
          </a:xfrm>
        </p:grpSpPr>
        <p:sp>
          <p:nvSpPr>
            <p:cNvPr id="586" name=""/>
            <p:cNvSpPr/>
            <p:nvPr/>
          </p:nvSpPr>
          <p:spPr>
            <a:xfrm rot="16240800">
              <a:off x="5573520" y="44830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668920" y="4197240"/>
              <a:ext cx="4680" cy="4064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344560" y="5078520"/>
            <a:ext cx="384120" cy="454680"/>
            <a:chOff x="5344560" y="5078520"/>
            <a:chExt cx="384120" cy="454680"/>
          </a:xfrm>
        </p:grpSpPr>
        <p:sp>
          <p:nvSpPr>
            <p:cNvPr id="589" name=""/>
            <p:cNvSpPr/>
            <p:nvPr/>
          </p:nvSpPr>
          <p:spPr>
            <a:xfrm rot="7774200">
              <a:off x="5473440" y="51246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344560" y="5219640"/>
              <a:ext cx="258840" cy="313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675600" y="5747400"/>
            <a:ext cx="481320" cy="336960"/>
            <a:chOff x="3675600" y="5747400"/>
            <a:chExt cx="481320" cy="336960"/>
          </a:xfrm>
        </p:grpSpPr>
        <p:sp>
          <p:nvSpPr>
            <p:cNvPr id="592" name=""/>
            <p:cNvSpPr/>
            <p:nvPr/>
          </p:nvSpPr>
          <p:spPr>
            <a:xfrm rot="12710400">
              <a:off x="3903120" y="583956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3675600" y="5747400"/>
              <a:ext cx="345240" cy="214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000600" y="4210200"/>
            <a:ext cx="205560" cy="496080"/>
            <a:chOff x="3000600" y="4210200"/>
            <a:chExt cx="205560" cy="496080"/>
          </a:xfrm>
        </p:grpSpPr>
        <p:sp>
          <p:nvSpPr>
            <p:cNvPr id="595" name=""/>
            <p:cNvSpPr/>
            <p:nvPr/>
          </p:nvSpPr>
          <p:spPr>
            <a:xfrm rot="16240800">
              <a:off x="2995560" y="4495320"/>
              <a:ext cx="21564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090600" y="4210200"/>
              <a:ext cx="4680" cy="406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499000" y="3047760"/>
            <a:ext cx="2971080" cy="1104480"/>
            <a:chOff x="5499000" y="3047760"/>
            <a:chExt cx="2971080" cy="1104480"/>
          </a:xfrm>
        </p:grpSpPr>
        <p:sp>
          <p:nvSpPr>
            <p:cNvPr id="598" name=""/>
            <p:cNvSpPr/>
            <p:nvPr/>
          </p:nvSpPr>
          <p:spPr>
            <a:xfrm flipV="1">
              <a:off x="5499000" y="304776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17480" y="3174840"/>
              <a:ext cx="235260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Oxy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 Br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= B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+ 2 e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449400" y="5163120"/>
            <a:ext cx="497880" cy="208080"/>
            <a:chOff x="6449400" y="5163120"/>
            <a:chExt cx="497880" cy="208080"/>
          </a:xfrm>
        </p:grpSpPr>
        <p:sp>
          <p:nvSpPr>
            <p:cNvPr id="601" name=""/>
            <p:cNvSpPr/>
            <p:nvPr/>
          </p:nvSpPr>
          <p:spPr>
            <a:xfrm rot="78600">
              <a:off x="6451560" y="5165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40840" y="5254200"/>
              <a:ext cx="406440" cy="93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7099200" y="483876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49400" y="6153840"/>
            <a:ext cx="497880" cy="208080"/>
            <a:chOff x="6449400" y="6153840"/>
            <a:chExt cx="497880" cy="208080"/>
          </a:xfrm>
        </p:grpSpPr>
        <p:sp>
          <p:nvSpPr>
            <p:cNvPr id="605" name=""/>
            <p:cNvSpPr/>
            <p:nvPr/>
          </p:nvSpPr>
          <p:spPr>
            <a:xfrm rot="78600">
              <a:off x="6451560" y="61560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40840" y="6244920"/>
              <a:ext cx="406440" cy="93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7099200" y="582948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17440" y="3022200"/>
            <a:ext cx="2728800" cy="1201680"/>
            <a:chOff x="217440" y="3022200"/>
            <a:chExt cx="2728800" cy="1201680"/>
          </a:xfrm>
        </p:grpSpPr>
        <p:sp>
          <p:nvSpPr>
            <p:cNvPr id="609" name=""/>
            <p:cNvSpPr/>
            <p:nvPr/>
          </p:nvSpPr>
          <p:spPr>
            <a:xfrm>
              <a:off x="217440" y="3276720"/>
              <a:ext cx="223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é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+ 2 e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= 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2946240" y="302220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6667560" y="256536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6560" y="259092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19040" y="24512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1" lang="fr-FR" sz="2400" spc="-1" strike="noStrike">
                <a:solidFill>
                  <a:srgbClr val="cc0066"/>
                </a:solidFill>
                <a:latin typeface="Times New Roman"/>
              </a:rPr>
              <a:t>ANO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l’électrode sur laquelle se produit l’</a:t>
            </a:r>
            <a:r>
              <a:rPr b="1" lang="fr-FR" sz="2400" spc="-1" strike="noStrike">
                <a:solidFill>
                  <a:srgbClr val="cc0066"/>
                </a:solidFill>
                <a:latin typeface="Times New Roman"/>
              </a:rPr>
              <a:t>OXYD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4229280"/>
            <a:ext cx="688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ATHO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l’électrode sur laquelle se produit la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REDUC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619360" y="39384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éfini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152360" y="2422440"/>
            <a:ext cx="55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 à la cathode    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58840" y="1866960"/>
            <a:ext cx="5369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 à l’anode     2 Br</a:t>
            </a:r>
            <a:r>
              <a:rPr b="0" lang="fr-FR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B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8000" y="8794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Times New Roman"/>
              </a:rPr>
              <a:t>L’équation est celle du fonctionnement forc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08120" y="3844800"/>
            <a:ext cx="775656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Équation  2 Br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+ Cu</a:t>
            </a:r>
            <a:r>
              <a:rPr b="0" lang="fr-FR" sz="3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 = Br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+ C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6239520" y="1444680"/>
            <a:ext cx="2688120" cy="816840"/>
            <a:chOff x="6239520" y="1444680"/>
            <a:chExt cx="2688120" cy="816840"/>
          </a:xfrm>
        </p:grpSpPr>
        <p:sp>
          <p:nvSpPr>
            <p:cNvPr id="621" name=""/>
            <p:cNvSpPr/>
            <p:nvPr/>
          </p:nvSpPr>
          <p:spPr>
            <a:xfrm>
              <a:off x="7207200" y="1444680"/>
              <a:ext cx="17204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Formation 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e Br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20521200">
              <a:off x="6256440" y="1863000"/>
              <a:ext cx="942840" cy="258840"/>
            </a:xfrm>
            <a:custGeom>
              <a:avLst/>
              <a:gdLst>
                <a:gd name="textAreaLeft" fmla="*/ 117720 w 942840"/>
                <a:gd name="textAreaRight" fmla="*/ 825120 w 942840"/>
                <a:gd name="textAreaTop" fmla="*/ 64800 h 258840"/>
                <a:gd name="textAreaBottom" fmla="*/ 19440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425640" y="2649600"/>
            <a:ext cx="2718360" cy="745560"/>
            <a:chOff x="6425640" y="2649600"/>
            <a:chExt cx="2718360" cy="745560"/>
          </a:xfrm>
        </p:grpSpPr>
        <p:sp>
          <p:nvSpPr>
            <p:cNvPr id="624" name=""/>
            <p:cNvSpPr/>
            <p:nvPr/>
          </p:nvSpPr>
          <p:spPr>
            <a:xfrm>
              <a:off x="7410600" y="2752560"/>
              <a:ext cx="173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Formation 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e C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315800">
              <a:off x="6433920" y="2817360"/>
              <a:ext cx="942840" cy="228600"/>
            </a:xfrm>
            <a:custGeom>
              <a:avLst/>
              <a:gdLst>
                <a:gd name="textAreaLeft" fmla="*/ 117720 w 942840"/>
                <a:gd name="textAreaRight" fmla="*/ 825120 w 9428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ond-electrolyse2" descr=""/>
          <p:cNvPicPr/>
          <p:nvPr/>
        </p:nvPicPr>
        <p:blipFill>
          <a:blip r:embed="rId1"/>
          <a:stretch/>
        </p:blipFill>
        <p:spPr>
          <a:xfrm>
            <a:off x="2620800" y="2751120"/>
            <a:ext cx="3419640" cy="3667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09560" y="304812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grap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6000" y="5784840"/>
            <a:ext cx="372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e bromu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uivre (II)  :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2 B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195720" y="3352680"/>
            <a:ext cx="381456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703480" y="3352680"/>
            <a:ext cx="130644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685880" y="5187600"/>
            <a:ext cx="134640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On place une solution de bromure de cuivre II dans un tube en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03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et on plonge des électrodes de graphite dans l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ond-electrolyse2" descr=""/>
          <p:cNvPicPr/>
          <p:nvPr/>
        </p:nvPicPr>
        <p:blipFill>
          <a:blip r:embed="rId1"/>
          <a:stretch/>
        </p:blipFill>
        <p:spPr>
          <a:xfrm>
            <a:off x="2620800" y="2751120"/>
            <a:ext cx="3419640" cy="3667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09560" y="304812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grap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000" y="5784840"/>
            <a:ext cx="372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e bromu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uivre (II)  :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2 B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195720" y="3352680"/>
            <a:ext cx="381456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03480" y="3352680"/>
            <a:ext cx="130644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85880" y="5187600"/>
            <a:ext cx="134640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3680" y="898560"/>
            <a:ext cx="87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On relie les électrodes par un circuit électrique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ontenant un gén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6320" y="1676520"/>
            <a:ext cx="3052080" cy="1377720"/>
            <a:chOff x="3046320" y="1676520"/>
            <a:chExt cx="3052080" cy="1377720"/>
          </a:xfrm>
        </p:grpSpPr>
        <p:sp>
          <p:nvSpPr>
            <p:cNvPr id="62" name=""/>
            <p:cNvSpPr/>
            <p:nvPr/>
          </p:nvSpPr>
          <p:spPr>
            <a:xfrm>
              <a:off x="4075200" y="2038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97080" y="234936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5956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9908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67120" y="22352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37240" y="2136600"/>
              <a:ext cx="171360" cy="177840"/>
              <a:chOff x="4737240" y="2136600"/>
              <a:chExt cx="171360" cy="177840"/>
            </a:xfrm>
          </p:grpSpPr>
          <p:sp>
            <p:nvSpPr>
              <p:cNvPr id="68" name=""/>
              <p:cNvSpPr/>
              <p:nvPr/>
            </p:nvSpPr>
            <p:spPr>
              <a:xfrm>
                <a:off x="4737240" y="22287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822200" y="213660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628520" y="167652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0680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632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fond-electrolyse2" descr=""/>
          <p:cNvPicPr/>
          <p:nvPr/>
        </p:nvPicPr>
        <p:blipFill>
          <a:blip r:embed="rId1"/>
          <a:stretch/>
        </p:blipFill>
        <p:spPr>
          <a:xfrm>
            <a:off x="2620800" y="2751120"/>
            <a:ext cx="3419640" cy="3667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09560" y="304812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grap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000" y="5784840"/>
            <a:ext cx="372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e bromu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uivre (II)  :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2 B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195720" y="3352680"/>
            <a:ext cx="381456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703480" y="3352680"/>
            <a:ext cx="130644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685880" y="5187600"/>
            <a:ext cx="134640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 générateur impose le sens du courant 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6320" y="1676520"/>
            <a:ext cx="3052080" cy="1377720"/>
            <a:chOff x="3046320" y="1676520"/>
            <a:chExt cx="3052080" cy="1377720"/>
          </a:xfrm>
        </p:grpSpPr>
        <p:sp>
          <p:nvSpPr>
            <p:cNvPr id="82" name=""/>
            <p:cNvSpPr/>
            <p:nvPr/>
          </p:nvSpPr>
          <p:spPr>
            <a:xfrm>
              <a:off x="4075200" y="2038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97080" y="234936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5956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9908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67120" y="22352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737240" y="2143080"/>
              <a:ext cx="171360" cy="177840"/>
              <a:chOff x="4737240" y="2143080"/>
              <a:chExt cx="171360" cy="177840"/>
            </a:xfrm>
          </p:grpSpPr>
          <p:sp>
            <p:nvSpPr>
              <p:cNvPr id="88" name=""/>
              <p:cNvSpPr/>
              <p:nvPr/>
            </p:nvSpPr>
            <p:spPr>
              <a:xfrm>
                <a:off x="4737240" y="22287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822200" y="214308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4628520" y="167652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0680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632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106800" y="2289240"/>
            <a:ext cx="2848320" cy="478800"/>
            <a:chOff x="3106800" y="2289240"/>
            <a:chExt cx="2848320" cy="478800"/>
          </a:xfrm>
        </p:grpSpPr>
        <p:grpSp>
          <p:nvGrpSpPr>
            <p:cNvPr id="94" name=""/>
            <p:cNvGrpSpPr/>
            <p:nvPr/>
          </p:nvGrpSpPr>
          <p:grpSpPr>
            <a:xfrm>
              <a:off x="5659560" y="2289240"/>
              <a:ext cx="295560" cy="459720"/>
              <a:chOff x="5659560" y="2289240"/>
              <a:chExt cx="295560" cy="459720"/>
            </a:xfrm>
          </p:grpSpPr>
          <p:sp>
            <p:nvSpPr>
              <p:cNvPr id="95" name=""/>
              <p:cNvSpPr/>
              <p:nvPr/>
            </p:nvSpPr>
            <p:spPr>
              <a:xfrm>
                <a:off x="5659560" y="239220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89080" y="2289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106800" y="2308320"/>
              <a:ext cx="295560" cy="459720"/>
              <a:chOff x="3106800" y="2308320"/>
              <a:chExt cx="295560" cy="45972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3106800" y="241092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136320" y="23083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fond-electrolyse2" descr=""/>
          <p:cNvPicPr/>
          <p:nvPr/>
        </p:nvPicPr>
        <p:blipFill>
          <a:blip r:embed="rId1"/>
          <a:stretch/>
        </p:blipFill>
        <p:spPr>
          <a:xfrm>
            <a:off x="2620800" y="2751120"/>
            <a:ext cx="3419640" cy="3667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09560" y="304812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grap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6000" y="5784840"/>
            <a:ext cx="372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e bromu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uivre (II)  :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2 B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195720" y="3352680"/>
            <a:ext cx="381456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03480" y="3352680"/>
            <a:ext cx="130644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685880" y="5187600"/>
            <a:ext cx="134640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ans les conducteurs, le courant est créé par la circulation des é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6320" y="1676520"/>
            <a:ext cx="3052080" cy="1377720"/>
            <a:chOff x="3046320" y="1676520"/>
            <a:chExt cx="3052080" cy="1377720"/>
          </a:xfrm>
        </p:grpSpPr>
        <p:sp>
          <p:nvSpPr>
            <p:cNvPr id="109" name=""/>
            <p:cNvSpPr/>
            <p:nvPr/>
          </p:nvSpPr>
          <p:spPr>
            <a:xfrm>
              <a:off x="4075200" y="2038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97080" y="234936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5956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908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7120" y="22352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737240" y="2143080"/>
              <a:ext cx="171360" cy="177840"/>
              <a:chOff x="4737240" y="2143080"/>
              <a:chExt cx="171360" cy="177840"/>
            </a:xfrm>
          </p:grpSpPr>
          <p:sp>
            <p:nvSpPr>
              <p:cNvPr id="115" name=""/>
              <p:cNvSpPr/>
              <p:nvPr/>
            </p:nvSpPr>
            <p:spPr>
              <a:xfrm>
                <a:off x="4737240" y="22287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822200" y="214308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4628520" y="167652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0680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632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06800" y="2289240"/>
            <a:ext cx="2848320" cy="478800"/>
            <a:chOff x="3106800" y="2289240"/>
            <a:chExt cx="2848320" cy="478800"/>
          </a:xfrm>
        </p:grpSpPr>
        <p:grpSp>
          <p:nvGrpSpPr>
            <p:cNvPr id="121" name=""/>
            <p:cNvGrpSpPr/>
            <p:nvPr/>
          </p:nvGrpSpPr>
          <p:grpSpPr>
            <a:xfrm>
              <a:off x="5659560" y="2289240"/>
              <a:ext cx="295560" cy="459720"/>
              <a:chOff x="5659560" y="2289240"/>
              <a:chExt cx="295560" cy="459720"/>
            </a:xfrm>
          </p:grpSpPr>
          <p:sp>
            <p:nvSpPr>
              <p:cNvPr id="122" name=""/>
              <p:cNvSpPr/>
              <p:nvPr/>
            </p:nvSpPr>
            <p:spPr>
              <a:xfrm>
                <a:off x="5659560" y="239220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689080" y="2289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106800" y="2308320"/>
              <a:ext cx="295560" cy="459720"/>
              <a:chOff x="3106800" y="2308320"/>
              <a:chExt cx="295560" cy="45972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3106800" y="241092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36320" y="23083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2612160" y="1859040"/>
            <a:ext cx="2939400" cy="1052280"/>
            <a:chOff x="2612160" y="1859040"/>
            <a:chExt cx="2939400" cy="1052280"/>
          </a:xfrm>
        </p:grpSpPr>
        <p:grpSp>
          <p:nvGrpSpPr>
            <p:cNvPr id="128" name=""/>
            <p:cNvGrpSpPr/>
            <p:nvPr/>
          </p:nvGrpSpPr>
          <p:grpSpPr>
            <a:xfrm>
              <a:off x="2612160" y="2327400"/>
              <a:ext cx="385200" cy="520560"/>
              <a:chOff x="2612160" y="2327400"/>
              <a:chExt cx="385200" cy="520560"/>
            </a:xfrm>
          </p:grpSpPr>
          <p:sp>
            <p:nvSpPr>
              <p:cNvPr id="129" name=""/>
              <p:cNvSpPr/>
              <p:nvPr/>
            </p:nvSpPr>
            <p:spPr>
              <a:xfrm flipV="1">
                <a:off x="2952720" y="23461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12160" y="23274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162040" y="2390760"/>
              <a:ext cx="389520" cy="520560"/>
              <a:chOff x="5162040" y="2390760"/>
              <a:chExt cx="389520" cy="5205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51560" y="239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62040" y="23907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296520" y="1859040"/>
              <a:ext cx="428040" cy="520560"/>
              <a:chOff x="3296520" y="1859040"/>
              <a:chExt cx="428040" cy="520560"/>
            </a:xfrm>
          </p:grpSpPr>
          <p:sp>
            <p:nvSpPr>
              <p:cNvPr id="135" name=""/>
              <p:cNvSpPr/>
              <p:nvPr/>
            </p:nvSpPr>
            <p:spPr>
              <a:xfrm>
                <a:off x="3296520" y="2279520"/>
                <a:ext cx="407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339360" y="18590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fond-electrolyse2" descr=""/>
          <p:cNvPicPr/>
          <p:nvPr/>
        </p:nvPicPr>
        <p:blipFill>
          <a:blip r:embed="rId1"/>
          <a:stretch/>
        </p:blipFill>
        <p:spPr>
          <a:xfrm>
            <a:off x="2620800" y="2751120"/>
            <a:ext cx="3419640" cy="3667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09560" y="304812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grap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6000" y="5784840"/>
            <a:ext cx="372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e bromu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uivre (II)  :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2 B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195720" y="3352680"/>
            <a:ext cx="381456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703480" y="3352680"/>
            <a:ext cx="130644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685880" y="5187600"/>
            <a:ext cx="134640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ans la solution, le courant est créé par la circulation des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046320" y="1676520"/>
            <a:ext cx="3052080" cy="1377720"/>
            <a:chOff x="3046320" y="1676520"/>
            <a:chExt cx="3052080" cy="1377720"/>
          </a:xfrm>
        </p:grpSpPr>
        <p:sp>
          <p:nvSpPr>
            <p:cNvPr id="146" name=""/>
            <p:cNvSpPr/>
            <p:nvPr/>
          </p:nvSpPr>
          <p:spPr>
            <a:xfrm>
              <a:off x="4075200" y="2038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97080" y="234936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5956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9908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67120" y="22352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737240" y="2143080"/>
              <a:ext cx="171360" cy="177840"/>
              <a:chOff x="4737240" y="2143080"/>
              <a:chExt cx="171360" cy="177840"/>
            </a:xfrm>
          </p:grpSpPr>
          <p:sp>
            <p:nvSpPr>
              <p:cNvPr id="152" name=""/>
              <p:cNvSpPr/>
              <p:nvPr/>
            </p:nvSpPr>
            <p:spPr>
              <a:xfrm>
                <a:off x="4737240" y="22287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22200" y="214308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4628520" y="167652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0680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632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106800" y="2289240"/>
            <a:ext cx="2848320" cy="478800"/>
            <a:chOff x="3106800" y="2289240"/>
            <a:chExt cx="2848320" cy="478800"/>
          </a:xfrm>
        </p:grpSpPr>
        <p:grpSp>
          <p:nvGrpSpPr>
            <p:cNvPr id="158" name=""/>
            <p:cNvGrpSpPr/>
            <p:nvPr/>
          </p:nvGrpSpPr>
          <p:grpSpPr>
            <a:xfrm>
              <a:off x="5659560" y="2289240"/>
              <a:ext cx="295560" cy="459720"/>
              <a:chOff x="5659560" y="2289240"/>
              <a:chExt cx="295560" cy="459720"/>
            </a:xfrm>
          </p:grpSpPr>
          <p:sp>
            <p:nvSpPr>
              <p:cNvPr id="159" name=""/>
              <p:cNvSpPr/>
              <p:nvPr/>
            </p:nvSpPr>
            <p:spPr>
              <a:xfrm>
                <a:off x="5659560" y="239220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89080" y="2289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106800" y="2308320"/>
              <a:ext cx="295560" cy="459720"/>
              <a:chOff x="3106800" y="2308320"/>
              <a:chExt cx="295560" cy="45972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3106800" y="241092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36320" y="23083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2612160" y="1859040"/>
            <a:ext cx="2939400" cy="1052280"/>
            <a:chOff x="2612160" y="1859040"/>
            <a:chExt cx="2939400" cy="1052280"/>
          </a:xfrm>
        </p:grpSpPr>
        <p:grpSp>
          <p:nvGrpSpPr>
            <p:cNvPr id="165" name=""/>
            <p:cNvGrpSpPr/>
            <p:nvPr/>
          </p:nvGrpSpPr>
          <p:grpSpPr>
            <a:xfrm>
              <a:off x="2612160" y="2327400"/>
              <a:ext cx="385200" cy="520560"/>
              <a:chOff x="2612160" y="2327400"/>
              <a:chExt cx="385200" cy="52056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2952720" y="23461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12160" y="23274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162040" y="2390760"/>
              <a:ext cx="389520" cy="520560"/>
              <a:chOff x="5162040" y="2390760"/>
              <a:chExt cx="389520" cy="520560"/>
            </a:xfrm>
          </p:grpSpPr>
          <p:sp>
            <p:nvSpPr>
              <p:cNvPr id="169" name=""/>
              <p:cNvSpPr/>
              <p:nvPr/>
            </p:nvSpPr>
            <p:spPr>
              <a:xfrm>
                <a:off x="5551560" y="239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62040" y="23907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3296520" y="1859040"/>
              <a:ext cx="428040" cy="520560"/>
              <a:chOff x="3296520" y="1859040"/>
              <a:chExt cx="428040" cy="520560"/>
            </a:xfrm>
          </p:grpSpPr>
          <p:sp>
            <p:nvSpPr>
              <p:cNvPr id="172" name=""/>
              <p:cNvSpPr/>
              <p:nvPr/>
            </p:nvSpPr>
            <p:spPr>
              <a:xfrm>
                <a:off x="3296520" y="2279520"/>
                <a:ext cx="407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339360" y="18590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fond-electrolyse2" descr=""/>
          <p:cNvPicPr/>
          <p:nvPr/>
        </p:nvPicPr>
        <p:blipFill>
          <a:blip r:embed="rId1"/>
          <a:stretch/>
        </p:blipFill>
        <p:spPr>
          <a:xfrm>
            <a:off x="2620800" y="2751120"/>
            <a:ext cx="3419640" cy="3667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09560" y="304812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grap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6000" y="5784840"/>
            <a:ext cx="372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e bromu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uivre (II)  :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2 B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195720" y="3352680"/>
            <a:ext cx="381456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03480" y="3352680"/>
            <a:ext cx="130644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685880" y="5187600"/>
            <a:ext cx="134640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anions se déplacent dans le sens des é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46320" y="1676520"/>
            <a:ext cx="3052080" cy="1377720"/>
            <a:chOff x="3046320" y="1676520"/>
            <a:chExt cx="3052080" cy="1377720"/>
          </a:xfrm>
        </p:grpSpPr>
        <p:sp>
          <p:nvSpPr>
            <p:cNvPr id="183" name=""/>
            <p:cNvSpPr/>
            <p:nvPr/>
          </p:nvSpPr>
          <p:spPr>
            <a:xfrm>
              <a:off x="4075200" y="2038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97080" y="234936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5956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9908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67120" y="22352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737240" y="2143080"/>
              <a:ext cx="171360" cy="177840"/>
              <a:chOff x="4737240" y="2143080"/>
              <a:chExt cx="171360" cy="177840"/>
            </a:xfrm>
          </p:grpSpPr>
          <p:sp>
            <p:nvSpPr>
              <p:cNvPr id="189" name=""/>
              <p:cNvSpPr/>
              <p:nvPr/>
            </p:nvSpPr>
            <p:spPr>
              <a:xfrm>
                <a:off x="4737240" y="22287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22200" y="214308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628520" y="167652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0680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632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06800" y="2289240"/>
            <a:ext cx="2848320" cy="478800"/>
            <a:chOff x="3106800" y="2289240"/>
            <a:chExt cx="2848320" cy="478800"/>
          </a:xfrm>
        </p:grpSpPr>
        <p:grpSp>
          <p:nvGrpSpPr>
            <p:cNvPr id="195" name=""/>
            <p:cNvGrpSpPr/>
            <p:nvPr/>
          </p:nvGrpSpPr>
          <p:grpSpPr>
            <a:xfrm>
              <a:off x="5659560" y="2289240"/>
              <a:ext cx="295560" cy="459720"/>
              <a:chOff x="5659560" y="2289240"/>
              <a:chExt cx="295560" cy="45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5659560" y="239220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89080" y="2289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106800" y="2308320"/>
              <a:ext cx="295560" cy="459720"/>
              <a:chOff x="3106800" y="2308320"/>
              <a:chExt cx="295560" cy="459720"/>
            </a:xfrm>
          </p:grpSpPr>
          <p:sp>
            <p:nvSpPr>
              <p:cNvPr id="199" name=""/>
              <p:cNvSpPr/>
              <p:nvPr/>
            </p:nvSpPr>
            <p:spPr>
              <a:xfrm flipV="1">
                <a:off x="3106800" y="241092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36320" y="23083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2612160" y="1859040"/>
            <a:ext cx="2939400" cy="1052280"/>
            <a:chOff x="2612160" y="1859040"/>
            <a:chExt cx="2939400" cy="1052280"/>
          </a:xfrm>
        </p:grpSpPr>
        <p:grpSp>
          <p:nvGrpSpPr>
            <p:cNvPr id="202" name=""/>
            <p:cNvGrpSpPr/>
            <p:nvPr/>
          </p:nvGrpSpPr>
          <p:grpSpPr>
            <a:xfrm>
              <a:off x="2612160" y="2327400"/>
              <a:ext cx="385200" cy="520560"/>
              <a:chOff x="2612160" y="2327400"/>
              <a:chExt cx="385200" cy="52056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2952720" y="23461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12160" y="23274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5162040" y="2390760"/>
              <a:ext cx="389520" cy="520560"/>
              <a:chOff x="5162040" y="2390760"/>
              <a:chExt cx="389520" cy="520560"/>
            </a:xfrm>
          </p:grpSpPr>
          <p:sp>
            <p:nvSpPr>
              <p:cNvPr id="206" name=""/>
              <p:cNvSpPr/>
              <p:nvPr/>
            </p:nvSpPr>
            <p:spPr>
              <a:xfrm>
                <a:off x="5551560" y="239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62040" y="23907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296520" y="1859040"/>
              <a:ext cx="428040" cy="520560"/>
              <a:chOff x="3296520" y="1859040"/>
              <a:chExt cx="428040" cy="520560"/>
            </a:xfrm>
          </p:grpSpPr>
          <p:sp>
            <p:nvSpPr>
              <p:cNvPr id="209" name=""/>
              <p:cNvSpPr/>
              <p:nvPr/>
            </p:nvSpPr>
            <p:spPr>
              <a:xfrm>
                <a:off x="3296520" y="2279520"/>
                <a:ext cx="407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3339360" y="18590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3077280" y="5066640"/>
            <a:ext cx="277200" cy="495720"/>
            <a:chOff x="3077280" y="5066640"/>
            <a:chExt cx="277200" cy="495720"/>
          </a:xfrm>
        </p:grpSpPr>
        <p:sp>
          <p:nvSpPr>
            <p:cNvPr id="212" name=""/>
            <p:cNvSpPr/>
            <p:nvPr/>
          </p:nvSpPr>
          <p:spPr>
            <a:xfrm rot="4197600">
              <a:off x="3101400" y="5101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15160" y="5180760"/>
              <a:ext cx="139320" cy="3816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615560" y="5802480"/>
            <a:ext cx="487080" cy="311760"/>
            <a:chOff x="4615560" y="5802480"/>
            <a:chExt cx="487080" cy="311760"/>
          </a:xfrm>
        </p:grpSpPr>
        <p:sp>
          <p:nvSpPr>
            <p:cNvPr id="215" name=""/>
            <p:cNvSpPr/>
            <p:nvPr/>
          </p:nvSpPr>
          <p:spPr>
            <a:xfrm rot="20110800">
              <a:off x="4647960" y="5875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733640" y="5802480"/>
              <a:ext cx="369000" cy="1706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578920" y="4197240"/>
            <a:ext cx="205560" cy="496800"/>
            <a:chOff x="5578920" y="4197240"/>
            <a:chExt cx="205560" cy="496800"/>
          </a:xfrm>
        </p:grpSpPr>
        <p:sp>
          <p:nvSpPr>
            <p:cNvPr id="218" name=""/>
            <p:cNvSpPr/>
            <p:nvPr/>
          </p:nvSpPr>
          <p:spPr>
            <a:xfrm rot="16240800">
              <a:off x="5573520" y="44830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668920" y="4197240"/>
              <a:ext cx="4680" cy="4064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449400" y="5163120"/>
            <a:ext cx="497880" cy="208080"/>
            <a:chOff x="6449400" y="5163120"/>
            <a:chExt cx="497880" cy="208080"/>
          </a:xfrm>
        </p:grpSpPr>
        <p:sp>
          <p:nvSpPr>
            <p:cNvPr id="221" name=""/>
            <p:cNvSpPr/>
            <p:nvPr/>
          </p:nvSpPr>
          <p:spPr>
            <a:xfrm rot="78600">
              <a:off x="6451560" y="5165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40840" y="5254200"/>
              <a:ext cx="406440" cy="93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7099200" y="483876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fond-electrolyse2" descr=""/>
          <p:cNvPicPr/>
          <p:nvPr/>
        </p:nvPicPr>
        <p:blipFill>
          <a:blip r:embed="rId1"/>
          <a:stretch/>
        </p:blipFill>
        <p:spPr>
          <a:xfrm>
            <a:off x="2620800" y="2751120"/>
            <a:ext cx="3419640" cy="36673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09560" y="304812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grap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6000" y="5784840"/>
            <a:ext cx="372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e bromu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uivre (II)  :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2 B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195720" y="3352680"/>
            <a:ext cx="381456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703480" y="3352680"/>
            <a:ext cx="130644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685880" y="5187600"/>
            <a:ext cx="134640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cations se déplacent dans le sens du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6320" y="1676520"/>
            <a:ext cx="3052080" cy="1377720"/>
            <a:chOff x="3046320" y="1676520"/>
            <a:chExt cx="3052080" cy="1377720"/>
          </a:xfrm>
        </p:grpSpPr>
        <p:sp>
          <p:nvSpPr>
            <p:cNvPr id="233" name=""/>
            <p:cNvSpPr/>
            <p:nvPr/>
          </p:nvSpPr>
          <p:spPr>
            <a:xfrm>
              <a:off x="4075200" y="2038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97080" y="234936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5956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9908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67120" y="22352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737240" y="2143080"/>
              <a:ext cx="171360" cy="177840"/>
              <a:chOff x="4737240" y="2143080"/>
              <a:chExt cx="171360" cy="177840"/>
            </a:xfrm>
          </p:grpSpPr>
          <p:sp>
            <p:nvSpPr>
              <p:cNvPr id="239" name=""/>
              <p:cNvSpPr/>
              <p:nvPr/>
            </p:nvSpPr>
            <p:spPr>
              <a:xfrm>
                <a:off x="4737240" y="22287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22200" y="214308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628520" y="167652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0680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632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106800" y="2289240"/>
            <a:ext cx="2848320" cy="478800"/>
            <a:chOff x="3106800" y="2289240"/>
            <a:chExt cx="2848320" cy="478800"/>
          </a:xfrm>
        </p:grpSpPr>
        <p:grpSp>
          <p:nvGrpSpPr>
            <p:cNvPr id="245" name=""/>
            <p:cNvGrpSpPr/>
            <p:nvPr/>
          </p:nvGrpSpPr>
          <p:grpSpPr>
            <a:xfrm>
              <a:off x="5659560" y="2289240"/>
              <a:ext cx="295560" cy="459720"/>
              <a:chOff x="5659560" y="2289240"/>
              <a:chExt cx="295560" cy="459720"/>
            </a:xfrm>
          </p:grpSpPr>
          <p:sp>
            <p:nvSpPr>
              <p:cNvPr id="246" name=""/>
              <p:cNvSpPr/>
              <p:nvPr/>
            </p:nvSpPr>
            <p:spPr>
              <a:xfrm>
                <a:off x="5659560" y="239220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89080" y="2289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106800" y="2308320"/>
              <a:ext cx="295560" cy="459720"/>
              <a:chOff x="3106800" y="2308320"/>
              <a:chExt cx="295560" cy="45972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3106800" y="241092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36320" y="23083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2612160" y="1859040"/>
            <a:ext cx="2939400" cy="1052280"/>
            <a:chOff x="2612160" y="1859040"/>
            <a:chExt cx="2939400" cy="1052280"/>
          </a:xfrm>
        </p:grpSpPr>
        <p:grpSp>
          <p:nvGrpSpPr>
            <p:cNvPr id="252" name=""/>
            <p:cNvGrpSpPr/>
            <p:nvPr/>
          </p:nvGrpSpPr>
          <p:grpSpPr>
            <a:xfrm>
              <a:off x="2612160" y="2327400"/>
              <a:ext cx="385200" cy="520560"/>
              <a:chOff x="2612160" y="2327400"/>
              <a:chExt cx="385200" cy="52056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2952720" y="23461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12160" y="23274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162040" y="2390760"/>
              <a:ext cx="389520" cy="520560"/>
              <a:chOff x="5162040" y="2390760"/>
              <a:chExt cx="389520" cy="520560"/>
            </a:xfrm>
          </p:grpSpPr>
          <p:sp>
            <p:nvSpPr>
              <p:cNvPr id="256" name=""/>
              <p:cNvSpPr/>
              <p:nvPr/>
            </p:nvSpPr>
            <p:spPr>
              <a:xfrm>
                <a:off x="5551560" y="239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62040" y="23907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296520" y="1859040"/>
              <a:ext cx="428040" cy="520560"/>
              <a:chOff x="3296520" y="1859040"/>
              <a:chExt cx="428040" cy="520560"/>
            </a:xfrm>
          </p:grpSpPr>
          <p:sp>
            <p:nvSpPr>
              <p:cNvPr id="259" name=""/>
              <p:cNvSpPr/>
              <p:nvPr/>
            </p:nvSpPr>
            <p:spPr>
              <a:xfrm>
                <a:off x="3296520" y="2279520"/>
                <a:ext cx="407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339360" y="18590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3077280" y="5066640"/>
            <a:ext cx="277200" cy="495720"/>
            <a:chOff x="3077280" y="5066640"/>
            <a:chExt cx="277200" cy="495720"/>
          </a:xfrm>
        </p:grpSpPr>
        <p:sp>
          <p:nvSpPr>
            <p:cNvPr id="262" name=""/>
            <p:cNvSpPr/>
            <p:nvPr/>
          </p:nvSpPr>
          <p:spPr>
            <a:xfrm rot="4197600">
              <a:off x="3101400" y="5101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15160" y="5180760"/>
              <a:ext cx="139320" cy="3816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615560" y="5802480"/>
            <a:ext cx="487080" cy="311760"/>
            <a:chOff x="4615560" y="5802480"/>
            <a:chExt cx="487080" cy="311760"/>
          </a:xfrm>
        </p:grpSpPr>
        <p:sp>
          <p:nvSpPr>
            <p:cNvPr id="265" name=""/>
            <p:cNvSpPr/>
            <p:nvPr/>
          </p:nvSpPr>
          <p:spPr>
            <a:xfrm rot="20110800">
              <a:off x="4647960" y="5875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733640" y="5802480"/>
              <a:ext cx="369000" cy="1706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578920" y="4197240"/>
            <a:ext cx="205560" cy="496800"/>
            <a:chOff x="5578920" y="4197240"/>
            <a:chExt cx="205560" cy="496800"/>
          </a:xfrm>
        </p:grpSpPr>
        <p:sp>
          <p:nvSpPr>
            <p:cNvPr id="268" name=""/>
            <p:cNvSpPr/>
            <p:nvPr/>
          </p:nvSpPr>
          <p:spPr>
            <a:xfrm rot="16240800">
              <a:off x="5573520" y="44830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668920" y="4197240"/>
              <a:ext cx="4680" cy="4064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344560" y="5078520"/>
            <a:ext cx="384120" cy="454680"/>
            <a:chOff x="5344560" y="5078520"/>
            <a:chExt cx="384120" cy="454680"/>
          </a:xfrm>
        </p:grpSpPr>
        <p:sp>
          <p:nvSpPr>
            <p:cNvPr id="271" name=""/>
            <p:cNvSpPr/>
            <p:nvPr/>
          </p:nvSpPr>
          <p:spPr>
            <a:xfrm rot="7774200">
              <a:off x="5473440" y="51246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344560" y="5219640"/>
              <a:ext cx="258840" cy="313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675600" y="5747400"/>
            <a:ext cx="481320" cy="336960"/>
            <a:chOff x="3675600" y="5747400"/>
            <a:chExt cx="481320" cy="336960"/>
          </a:xfrm>
        </p:grpSpPr>
        <p:sp>
          <p:nvSpPr>
            <p:cNvPr id="274" name=""/>
            <p:cNvSpPr/>
            <p:nvPr/>
          </p:nvSpPr>
          <p:spPr>
            <a:xfrm rot="12710400">
              <a:off x="3903120" y="583956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3675600" y="5747400"/>
              <a:ext cx="345240" cy="214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000600" y="4210200"/>
            <a:ext cx="205560" cy="496080"/>
            <a:chOff x="3000600" y="4210200"/>
            <a:chExt cx="205560" cy="496080"/>
          </a:xfrm>
        </p:grpSpPr>
        <p:sp>
          <p:nvSpPr>
            <p:cNvPr id="277" name=""/>
            <p:cNvSpPr/>
            <p:nvPr/>
          </p:nvSpPr>
          <p:spPr>
            <a:xfrm rot="16240800">
              <a:off x="2995560" y="4495320"/>
              <a:ext cx="21564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090600" y="4210200"/>
              <a:ext cx="4680" cy="406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449400" y="5163120"/>
            <a:ext cx="497880" cy="208080"/>
            <a:chOff x="6449400" y="5163120"/>
            <a:chExt cx="497880" cy="208080"/>
          </a:xfrm>
        </p:grpSpPr>
        <p:sp>
          <p:nvSpPr>
            <p:cNvPr id="280" name=""/>
            <p:cNvSpPr/>
            <p:nvPr/>
          </p:nvSpPr>
          <p:spPr>
            <a:xfrm rot="78600">
              <a:off x="6451560" y="5165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40840" y="5254200"/>
              <a:ext cx="406440" cy="93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099200" y="483876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449400" y="6153840"/>
            <a:ext cx="497880" cy="208080"/>
            <a:chOff x="6449400" y="6153840"/>
            <a:chExt cx="497880" cy="208080"/>
          </a:xfrm>
        </p:grpSpPr>
        <p:sp>
          <p:nvSpPr>
            <p:cNvPr id="284" name=""/>
            <p:cNvSpPr/>
            <p:nvPr/>
          </p:nvSpPr>
          <p:spPr>
            <a:xfrm rot="78600">
              <a:off x="6451560" y="61560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40840" y="6244920"/>
              <a:ext cx="406440" cy="93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099200" y="582948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fond-electrolyse2" descr=""/>
          <p:cNvPicPr/>
          <p:nvPr/>
        </p:nvPicPr>
        <p:blipFill>
          <a:blip r:embed="rId1"/>
          <a:stretch/>
        </p:blipFill>
        <p:spPr>
          <a:xfrm>
            <a:off x="2620800" y="2751120"/>
            <a:ext cx="3419640" cy="36673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cuivre / b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6000" y="5784840"/>
            <a:ext cx="372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e bromu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uivre (II)  : C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2 B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685880" y="5187600"/>
            <a:ext cx="1346400" cy="6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898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électrons sont libérés par l ’oxydation des ions Br</a:t>
            </a:r>
            <a:r>
              <a:rPr b="1" lang="fr-FR" sz="3200" spc="-1" strike="noStrike" baseline="30000">
                <a:solidFill>
                  <a:srgbClr val="99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046320" y="1676520"/>
            <a:ext cx="3052080" cy="1377720"/>
            <a:chOff x="3046320" y="1676520"/>
            <a:chExt cx="3052080" cy="1377720"/>
          </a:xfrm>
        </p:grpSpPr>
        <p:sp>
          <p:nvSpPr>
            <p:cNvPr id="293" name=""/>
            <p:cNvSpPr/>
            <p:nvPr/>
          </p:nvSpPr>
          <p:spPr>
            <a:xfrm>
              <a:off x="4075200" y="2038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97080" y="234936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5956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9908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67120" y="22352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737240" y="2143080"/>
              <a:ext cx="171360" cy="177840"/>
              <a:chOff x="4737240" y="2143080"/>
              <a:chExt cx="171360" cy="177840"/>
            </a:xfrm>
          </p:grpSpPr>
          <p:sp>
            <p:nvSpPr>
              <p:cNvPr id="299" name=""/>
              <p:cNvSpPr/>
              <p:nvPr/>
            </p:nvSpPr>
            <p:spPr>
              <a:xfrm>
                <a:off x="4737240" y="22287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22200" y="214308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628520" y="167652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06800" y="23493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46320" y="2822400"/>
              <a:ext cx="1206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106800" y="2289240"/>
            <a:ext cx="2848320" cy="478800"/>
            <a:chOff x="3106800" y="2289240"/>
            <a:chExt cx="2848320" cy="478800"/>
          </a:xfrm>
        </p:grpSpPr>
        <p:grpSp>
          <p:nvGrpSpPr>
            <p:cNvPr id="305" name=""/>
            <p:cNvGrpSpPr/>
            <p:nvPr/>
          </p:nvGrpSpPr>
          <p:grpSpPr>
            <a:xfrm>
              <a:off x="5659560" y="2289240"/>
              <a:ext cx="295560" cy="459720"/>
              <a:chOff x="5659560" y="2289240"/>
              <a:chExt cx="295560" cy="459720"/>
            </a:xfrm>
          </p:grpSpPr>
          <p:sp>
            <p:nvSpPr>
              <p:cNvPr id="306" name=""/>
              <p:cNvSpPr/>
              <p:nvPr/>
            </p:nvSpPr>
            <p:spPr>
              <a:xfrm>
                <a:off x="5659560" y="239220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689080" y="2289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106800" y="2308320"/>
              <a:ext cx="295560" cy="459720"/>
              <a:chOff x="3106800" y="2308320"/>
              <a:chExt cx="295560" cy="459720"/>
            </a:xfrm>
          </p:grpSpPr>
          <p:sp>
            <p:nvSpPr>
              <p:cNvPr id="309" name=""/>
              <p:cNvSpPr/>
              <p:nvPr/>
            </p:nvSpPr>
            <p:spPr>
              <a:xfrm flipV="1">
                <a:off x="3106800" y="241092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136320" y="23083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2612160" y="1859040"/>
            <a:ext cx="2939400" cy="1052280"/>
            <a:chOff x="2612160" y="1859040"/>
            <a:chExt cx="2939400" cy="1052280"/>
          </a:xfrm>
        </p:grpSpPr>
        <p:grpSp>
          <p:nvGrpSpPr>
            <p:cNvPr id="312" name=""/>
            <p:cNvGrpSpPr/>
            <p:nvPr/>
          </p:nvGrpSpPr>
          <p:grpSpPr>
            <a:xfrm>
              <a:off x="2612160" y="2327400"/>
              <a:ext cx="385200" cy="520560"/>
              <a:chOff x="2612160" y="2327400"/>
              <a:chExt cx="385200" cy="52056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2952720" y="234612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12160" y="232740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162040" y="2390760"/>
              <a:ext cx="389520" cy="520560"/>
              <a:chOff x="5162040" y="2390760"/>
              <a:chExt cx="389520" cy="520560"/>
            </a:xfrm>
          </p:grpSpPr>
          <p:sp>
            <p:nvSpPr>
              <p:cNvPr id="316" name=""/>
              <p:cNvSpPr/>
              <p:nvPr/>
            </p:nvSpPr>
            <p:spPr>
              <a:xfrm>
                <a:off x="5551560" y="23925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62040" y="23907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296520" y="1859040"/>
              <a:ext cx="428040" cy="520560"/>
              <a:chOff x="3296520" y="1859040"/>
              <a:chExt cx="428040" cy="520560"/>
            </a:xfrm>
          </p:grpSpPr>
          <p:sp>
            <p:nvSpPr>
              <p:cNvPr id="319" name=""/>
              <p:cNvSpPr/>
              <p:nvPr/>
            </p:nvSpPr>
            <p:spPr>
              <a:xfrm>
                <a:off x="3296520" y="2279520"/>
                <a:ext cx="407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3339360" y="185904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3077280" y="5066640"/>
            <a:ext cx="277200" cy="495720"/>
            <a:chOff x="3077280" y="5066640"/>
            <a:chExt cx="277200" cy="495720"/>
          </a:xfrm>
        </p:grpSpPr>
        <p:sp>
          <p:nvSpPr>
            <p:cNvPr id="322" name=""/>
            <p:cNvSpPr/>
            <p:nvPr/>
          </p:nvSpPr>
          <p:spPr>
            <a:xfrm rot="4197600">
              <a:off x="3101400" y="5101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5160" y="5180760"/>
              <a:ext cx="139320" cy="3816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615560" y="5802480"/>
            <a:ext cx="487080" cy="311760"/>
            <a:chOff x="4615560" y="5802480"/>
            <a:chExt cx="487080" cy="311760"/>
          </a:xfrm>
        </p:grpSpPr>
        <p:sp>
          <p:nvSpPr>
            <p:cNvPr id="325" name=""/>
            <p:cNvSpPr/>
            <p:nvPr/>
          </p:nvSpPr>
          <p:spPr>
            <a:xfrm rot="20110800">
              <a:off x="4647960" y="587520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733640" y="5802480"/>
              <a:ext cx="369000" cy="1706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578920" y="4197240"/>
            <a:ext cx="205560" cy="496800"/>
            <a:chOff x="5578920" y="4197240"/>
            <a:chExt cx="205560" cy="496800"/>
          </a:xfrm>
        </p:grpSpPr>
        <p:sp>
          <p:nvSpPr>
            <p:cNvPr id="328" name=""/>
            <p:cNvSpPr/>
            <p:nvPr/>
          </p:nvSpPr>
          <p:spPr>
            <a:xfrm rot="16240800">
              <a:off x="5573520" y="44830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668920" y="4197240"/>
              <a:ext cx="4680" cy="4064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344560" y="5078520"/>
            <a:ext cx="384120" cy="454680"/>
            <a:chOff x="5344560" y="5078520"/>
            <a:chExt cx="384120" cy="454680"/>
          </a:xfrm>
        </p:grpSpPr>
        <p:sp>
          <p:nvSpPr>
            <p:cNvPr id="331" name=""/>
            <p:cNvSpPr/>
            <p:nvPr/>
          </p:nvSpPr>
          <p:spPr>
            <a:xfrm rot="7774200">
              <a:off x="5473440" y="51246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344560" y="5219640"/>
              <a:ext cx="258840" cy="313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675600" y="5747400"/>
            <a:ext cx="481320" cy="336960"/>
            <a:chOff x="3675600" y="5747400"/>
            <a:chExt cx="481320" cy="336960"/>
          </a:xfrm>
        </p:grpSpPr>
        <p:sp>
          <p:nvSpPr>
            <p:cNvPr id="334" name=""/>
            <p:cNvSpPr/>
            <p:nvPr/>
          </p:nvSpPr>
          <p:spPr>
            <a:xfrm rot="12710400">
              <a:off x="3903120" y="583956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3675600" y="5747400"/>
              <a:ext cx="345240" cy="214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000600" y="4210200"/>
            <a:ext cx="205560" cy="496080"/>
            <a:chOff x="3000600" y="4210200"/>
            <a:chExt cx="205560" cy="496080"/>
          </a:xfrm>
        </p:grpSpPr>
        <p:sp>
          <p:nvSpPr>
            <p:cNvPr id="337" name=""/>
            <p:cNvSpPr/>
            <p:nvPr/>
          </p:nvSpPr>
          <p:spPr>
            <a:xfrm rot="16240800">
              <a:off x="2995560" y="4495320"/>
              <a:ext cx="21564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090600" y="4210200"/>
              <a:ext cx="4680" cy="406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449400" y="5163120"/>
            <a:ext cx="497880" cy="208080"/>
            <a:chOff x="6449400" y="5163120"/>
            <a:chExt cx="497880" cy="208080"/>
          </a:xfrm>
        </p:grpSpPr>
        <p:sp>
          <p:nvSpPr>
            <p:cNvPr id="340" name=""/>
            <p:cNvSpPr/>
            <p:nvPr/>
          </p:nvSpPr>
          <p:spPr>
            <a:xfrm rot="78600">
              <a:off x="6451560" y="5165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40840" y="5254200"/>
              <a:ext cx="406440" cy="93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7099200" y="483876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449400" y="6153840"/>
            <a:ext cx="497880" cy="208080"/>
            <a:chOff x="6449400" y="6153840"/>
            <a:chExt cx="497880" cy="208080"/>
          </a:xfrm>
        </p:grpSpPr>
        <p:sp>
          <p:nvSpPr>
            <p:cNvPr id="344" name=""/>
            <p:cNvSpPr/>
            <p:nvPr/>
          </p:nvSpPr>
          <p:spPr>
            <a:xfrm rot="78600">
              <a:off x="6451560" y="61560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40840" y="6244920"/>
              <a:ext cx="406440" cy="93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7099200" y="582948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499000" y="3047760"/>
            <a:ext cx="2971080" cy="1104480"/>
            <a:chOff x="5499000" y="3047760"/>
            <a:chExt cx="2971080" cy="1104480"/>
          </a:xfrm>
        </p:grpSpPr>
        <p:sp>
          <p:nvSpPr>
            <p:cNvPr id="348" name=""/>
            <p:cNvSpPr/>
            <p:nvPr/>
          </p:nvSpPr>
          <p:spPr>
            <a:xfrm flipV="1">
              <a:off x="5499000" y="3047760"/>
              <a:ext cx="0" cy="407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17480" y="3174840"/>
              <a:ext cx="235260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Oxy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 Br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= B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+ 2 e</a:t>
              </a:r>
              <a:r>
                <a:rPr b="0" lang="fr-FR" sz="3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9:10:04Z</dcterms:created>
  <dc:creator>dulaurans</dc:creator>
  <dc:description/>
  <dc:language>en-US</dc:language>
  <cp:lastModifiedBy>dulaurans</cp:lastModifiedBy>
  <dcterms:modified xsi:type="dcterms:W3CDTF">2003-03-26T23:21:15Z</dcterms:modified>
  <cp:revision>22</cp:revision>
  <dc:subject/>
  <dc:title>La pile cuivre /zinc</dc:title>
</cp:coreProperties>
</file>