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BBA-89BD-491B-BCCF-1F562EBF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8E51-B273-475D-90BF-48479776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466-EEEC-4264-955B-4077916F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F4D-E5E9-430E-AE51-8075B99D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463-776C-49AF-AB1F-F867657D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448-D673-47EA-AA7F-52116462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C2E-6612-4D54-A905-6ACA2CA9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047-9D5F-40B3-90B6-65946655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3C4-3296-4260-ADB8-85BE7568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49D-8372-44DD-8C76-06A04593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D43-21A1-4FF9-A459-85E6AD8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122-1B07-429F-8D74-03E9DB5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E338-2488-4C00-B49C-34B8B336A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206360"/>
            <a:ext cx="883908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’une solution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d ’acide sulfuriqu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75520" y="6286680"/>
            <a:ext cx="170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.   DULAUR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3898800" y="4788000"/>
            <a:ext cx="1143000" cy="901440"/>
          </a:xfrm>
          <a:custGeom>
            <a:avLst/>
            <a:gdLst>
              <a:gd name="textAreaLeft" fmla="*/ 58320 w 1143000"/>
              <a:gd name="textAreaRight" fmla="*/ 1084680 w 1143000"/>
              <a:gd name="textAreaTop" fmla="*/ 58320 h 901440"/>
              <a:gd name="textAreaBottom" fmla="*/ 843120 h 901440"/>
            </a:gdLst>
            <a:ahLst/>
            <a:rect l="textAreaLeft" t="textAreaTop" r="textAreaRight" b="textAreaBottom"/>
            <a:pathLst>
              <a:path w="27386" h="21600">
                <a:moveTo>
                  <a:pt x="0" y="0"/>
                </a:moveTo>
                <a:lnTo>
                  <a:pt x="27386" y="0"/>
                </a:lnTo>
                <a:lnTo>
                  <a:pt x="27386" y="21600"/>
                </a:lnTo>
                <a:lnTo>
                  <a:pt x="0" y="21600"/>
                </a:lnTo>
                <a:close/>
              </a:path>
              <a:path fill="lightenLess" w="27386" h="21600">
                <a:moveTo>
                  <a:pt x="0" y="0"/>
                </a:moveTo>
                <a:lnTo>
                  <a:pt x="27386" y="0"/>
                </a:lnTo>
                <a:lnTo>
                  <a:pt x="25986" y="1400"/>
                </a:lnTo>
                <a:lnTo>
                  <a:pt x="1400" y="1400"/>
                </a:lnTo>
                <a:close/>
              </a:path>
              <a:path fill="darken" w="27386" h="21600">
                <a:moveTo>
                  <a:pt x="27386" y="0"/>
                </a:moveTo>
                <a:lnTo>
                  <a:pt x="27386" y="21600"/>
                </a:lnTo>
                <a:lnTo>
                  <a:pt x="25986" y="20200"/>
                </a:lnTo>
                <a:lnTo>
                  <a:pt x="25986" y="1400"/>
                </a:lnTo>
                <a:close/>
              </a:path>
              <a:path fill="darkenLess" w="27386" h="21600">
                <a:moveTo>
                  <a:pt x="27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6" y="20200"/>
                </a:lnTo>
                <a:close/>
              </a:path>
              <a:path fill="lighten" w="27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6" h="21600">
                <a:moveTo>
                  <a:pt x="6686" y="3794"/>
                </a:moveTo>
                <a:lnTo>
                  <a:pt x="20699" y="10800"/>
                </a:lnTo>
                <a:lnTo>
                  <a:pt x="6686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3080" y="5454720"/>
            <a:ext cx="3724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711440" y="4629240"/>
            <a:ext cx="149832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cations se déplacent dans le sens du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297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304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309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314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319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320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326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330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333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906600" y="5366520"/>
            <a:ext cx="497880" cy="208080"/>
            <a:chOff x="6906600" y="5366520"/>
            <a:chExt cx="497880" cy="208080"/>
          </a:xfrm>
        </p:grpSpPr>
        <p:sp>
          <p:nvSpPr>
            <p:cNvPr id="336" name=""/>
            <p:cNvSpPr/>
            <p:nvPr/>
          </p:nvSpPr>
          <p:spPr>
            <a:xfrm rot="78600">
              <a:off x="6908760" y="53686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98040" y="5457600"/>
              <a:ext cx="406440" cy="936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7391520" y="5079960"/>
            <a:ext cx="15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placemen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n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121640" y="4582080"/>
            <a:ext cx="466200" cy="361440"/>
            <a:chOff x="4121640" y="4582080"/>
            <a:chExt cx="466200" cy="361440"/>
          </a:xfrm>
        </p:grpSpPr>
        <p:sp>
          <p:nvSpPr>
            <p:cNvPr id="340" name=""/>
            <p:cNvSpPr/>
            <p:nvPr/>
          </p:nvSpPr>
          <p:spPr>
            <a:xfrm rot="8860800">
              <a:off x="4334040" y="46242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121640" y="4726440"/>
              <a:ext cx="343440" cy="217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919200" y="5880240"/>
            <a:ext cx="2034360" cy="703800"/>
            <a:chOff x="6919200" y="5880240"/>
            <a:chExt cx="2034360" cy="703800"/>
          </a:xfrm>
        </p:grpSpPr>
        <p:grpSp>
          <p:nvGrpSpPr>
            <p:cNvPr id="343" name=""/>
            <p:cNvGrpSpPr/>
            <p:nvPr/>
          </p:nvGrpSpPr>
          <p:grpSpPr>
            <a:xfrm>
              <a:off x="6919200" y="6140880"/>
              <a:ext cx="497880" cy="208080"/>
              <a:chOff x="6919200" y="6140880"/>
              <a:chExt cx="497880" cy="208080"/>
            </a:xfrm>
          </p:grpSpPr>
          <p:sp>
            <p:nvSpPr>
              <p:cNvPr id="344" name=""/>
              <p:cNvSpPr/>
              <p:nvPr/>
            </p:nvSpPr>
            <p:spPr>
              <a:xfrm rot="78600">
                <a:off x="6921360" y="6143040"/>
                <a:ext cx="216000" cy="20304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0640" y="6231960"/>
                <a:ext cx="406440" cy="936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7394400" y="5880240"/>
              <a:ext cx="155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éplacement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es 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libérés par l’oxydation de l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352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359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364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369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374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375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378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381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385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388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121640" y="4582080"/>
            <a:ext cx="466200" cy="361440"/>
            <a:chOff x="4121640" y="4582080"/>
            <a:chExt cx="466200" cy="361440"/>
          </a:xfrm>
        </p:grpSpPr>
        <p:sp>
          <p:nvSpPr>
            <p:cNvPr id="391" name=""/>
            <p:cNvSpPr/>
            <p:nvPr/>
          </p:nvSpPr>
          <p:spPr>
            <a:xfrm rot="8860800">
              <a:off x="4334040" y="46242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121640" y="4726440"/>
              <a:ext cx="343440" cy="217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6275880" y="5129280"/>
            <a:ext cx="2702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  = 4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8985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Il y a formation de 0</a:t>
            </a:r>
            <a:r>
              <a:rPr b="0" lang="fr-FR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399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406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411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416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421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422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425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428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429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432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4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435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121640" y="4582080"/>
            <a:ext cx="466200" cy="361440"/>
            <a:chOff x="4121640" y="4582080"/>
            <a:chExt cx="466200" cy="361440"/>
          </a:xfrm>
        </p:grpSpPr>
        <p:sp>
          <p:nvSpPr>
            <p:cNvPr id="438" name=""/>
            <p:cNvSpPr/>
            <p:nvPr/>
          </p:nvSpPr>
          <p:spPr>
            <a:xfrm rot="8860800">
              <a:off x="4334040" y="46242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4121640" y="4726440"/>
              <a:ext cx="343440" cy="217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275880" y="5129280"/>
            <a:ext cx="2702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  = 4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38880" y="1908000"/>
            <a:ext cx="444240" cy="314640"/>
          </a:xfrm>
          <a:custGeom>
            <a:avLst/>
            <a:gdLst/>
            <a:ahLst/>
            <a:rect l="l" t="t" r="r" b="b"/>
            <a:pathLst>
              <a:path w="280" h="198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198"/>
                </a:lnTo>
                <a:lnTo>
                  <a:pt x="280" y="194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59480" y="4591080"/>
            <a:ext cx="155520" cy="18108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54520" y="3962520"/>
            <a:ext cx="15588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11960" y="3295800"/>
            <a:ext cx="15552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37080" y="1901880"/>
            <a:ext cx="446040" cy="515880"/>
          </a:xfrm>
          <a:custGeom>
            <a:avLst/>
            <a:gdLst/>
            <a:ahLst/>
            <a:rect l="l" t="t" r="r" b="b"/>
            <a:pathLst>
              <a:path w="281" h="325">
                <a:moveTo>
                  <a:pt x="53" y="28"/>
                </a:moveTo>
                <a:lnTo>
                  <a:pt x="15" y="68"/>
                </a:lnTo>
                <a:lnTo>
                  <a:pt x="1" y="134"/>
                </a:lnTo>
                <a:lnTo>
                  <a:pt x="0" y="325"/>
                </a:lnTo>
                <a:lnTo>
                  <a:pt x="280" y="322"/>
                </a:lnTo>
                <a:lnTo>
                  <a:pt x="281" y="84"/>
                </a:lnTo>
                <a:lnTo>
                  <a:pt x="239" y="32"/>
                </a:lnTo>
                <a:lnTo>
                  <a:pt x="181" y="2"/>
                </a:lnTo>
                <a:lnTo>
                  <a:pt x="113" y="0"/>
                </a:lnTo>
                <a:lnTo>
                  <a:pt x="53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42120" y="190980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électrons sont consommés par la réduction des ions H</a:t>
            </a:r>
            <a:r>
              <a:rPr b="0" lang="fr-FR" sz="2400" spc="-1" strike="noStrike" baseline="30000">
                <a:solidFill>
                  <a:srgbClr val="99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452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459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464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469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474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475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478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0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481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482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485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488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121640" y="4582080"/>
            <a:ext cx="466200" cy="361440"/>
            <a:chOff x="4121640" y="4582080"/>
            <a:chExt cx="466200" cy="361440"/>
          </a:xfrm>
        </p:grpSpPr>
        <p:sp>
          <p:nvSpPr>
            <p:cNvPr id="491" name=""/>
            <p:cNvSpPr/>
            <p:nvPr/>
          </p:nvSpPr>
          <p:spPr>
            <a:xfrm rot="8860800">
              <a:off x="4334040" y="46242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121640" y="4726440"/>
              <a:ext cx="343440" cy="217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275880" y="5129280"/>
            <a:ext cx="2702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  = 4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38880" y="1908000"/>
            <a:ext cx="444240" cy="314640"/>
          </a:xfrm>
          <a:custGeom>
            <a:avLst/>
            <a:gdLst/>
            <a:ahLst/>
            <a:rect l="l" t="t" r="r" b="b"/>
            <a:pathLst>
              <a:path w="280" h="198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198"/>
                </a:lnTo>
                <a:lnTo>
                  <a:pt x="280" y="194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59480" y="4591080"/>
            <a:ext cx="155520" cy="18108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4520" y="3962520"/>
            <a:ext cx="15588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11960" y="3295800"/>
            <a:ext cx="15552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37080" y="1901880"/>
            <a:ext cx="446040" cy="515880"/>
          </a:xfrm>
          <a:custGeom>
            <a:avLst/>
            <a:gdLst/>
            <a:ahLst/>
            <a:rect l="l" t="t" r="r" b="b"/>
            <a:pathLst>
              <a:path w="281" h="325">
                <a:moveTo>
                  <a:pt x="53" y="28"/>
                </a:moveTo>
                <a:lnTo>
                  <a:pt x="15" y="68"/>
                </a:lnTo>
                <a:lnTo>
                  <a:pt x="1" y="134"/>
                </a:lnTo>
                <a:lnTo>
                  <a:pt x="0" y="325"/>
                </a:lnTo>
                <a:lnTo>
                  <a:pt x="280" y="322"/>
                </a:lnTo>
                <a:lnTo>
                  <a:pt x="281" y="84"/>
                </a:lnTo>
                <a:lnTo>
                  <a:pt x="239" y="32"/>
                </a:lnTo>
                <a:lnTo>
                  <a:pt x="181" y="2"/>
                </a:lnTo>
                <a:lnTo>
                  <a:pt x="113" y="0"/>
                </a:lnTo>
                <a:lnTo>
                  <a:pt x="53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42120" y="190980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52480" y="5129280"/>
            <a:ext cx="2090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8985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Il y a formation de H</a:t>
            </a:r>
            <a:r>
              <a:rPr b="0" lang="fr-FR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506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513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518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523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528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529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535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536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539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542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121640" y="4582080"/>
            <a:ext cx="466200" cy="361440"/>
            <a:chOff x="4121640" y="4582080"/>
            <a:chExt cx="466200" cy="361440"/>
          </a:xfrm>
        </p:grpSpPr>
        <p:sp>
          <p:nvSpPr>
            <p:cNvPr id="545" name=""/>
            <p:cNvSpPr/>
            <p:nvPr/>
          </p:nvSpPr>
          <p:spPr>
            <a:xfrm rot="8860800">
              <a:off x="4334040" y="46242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121640" y="4726440"/>
              <a:ext cx="343440" cy="217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6275880" y="5129280"/>
            <a:ext cx="2702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  = 4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38880" y="1908000"/>
            <a:ext cx="444240" cy="314640"/>
          </a:xfrm>
          <a:custGeom>
            <a:avLst/>
            <a:gdLst/>
            <a:ahLst/>
            <a:rect l="l" t="t" r="r" b="b"/>
            <a:pathLst>
              <a:path w="280" h="198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198"/>
                </a:lnTo>
                <a:lnTo>
                  <a:pt x="280" y="194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9480" y="4591080"/>
            <a:ext cx="155520" cy="18108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54520" y="3962520"/>
            <a:ext cx="15588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11960" y="3295800"/>
            <a:ext cx="15552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37080" y="1901880"/>
            <a:ext cx="446040" cy="515880"/>
          </a:xfrm>
          <a:custGeom>
            <a:avLst/>
            <a:gdLst/>
            <a:ahLst/>
            <a:rect l="l" t="t" r="r" b="b"/>
            <a:pathLst>
              <a:path w="281" h="325">
                <a:moveTo>
                  <a:pt x="53" y="28"/>
                </a:moveTo>
                <a:lnTo>
                  <a:pt x="15" y="68"/>
                </a:lnTo>
                <a:lnTo>
                  <a:pt x="1" y="134"/>
                </a:lnTo>
                <a:lnTo>
                  <a:pt x="0" y="325"/>
                </a:lnTo>
                <a:lnTo>
                  <a:pt x="280" y="322"/>
                </a:lnTo>
                <a:lnTo>
                  <a:pt x="281" y="84"/>
                </a:lnTo>
                <a:lnTo>
                  <a:pt x="239" y="32"/>
                </a:lnTo>
                <a:lnTo>
                  <a:pt x="181" y="2"/>
                </a:lnTo>
                <a:lnTo>
                  <a:pt x="113" y="0"/>
                </a:lnTo>
                <a:lnTo>
                  <a:pt x="53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42120" y="190980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52480" y="5129280"/>
            <a:ext cx="2090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654360" y="4349880"/>
            <a:ext cx="282600" cy="409320"/>
            <a:chOff x="3654360" y="4349880"/>
            <a:chExt cx="282600" cy="409320"/>
          </a:xfrm>
        </p:grpSpPr>
        <p:sp>
          <p:nvSpPr>
            <p:cNvPr id="556" name=""/>
            <p:cNvSpPr/>
            <p:nvPr/>
          </p:nvSpPr>
          <p:spPr>
            <a:xfrm>
              <a:off x="3654360" y="45784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81440" y="43498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648240" y="3695760"/>
            <a:ext cx="257040" cy="434880"/>
            <a:chOff x="3648240" y="3695760"/>
            <a:chExt cx="257040" cy="434880"/>
          </a:xfrm>
        </p:grpSpPr>
        <p:sp>
          <p:nvSpPr>
            <p:cNvPr id="559" name=""/>
            <p:cNvSpPr/>
            <p:nvPr/>
          </p:nvSpPr>
          <p:spPr>
            <a:xfrm>
              <a:off x="3749760" y="39495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48240" y="36957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568680" y="3251160"/>
            <a:ext cx="324000" cy="327240"/>
            <a:chOff x="3568680" y="3251160"/>
            <a:chExt cx="324000" cy="327240"/>
          </a:xfrm>
        </p:grpSpPr>
        <p:sp>
          <p:nvSpPr>
            <p:cNvPr id="562" name=""/>
            <p:cNvSpPr/>
            <p:nvPr/>
          </p:nvSpPr>
          <p:spPr>
            <a:xfrm>
              <a:off x="3568680" y="339732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36800" y="3251160"/>
              <a:ext cx="15588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3546360" y="1884240"/>
            <a:ext cx="449280" cy="452520"/>
          </a:xfrm>
          <a:custGeom>
            <a:avLst/>
            <a:gdLst/>
            <a:ahLst/>
            <a:rect l="l" t="t" r="r" b="b"/>
            <a:pathLst>
              <a:path w="283" h="285">
                <a:moveTo>
                  <a:pt x="53" y="25"/>
                </a:moveTo>
                <a:lnTo>
                  <a:pt x="15" y="60"/>
                </a:lnTo>
                <a:lnTo>
                  <a:pt x="1" y="118"/>
                </a:lnTo>
                <a:lnTo>
                  <a:pt x="0" y="285"/>
                </a:lnTo>
                <a:lnTo>
                  <a:pt x="280" y="282"/>
                </a:lnTo>
                <a:lnTo>
                  <a:pt x="283" y="100"/>
                </a:lnTo>
                <a:lnTo>
                  <a:pt x="259" y="46"/>
                </a:lnTo>
                <a:lnTo>
                  <a:pt x="181" y="2"/>
                </a:lnTo>
                <a:lnTo>
                  <a:pt x="113" y="0"/>
                </a:lnTo>
                <a:lnTo>
                  <a:pt x="53" y="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51400" y="187812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43480" y="1882800"/>
            <a:ext cx="452160" cy="1193760"/>
          </a:xfrm>
          <a:custGeom>
            <a:avLst/>
            <a:gdLst/>
            <a:ahLst/>
            <a:rect l="l" t="t" r="r" b="b"/>
            <a:pathLst>
              <a:path w="285" h="752">
                <a:moveTo>
                  <a:pt x="54" y="28"/>
                </a:moveTo>
                <a:lnTo>
                  <a:pt x="16" y="68"/>
                </a:lnTo>
                <a:lnTo>
                  <a:pt x="2" y="134"/>
                </a:lnTo>
                <a:lnTo>
                  <a:pt x="0" y="752"/>
                </a:lnTo>
                <a:lnTo>
                  <a:pt x="285" y="752"/>
                </a:lnTo>
                <a:lnTo>
                  <a:pt x="282" y="84"/>
                </a:lnTo>
                <a:lnTo>
                  <a:pt x="240" y="32"/>
                </a:lnTo>
                <a:lnTo>
                  <a:pt x="182" y="2"/>
                </a:lnTo>
                <a:lnTo>
                  <a:pt x="114" y="0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898560"/>
            <a:ext cx="9144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572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579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584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589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594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595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598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0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601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605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608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121640" y="4582080"/>
            <a:ext cx="466200" cy="361440"/>
            <a:chOff x="4121640" y="4582080"/>
            <a:chExt cx="466200" cy="361440"/>
          </a:xfrm>
        </p:grpSpPr>
        <p:sp>
          <p:nvSpPr>
            <p:cNvPr id="611" name=""/>
            <p:cNvSpPr/>
            <p:nvPr/>
          </p:nvSpPr>
          <p:spPr>
            <a:xfrm rot="8860800">
              <a:off x="4334040" y="46242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121640" y="4726440"/>
              <a:ext cx="343440" cy="217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275880" y="5129280"/>
            <a:ext cx="2702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  = 4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438880" y="1908000"/>
            <a:ext cx="444240" cy="314640"/>
          </a:xfrm>
          <a:custGeom>
            <a:avLst/>
            <a:gdLst/>
            <a:ahLst/>
            <a:rect l="l" t="t" r="r" b="b"/>
            <a:pathLst>
              <a:path w="280" h="198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198"/>
                </a:lnTo>
                <a:lnTo>
                  <a:pt x="280" y="194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59480" y="4591080"/>
            <a:ext cx="155520" cy="18108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54520" y="3962520"/>
            <a:ext cx="15588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11960" y="3295800"/>
            <a:ext cx="15552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37080" y="1901880"/>
            <a:ext cx="446040" cy="515880"/>
          </a:xfrm>
          <a:custGeom>
            <a:avLst/>
            <a:gdLst/>
            <a:ahLst/>
            <a:rect l="l" t="t" r="r" b="b"/>
            <a:pathLst>
              <a:path w="281" h="325">
                <a:moveTo>
                  <a:pt x="53" y="28"/>
                </a:moveTo>
                <a:lnTo>
                  <a:pt x="15" y="68"/>
                </a:lnTo>
                <a:lnTo>
                  <a:pt x="1" y="134"/>
                </a:lnTo>
                <a:lnTo>
                  <a:pt x="0" y="325"/>
                </a:lnTo>
                <a:lnTo>
                  <a:pt x="280" y="322"/>
                </a:lnTo>
                <a:lnTo>
                  <a:pt x="281" y="84"/>
                </a:lnTo>
                <a:lnTo>
                  <a:pt x="239" y="32"/>
                </a:lnTo>
                <a:lnTo>
                  <a:pt x="181" y="2"/>
                </a:lnTo>
                <a:lnTo>
                  <a:pt x="113" y="0"/>
                </a:lnTo>
                <a:lnTo>
                  <a:pt x="53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42120" y="190980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52480" y="5129280"/>
            <a:ext cx="2090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654360" y="4349880"/>
            <a:ext cx="282600" cy="409320"/>
            <a:chOff x="3654360" y="4349880"/>
            <a:chExt cx="282600" cy="409320"/>
          </a:xfrm>
        </p:grpSpPr>
        <p:sp>
          <p:nvSpPr>
            <p:cNvPr id="622" name=""/>
            <p:cNvSpPr/>
            <p:nvPr/>
          </p:nvSpPr>
          <p:spPr>
            <a:xfrm>
              <a:off x="3654360" y="45784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81440" y="43498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648240" y="3695760"/>
            <a:ext cx="257040" cy="434880"/>
            <a:chOff x="3648240" y="3695760"/>
            <a:chExt cx="257040" cy="434880"/>
          </a:xfrm>
        </p:grpSpPr>
        <p:sp>
          <p:nvSpPr>
            <p:cNvPr id="625" name=""/>
            <p:cNvSpPr/>
            <p:nvPr/>
          </p:nvSpPr>
          <p:spPr>
            <a:xfrm>
              <a:off x="3749760" y="39495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48240" y="36957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3568680" y="3251160"/>
            <a:ext cx="324000" cy="327240"/>
            <a:chOff x="3568680" y="3251160"/>
            <a:chExt cx="324000" cy="327240"/>
          </a:xfrm>
        </p:grpSpPr>
        <p:sp>
          <p:nvSpPr>
            <p:cNvPr id="628" name=""/>
            <p:cNvSpPr/>
            <p:nvPr/>
          </p:nvSpPr>
          <p:spPr>
            <a:xfrm>
              <a:off x="3568680" y="339732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36800" y="3251160"/>
              <a:ext cx="15588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3546360" y="1884240"/>
            <a:ext cx="449280" cy="452520"/>
          </a:xfrm>
          <a:custGeom>
            <a:avLst/>
            <a:gdLst/>
            <a:ahLst/>
            <a:rect l="l" t="t" r="r" b="b"/>
            <a:pathLst>
              <a:path w="283" h="285">
                <a:moveTo>
                  <a:pt x="53" y="25"/>
                </a:moveTo>
                <a:lnTo>
                  <a:pt x="15" y="60"/>
                </a:lnTo>
                <a:lnTo>
                  <a:pt x="1" y="118"/>
                </a:lnTo>
                <a:lnTo>
                  <a:pt x="0" y="285"/>
                </a:lnTo>
                <a:lnTo>
                  <a:pt x="280" y="282"/>
                </a:lnTo>
                <a:lnTo>
                  <a:pt x="283" y="100"/>
                </a:lnTo>
                <a:lnTo>
                  <a:pt x="259" y="46"/>
                </a:lnTo>
                <a:lnTo>
                  <a:pt x="181" y="2"/>
                </a:lnTo>
                <a:lnTo>
                  <a:pt x="113" y="0"/>
                </a:lnTo>
                <a:lnTo>
                  <a:pt x="53" y="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51400" y="187812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43480" y="1882800"/>
            <a:ext cx="452160" cy="1193760"/>
          </a:xfrm>
          <a:custGeom>
            <a:avLst/>
            <a:gdLst/>
            <a:ahLst/>
            <a:rect l="l" t="t" r="r" b="b"/>
            <a:pathLst>
              <a:path w="285" h="752">
                <a:moveTo>
                  <a:pt x="54" y="28"/>
                </a:moveTo>
                <a:lnTo>
                  <a:pt x="16" y="68"/>
                </a:lnTo>
                <a:lnTo>
                  <a:pt x="2" y="134"/>
                </a:lnTo>
                <a:lnTo>
                  <a:pt x="0" y="752"/>
                </a:lnTo>
                <a:lnTo>
                  <a:pt x="285" y="752"/>
                </a:lnTo>
                <a:lnTo>
                  <a:pt x="282" y="84"/>
                </a:lnTo>
                <a:lnTo>
                  <a:pt x="240" y="32"/>
                </a:lnTo>
                <a:lnTo>
                  <a:pt x="182" y="2"/>
                </a:lnTo>
                <a:lnTo>
                  <a:pt x="114" y="0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667560" y="256536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36560" y="259092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la permet de définir la nature des électr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419040" y="24512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fr-FR" sz="2400" spc="-1" strike="noStrike">
                <a:solidFill>
                  <a:srgbClr val="cc0066"/>
                </a:solidFill>
                <a:latin typeface="Times New Roman"/>
              </a:rPr>
              <a:t>AN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l’électrode sur laquelle se produit l’</a:t>
            </a:r>
            <a:r>
              <a:rPr b="1" lang="fr-FR" sz="2400" spc="-1" strike="noStrike">
                <a:solidFill>
                  <a:srgbClr val="cc0066"/>
                </a:solidFill>
                <a:latin typeface="Times New Roman"/>
              </a:rPr>
              <a:t>OXYD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05120" y="4229280"/>
            <a:ext cx="688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CATHO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st l’électrode sur laquelle se produit la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</a:rPr>
              <a:t>REDUC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2619360" y="39384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éfini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898560"/>
            <a:ext cx="9144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644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651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656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661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666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667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670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2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673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674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677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9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680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121640" y="4582080"/>
            <a:ext cx="466200" cy="361440"/>
            <a:chOff x="4121640" y="4582080"/>
            <a:chExt cx="466200" cy="361440"/>
          </a:xfrm>
        </p:grpSpPr>
        <p:sp>
          <p:nvSpPr>
            <p:cNvPr id="683" name=""/>
            <p:cNvSpPr/>
            <p:nvPr/>
          </p:nvSpPr>
          <p:spPr>
            <a:xfrm rot="8860800">
              <a:off x="4334040" y="46242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121640" y="4726440"/>
              <a:ext cx="343440" cy="217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6275880" y="5129280"/>
            <a:ext cx="2702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  = 4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38880" y="1908000"/>
            <a:ext cx="444240" cy="314640"/>
          </a:xfrm>
          <a:custGeom>
            <a:avLst/>
            <a:gdLst/>
            <a:ahLst/>
            <a:rect l="l" t="t" r="r" b="b"/>
            <a:pathLst>
              <a:path w="280" h="198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198"/>
                </a:lnTo>
                <a:lnTo>
                  <a:pt x="280" y="194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59480" y="4591080"/>
            <a:ext cx="155520" cy="18108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654520" y="3962520"/>
            <a:ext cx="15588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11960" y="3295800"/>
            <a:ext cx="15552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37080" y="1901880"/>
            <a:ext cx="446040" cy="515880"/>
          </a:xfrm>
          <a:custGeom>
            <a:avLst/>
            <a:gdLst/>
            <a:ahLst/>
            <a:rect l="l" t="t" r="r" b="b"/>
            <a:pathLst>
              <a:path w="281" h="325">
                <a:moveTo>
                  <a:pt x="53" y="28"/>
                </a:moveTo>
                <a:lnTo>
                  <a:pt x="15" y="68"/>
                </a:lnTo>
                <a:lnTo>
                  <a:pt x="1" y="134"/>
                </a:lnTo>
                <a:lnTo>
                  <a:pt x="0" y="325"/>
                </a:lnTo>
                <a:lnTo>
                  <a:pt x="280" y="322"/>
                </a:lnTo>
                <a:lnTo>
                  <a:pt x="281" y="84"/>
                </a:lnTo>
                <a:lnTo>
                  <a:pt x="239" y="32"/>
                </a:lnTo>
                <a:lnTo>
                  <a:pt x="181" y="2"/>
                </a:lnTo>
                <a:lnTo>
                  <a:pt x="113" y="0"/>
                </a:lnTo>
                <a:lnTo>
                  <a:pt x="53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42120" y="190980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2480" y="5129280"/>
            <a:ext cx="2090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654360" y="4349880"/>
            <a:ext cx="282600" cy="409320"/>
            <a:chOff x="3654360" y="4349880"/>
            <a:chExt cx="282600" cy="409320"/>
          </a:xfrm>
        </p:grpSpPr>
        <p:sp>
          <p:nvSpPr>
            <p:cNvPr id="694" name=""/>
            <p:cNvSpPr/>
            <p:nvPr/>
          </p:nvSpPr>
          <p:spPr>
            <a:xfrm>
              <a:off x="3654360" y="45784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81440" y="43498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648240" y="3695760"/>
            <a:ext cx="257040" cy="434880"/>
            <a:chOff x="3648240" y="3695760"/>
            <a:chExt cx="257040" cy="434880"/>
          </a:xfrm>
        </p:grpSpPr>
        <p:sp>
          <p:nvSpPr>
            <p:cNvPr id="697" name=""/>
            <p:cNvSpPr/>
            <p:nvPr/>
          </p:nvSpPr>
          <p:spPr>
            <a:xfrm>
              <a:off x="3749760" y="39495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48240" y="36957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568680" y="3251160"/>
            <a:ext cx="324000" cy="327240"/>
            <a:chOff x="3568680" y="3251160"/>
            <a:chExt cx="324000" cy="327240"/>
          </a:xfrm>
        </p:grpSpPr>
        <p:sp>
          <p:nvSpPr>
            <p:cNvPr id="700" name=""/>
            <p:cNvSpPr/>
            <p:nvPr/>
          </p:nvSpPr>
          <p:spPr>
            <a:xfrm>
              <a:off x="3568680" y="339732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36800" y="3251160"/>
              <a:ext cx="15588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3546360" y="1884240"/>
            <a:ext cx="449280" cy="452520"/>
          </a:xfrm>
          <a:custGeom>
            <a:avLst/>
            <a:gdLst/>
            <a:ahLst/>
            <a:rect l="l" t="t" r="r" b="b"/>
            <a:pathLst>
              <a:path w="283" h="285">
                <a:moveTo>
                  <a:pt x="53" y="25"/>
                </a:moveTo>
                <a:lnTo>
                  <a:pt x="15" y="60"/>
                </a:lnTo>
                <a:lnTo>
                  <a:pt x="1" y="118"/>
                </a:lnTo>
                <a:lnTo>
                  <a:pt x="0" y="285"/>
                </a:lnTo>
                <a:lnTo>
                  <a:pt x="280" y="282"/>
                </a:lnTo>
                <a:lnTo>
                  <a:pt x="283" y="100"/>
                </a:lnTo>
                <a:lnTo>
                  <a:pt x="259" y="46"/>
                </a:lnTo>
                <a:lnTo>
                  <a:pt x="181" y="2"/>
                </a:lnTo>
                <a:lnTo>
                  <a:pt x="113" y="0"/>
                </a:lnTo>
                <a:lnTo>
                  <a:pt x="53" y="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51400" y="187812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43480" y="1882800"/>
            <a:ext cx="452160" cy="1193760"/>
          </a:xfrm>
          <a:custGeom>
            <a:avLst/>
            <a:gdLst/>
            <a:ahLst/>
            <a:rect l="l" t="t" r="r" b="b"/>
            <a:pathLst>
              <a:path w="285" h="752">
                <a:moveTo>
                  <a:pt x="54" y="28"/>
                </a:moveTo>
                <a:lnTo>
                  <a:pt x="16" y="68"/>
                </a:lnTo>
                <a:lnTo>
                  <a:pt x="2" y="134"/>
                </a:lnTo>
                <a:lnTo>
                  <a:pt x="0" y="752"/>
                </a:lnTo>
                <a:lnTo>
                  <a:pt x="285" y="752"/>
                </a:lnTo>
                <a:lnTo>
                  <a:pt x="282" y="84"/>
                </a:lnTo>
                <a:lnTo>
                  <a:pt x="240" y="32"/>
                </a:lnTo>
                <a:lnTo>
                  <a:pt x="182" y="2"/>
                </a:lnTo>
                <a:lnTo>
                  <a:pt x="114" y="0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667560" y="256536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36560" y="259092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898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 gaz dégagé à l’anode est bien du dioxygèn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r il «rallume» un objet incan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155000" y="1603440"/>
            <a:ext cx="68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5702040" y="1943280"/>
            <a:ext cx="15238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898560"/>
            <a:ext cx="91440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715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722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727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732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737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738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741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744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745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748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0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751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121640" y="4582080"/>
            <a:ext cx="466200" cy="361440"/>
            <a:chOff x="4121640" y="4582080"/>
            <a:chExt cx="466200" cy="361440"/>
          </a:xfrm>
        </p:grpSpPr>
        <p:sp>
          <p:nvSpPr>
            <p:cNvPr id="754" name=""/>
            <p:cNvSpPr/>
            <p:nvPr/>
          </p:nvSpPr>
          <p:spPr>
            <a:xfrm rot="8860800">
              <a:off x="4334040" y="46242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121640" y="4726440"/>
              <a:ext cx="343440" cy="217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6275880" y="5129280"/>
            <a:ext cx="2702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  = 4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38880" y="1908000"/>
            <a:ext cx="444240" cy="314640"/>
          </a:xfrm>
          <a:custGeom>
            <a:avLst/>
            <a:gdLst/>
            <a:ahLst/>
            <a:rect l="l" t="t" r="r" b="b"/>
            <a:pathLst>
              <a:path w="280" h="198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198"/>
                </a:lnTo>
                <a:lnTo>
                  <a:pt x="280" y="194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59480" y="4591080"/>
            <a:ext cx="155520" cy="18108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54520" y="3962520"/>
            <a:ext cx="15588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511960" y="3295800"/>
            <a:ext cx="15552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37080" y="1901880"/>
            <a:ext cx="446040" cy="515880"/>
          </a:xfrm>
          <a:custGeom>
            <a:avLst/>
            <a:gdLst/>
            <a:ahLst/>
            <a:rect l="l" t="t" r="r" b="b"/>
            <a:pathLst>
              <a:path w="281" h="325">
                <a:moveTo>
                  <a:pt x="53" y="28"/>
                </a:moveTo>
                <a:lnTo>
                  <a:pt x="15" y="68"/>
                </a:lnTo>
                <a:lnTo>
                  <a:pt x="1" y="134"/>
                </a:lnTo>
                <a:lnTo>
                  <a:pt x="0" y="325"/>
                </a:lnTo>
                <a:lnTo>
                  <a:pt x="280" y="322"/>
                </a:lnTo>
                <a:lnTo>
                  <a:pt x="281" y="84"/>
                </a:lnTo>
                <a:lnTo>
                  <a:pt x="239" y="32"/>
                </a:lnTo>
                <a:lnTo>
                  <a:pt x="181" y="2"/>
                </a:lnTo>
                <a:lnTo>
                  <a:pt x="113" y="0"/>
                </a:lnTo>
                <a:lnTo>
                  <a:pt x="53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42120" y="190980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52480" y="5129280"/>
            <a:ext cx="2090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3654360" y="4349880"/>
            <a:ext cx="282600" cy="409320"/>
            <a:chOff x="3654360" y="4349880"/>
            <a:chExt cx="282600" cy="409320"/>
          </a:xfrm>
        </p:grpSpPr>
        <p:sp>
          <p:nvSpPr>
            <p:cNvPr id="765" name=""/>
            <p:cNvSpPr/>
            <p:nvPr/>
          </p:nvSpPr>
          <p:spPr>
            <a:xfrm>
              <a:off x="3654360" y="45784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81440" y="43498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648240" y="3695760"/>
            <a:ext cx="257040" cy="434880"/>
            <a:chOff x="3648240" y="3695760"/>
            <a:chExt cx="257040" cy="434880"/>
          </a:xfrm>
        </p:grpSpPr>
        <p:sp>
          <p:nvSpPr>
            <p:cNvPr id="768" name=""/>
            <p:cNvSpPr/>
            <p:nvPr/>
          </p:nvSpPr>
          <p:spPr>
            <a:xfrm>
              <a:off x="3749760" y="39495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48240" y="36957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568680" y="3251160"/>
            <a:ext cx="324000" cy="327240"/>
            <a:chOff x="3568680" y="3251160"/>
            <a:chExt cx="324000" cy="327240"/>
          </a:xfrm>
        </p:grpSpPr>
        <p:sp>
          <p:nvSpPr>
            <p:cNvPr id="771" name=""/>
            <p:cNvSpPr/>
            <p:nvPr/>
          </p:nvSpPr>
          <p:spPr>
            <a:xfrm>
              <a:off x="3568680" y="339732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6800" y="3251160"/>
              <a:ext cx="15588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3546360" y="1884240"/>
            <a:ext cx="449280" cy="452520"/>
          </a:xfrm>
          <a:custGeom>
            <a:avLst/>
            <a:gdLst/>
            <a:ahLst/>
            <a:rect l="l" t="t" r="r" b="b"/>
            <a:pathLst>
              <a:path w="283" h="285">
                <a:moveTo>
                  <a:pt x="53" y="25"/>
                </a:moveTo>
                <a:lnTo>
                  <a:pt x="15" y="60"/>
                </a:lnTo>
                <a:lnTo>
                  <a:pt x="1" y="118"/>
                </a:lnTo>
                <a:lnTo>
                  <a:pt x="0" y="285"/>
                </a:lnTo>
                <a:lnTo>
                  <a:pt x="280" y="282"/>
                </a:lnTo>
                <a:lnTo>
                  <a:pt x="283" y="100"/>
                </a:lnTo>
                <a:lnTo>
                  <a:pt x="259" y="46"/>
                </a:lnTo>
                <a:lnTo>
                  <a:pt x="181" y="2"/>
                </a:lnTo>
                <a:lnTo>
                  <a:pt x="113" y="0"/>
                </a:lnTo>
                <a:lnTo>
                  <a:pt x="53" y="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551400" y="187812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43480" y="1882800"/>
            <a:ext cx="452160" cy="1193760"/>
          </a:xfrm>
          <a:custGeom>
            <a:avLst/>
            <a:gdLst/>
            <a:ahLst/>
            <a:rect l="l" t="t" r="r" b="b"/>
            <a:pathLst>
              <a:path w="285" h="752">
                <a:moveTo>
                  <a:pt x="54" y="28"/>
                </a:moveTo>
                <a:lnTo>
                  <a:pt x="16" y="68"/>
                </a:lnTo>
                <a:lnTo>
                  <a:pt x="2" y="134"/>
                </a:lnTo>
                <a:lnTo>
                  <a:pt x="0" y="752"/>
                </a:lnTo>
                <a:lnTo>
                  <a:pt x="285" y="752"/>
                </a:lnTo>
                <a:lnTo>
                  <a:pt x="282" y="84"/>
                </a:lnTo>
                <a:lnTo>
                  <a:pt x="240" y="32"/>
                </a:lnTo>
                <a:lnTo>
                  <a:pt x="182" y="2"/>
                </a:lnTo>
                <a:lnTo>
                  <a:pt x="114" y="0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667560" y="256536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36560" y="259092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98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 gaz dégagé à la cathode est bien du dihydrogène</a:t>
            </a:r>
            <a:br>
              <a:rPr sz="2400"/>
            </a:b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ar il «aboie» en présence d’une fl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155000" y="1603440"/>
            <a:ext cx="68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5702040" y="1943280"/>
            <a:ext cx="15238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98440" y="1616040"/>
            <a:ext cx="68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943280" y="2006640"/>
            <a:ext cx="180324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8985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Le dégagement de H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fr-FR" sz="2400" spc="-1" strike="noStrike">
                <a:solidFill>
                  <a:srgbClr val="990000"/>
                </a:solidFill>
                <a:latin typeface="Times New Roman"/>
              </a:rPr>
              <a:t> est deux fois plus important que celui de O</a:t>
            </a:r>
            <a:r>
              <a:rPr b="1" lang="fr-FR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788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795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7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800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805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810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811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814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817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818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821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824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4121640" y="4582080"/>
            <a:ext cx="466200" cy="361440"/>
            <a:chOff x="4121640" y="4582080"/>
            <a:chExt cx="466200" cy="361440"/>
          </a:xfrm>
        </p:grpSpPr>
        <p:sp>
          <p:nvSpPr>
            <p:cNvPr id="827" name=""/>
            <p:cNvSpPr/>
            <p:nvPr/>
          </p:nvSpPr>
          <p:spPr>
            <a:xfrm rot="8860800">
              <a:off x="4334040" y="4624200"/>
              <a:ext cx="216000" cy="203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4121640" y="4726440"/>
              <a:ext cx="343440" cy="2170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275880" y="5129280"/>
            <a:ext cx="27025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xy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  = 4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438880" y="1908000"/>
            <a:ext cx="444240" cy="314640"/>
          </a:xfrm>
          <a:custGeom>
            <a:avLst/>
            <a:gdLst/>
            <a:ahLst/>
            <a:rect l="l" t="t" r="r" b="b"/>
            <a:pathLst>
              <a:path w="280" h="198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198"/>
                </a:lnTo>
                <a:lnTo>
                  <a:pt x="280" y="194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59480" y="4591080"/>
            <a:ext cx="155520" cy="18108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54520" y="3962520"/>
            <a:ext cx="15588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11960" y="3295800"/>
            <a:ext cx="155520" cy="180720"/>
          </a:xfrm>
          <a:custGeom>
            <a:avLst/>
            <a:gdLst/>
            <a:ahLst/>
            <a:rect l="l" t="t" r="r" b="b"/>
            <a:pathLst>
              <a:path w="98" h="114">
                <a:moveTo>
                  <a:pt x="2" y="30"/>
                </a:moveTo>
                <a:cubicBezTo>
                  <a:pt x="10" y="72"/>
                  <a:pt x="5" y="50"/>
                  <a:pt x="20" y="96"/>
                </a:cubicBezTo>
                <a:cubicBezTo>
                  <a:pt x="22" y="102"/>
                  <a:pt x="32" y="99"/>
                  <a:pt x="38" y="102"/>
                </a:cubicBezTo>
                <a:cubicBezTo>
                  <a:pt x="44" y="105"/>
                  <a:pt x="50" y="110"/>
                  <a:pt x="56" y="114"/>
                </a:cubicBezTo>
                <a:cubicBezTo>
                  <a:pt x="78" y="92"/>
                  <a:pt x="81" y="67"/>
                  <a:pt x="98" y="42"/>
                </a:cubicBezTo>
                <a:cubicBezTo>
                  <a:pt x="90" y="17"/>
                  <a:pt x="63" y="8"/>
                  <a:pt x="38" y="0"/>
                </a:cubicBezTo>
                <a:cubicBezTo>
                  <a:pt x="32" y="2"/>
                  <a:pt x="24" y="1"/>
                  <a:pt x="20" y="6"/>
                </a:cubicBezTo>
                <a:cubicBezTo>
                  <a:pt x="0" y="34"/>
                  <a:pt x="16" y="58"/>
                  <a:pt x="2" y="3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37080" y="1901880"/>
            <a:ext cx="446040" cy="515880"/>
          </a:xfrm>
          <a:custGeom>
            <a:avLst/>
            <a:gdLst/>
            <a:ahLst/>
            <a:rect l="l" t="t" r="r" b="b"/>
            <a:pathLst>
              <a:path w="281" h="325">
                <a:moveTo>
                  <a:pt x="53" y="28"/>
                </a:moveTo>
                <a:lnTo>
                  <a:pt x="15" y="68"/>
                </a:lnTo>
                <a:lnTo>
                  <a:pt x="1" y="134"/>
                </a:lnTo>
                <a:lnTo>
                  <a:pt x="0" y="325"/>
                </a:lnTo>
                <a:lnTo>
                  <a:pt x="280" y="322"/>
                </a:lnTo>
                <a:lnTo>
                  <a:pt x="281" y="84"/>
                </a:lnTo>
                <a:lnTo>
                  <a:pt x="239" y="32"/>
                </a:lnTo>
                <a:lnTo>
                  <a:pt x="181" y="2"/>
                </a:lnTo>
                <a:lnTo>
                  <a:pt x="113" y="0"/>
                </a:lnTo>
                <a:lnTo>
                  <a:pt x="53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442120" y="190980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52480" y="5129280"/>
            <a:ext cx="2090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3654360" y="4349880"/>
            <a:ext cx="282600" cy="409320"/>
            <a:chOff x="3654360" y="4349880"/>
            <a:chExt cx="282600" cy="409320"/>
          </a:xfrm>
        </p:grpSpPr>
        <p:sp>
          <p:nvSpPr>
            <p:cNvPr id="838" name=""/>
            <p:cNvSpPr/>
            <p:nvPr/>
          </p:nvSpPr>
          <p:spPr>
            <a:xfrm>
              <a:off x="3654360" y="45784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81440" y="4349880"/>
              <a:ext cx="155520" cy="18072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648240" y="3695760"/>
            <a:ext cx="257040" cy="434880"/>
            <a:chOff x="3648240" y="3695760"/>
            <a:chExt cx="257040" cy="434880"/>
          </a:xfrm>
        </p:grpSpPr>
        <p:sp>
          <p:nvSpPr>
            <p:cNvPr id="841" name=""/>
            <p:cNvSpPr/>
            <p:nvPr/>
          </p:nvSpPr>
          <p:spPr>
            <a:xfrm>
              <a:off x="3749760" y="39495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648240" y="369576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3568680" y="3251160"/>
            <a:ext cx="324000" cy="327240"/>
            <a:chOff x="3568680" y="3251160"/>
            <a:chExt cx="324000" cy="327240"/>
          </a:xfrm>
        </p:grpSpPr>
        <p:sp>
          <p:nvSpPr>
            <p:cNvPr id="844" name=""/>
            <p:cNvSpPr/>
            <p:nvPr/>
          </p:nvSpPr>
          <p:spPr>
            <a:xfrm>
              <a:off x="3568680" y="339732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36800" y="3251160"/>
              <a:ext cx="15588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2" y="30"/>
                  </a:moveTo>
                  <a:cubicBezTo>
                    <a:pt x="10" y="72"/>
                    <a:pt x="5" y="50"/>
                    <a:pt x="20" y="96"/>
                  </a:cubicBezTo>
                  <a:cubicBezTo>
                    <a:pt x="22" y="102"/>
                    <a:pt x="32" y="99"/>
                    <a:pt x="38" y="102"/>
                  </a:cubicBezTo>
                  <a:cubicBezTo>
                    <a:pt x="44" y="105"/>
                    <a:pt x="50" y="110"/>
                    <a:pt x="56" y="114"/>
                  </a:cubicBezTo>
                  <a:cubicBezTo>
                    <a:pt x="78" y="92"/>
                    <a:pt x="81" y="67"/>
                    <a:pt x="98" y="42"/>
                  </a:cubicBezTo>
                  <a:cubicBezTo>
                    <a:pt x="90" y="17"/>
                    <a:pt x="63" y="8"/>
                    <a:pt x="38" y="0"/>
                  </a:cubicBezTo>
                  <a:cubicBezTo>
                    <a:pt x="32" y="2"/>
                    <a:pt x="24" y="1"/>
                    <a:pt x="20" y="6"/>
                  </a:cubicBezTo>
                  <a:cubicBezTo>
                    <a:pt x="0" y="34"/>
                    <a:pt x="16" y="58"/>
                    <a:pt x="2" y="3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3546360" y="1884240"/>
            <a:ext cx="449280" cy="452520"/>
          </a:xfrm>
          <a:custGeom>
            <a:avLst/>
            <a:gdLst/>
            <a:ahLst/>
            <a:rect l="l" t="t" r="r" b="b"/>
            <a:pathLst>
              <a:path w="283" h="285">
                <a:moveTo>
                  <a:pt x="53" y="25"/>
                </a:moveTo>
                <a:lnTo>
                  <a:pt x="15" y="60"/>
                </a:lnTo>
                <a:lnTo>
                  <a:pt x="1" y="118"/>
                </a:lnTo>
                <a:lnTo>
                  <a:pt x="0" y="285"/>
                </a:lnTo>
                <a:lnTo>
                  <a:pt x="280" y="282"/>
                </a:lnTo>
                <a:lnTo>
                  <a:pt x="283" y="100"/>
                </a:lnTo>
                <a:lnTo>
                  <a:pt x="259" y="46"/>
                </a:lnTo>
                <a:lnTo>
                  <a:pt x="181" y="2"/>
                </a:lnTo>
                <a:lnTo>
                  <a:pt x="113" y="0"/>
                </a:lnTo>
                <a:lnTo>
                  <a:pt x="53" y="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551400" y="1878120"/>
            <a:ext cx="447480" cy="696960"/>
          </a:xfrm>
          <a:custGeom>
            <a:avLst/>
            <a:gdLst/>
            <a:ahLst/>
            <a:rect l="l" t="t" r="r" b="b"/>
            <a:pathLst>
              <a:path w="282" h="439">
                <a:moveTo>
                  <a:pt x="52" y="28"/>
                </a:moveTo>
                <a:lnTo>
                  <a:pt x="14" y="68"/>
                </a:lnTo>
                <a:lnTo>
                  <a:pt x="0" y="134"/>
                </a:lnTo>
                <a:lnTo>
                  <a:pt x="0" y="439"/>
                </a:lnTo>
                <a:lnTo>
                  <a:pt x="282" y="439"/>
                </a:lnTo>
                <a:lnTo>
                  <a:pt x="280" y="84"/>
                </a:lnTo>
                <a:lnTo>
                  <a:pt x="238" y="32"/>
                </a:lnTo>
                <a:lnTo>
                  <a:pt x="180" y="2"/>
                </a:lnTo>
                <a:lnTo>
                  <a:pt x="112" y="0"/>
                </a:lnTo>
                <a:lnTo>
                  <a:pt x="52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543480" y="1882800"/>
            <a:ext cx="452160" cy="1193760"/>
          </a:xfrm>
          <a:custGeom>
            <a:avLst/>
            <a:gdLst/>
            <a:ahLst/>
            <a:rect l="l" t="t" r="r" b="b"/>
            <a:pathLst>
              <a:path w="285" h="752">
                <a:moveTo>
                  <a:pt x="54" y="28"/>
                </a:moveTo>
                <a:lnTo>
                  <a:pt x="16" y="68"/>
                </a:lnTo>
                <a:lnTo>
                  <a:pt x="2" y="134"/>
                </a:lnTo>
                <a:lnTo>
                  <a:pt x="0" y="752"/>
                </a:lnTo>
                <a:lnTo>
                  <a:pt x="285" y="752"/>
                </a:lnTo>
                <a:lnTo>
                  <a:pt x="282" y="84"/>
                </a:lnTo>
                <a:lnTo>
                  <a:pt x="240" y="32"/>
                </a:lnTo>
                <a:lnTo>
                  <a:pt x="182" y="2"/>
                </a:lnTo>
                <a:lnTo>
                  <a:pt x="114" y="0"/>
                </a:lnTo>
                <a:lnTo>
                  <a:pt x="54" y="2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667560" y="256536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36560" y="259092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898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5000" y="1603440"/>
            <a:ext cx="68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5702040" y="1943280"/>
            <a:ext cx="15238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198440" y="1616040"/>
            <a:ext cx="68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43280" y="2006640"/>
            <a:ext cx="1803240" cy="44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1292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0066"/>
                </a:solidFill>
                <a:latin typeface="Times New Roman"/>
              </a:rPr>
              <a:t>Cela s ’explique par l’équation de l’électro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76520" y="3662280"/>
            <a:ext cx="4238640" cy="1609920"/>
          </a:xfrm>
          <a:custGeom>
            <a:avLst/>
            <a:gdLst/>
            <a:ahLst/>
            <a:rect l="l" t="t" r="r" b="b"/>
            <a:pathLst>
              <a:path w="2670" h="1014">
                <a:moveTo>
                  <a:pt x="0" y="0"/>
                </a:moveTo>
                <a:lnTo>
                  <a:pt x="2670" y="9"/>
                </a:lnTo>
                <a:lnTo>
                  <a:pt x="2412" y="1011"/>
                </a:lnTo>
                <a:lnTo>
                  <a:pt x="2004" y="1005"/>
                </a:lnTo>
                <a:lnTo>
                  <a:pt x="1998" y="831"/>
                </a:lnTo>
                <a:lnTo>
                  <a:pt x="1908" y="831"/>
                </a:lnTo>
                <a:lnTo>
                  <a:pt x="1905" y="1014"/>
                </a:lnTo>
                <a:lnTo>
                  <a:pt x="789" y="1014"/>
                </a:lnTo>
                <a:lnTo>
                  <a:pt x="783" y="813"/>
                </a:lnTo>
                <a:lnTo>
                  <a:pt x="699" y="813"/>
                </a:lnTo>
                <a:lnTo>
                  <a:pt x="696" y="1014"/>
                </a:lnTo>
                <a:lnTo>
                  <a:pt x="261" y="101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34040" y="426708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attaqu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5454720"/>
            <a:ext cx="3724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785920" y="4495680"/>
            <a:ext cx="13258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00240" y="4508640"/>
            <a:ext cx="319860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711440" y="4629240"/>
            <a:ext cx="149832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On place une solution d’acide sulfurique dans un électrolys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254160" y="1866960"/>
            <a:ext cx="641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xydation à l’anode     2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  = 4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4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78000" y="8794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Times New Roman"/>
              </a:rPr>
              <a:t>L’équation est celle du fonctionnement forc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469880" y="3857760"/>
            <a:ext cx="5801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Équation  2 H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O  = 2 H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+ O</a:t>
            </a:r>
            <a:r>
              <a:rPr b="0" lang="fr-FR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6452280" y="1355760"/>
            <a:ext cx="2361240" cy="798840"/>
            <a:chOff x="6452280" y="1355760"/>
            <a:chExt cx="2361240" cy="798840"/>
          </a:xfrm>
        </p:grpSpPr>
        <p:sp>
          <p:nvSpPr>
            <p:cNvPr id="861" name=""/>
            <p:cNvSpPr/>
            <p:nvPr/>
          </p:nvSpPr>
          <p:spPr>
            <a:xfrm>
              <a:off x="7305480" y="1355760"/>
              <a:ext cx="15080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Formation 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e O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0521200">
              <a:off x="6471720" y="1774080"/>
              <a:ext cx="826560" cy="258840"/>
            </a:xfrm>
            <a:custGeom>
              <a:avLst/>
              <a:gdLst>
                <a:gd name="textAreaLeft" fmla="*/ 103320 w 826560"/>
                <a:gd name="textAreaRight" fmla="*/ 723240 w 826560"/>
                <a:gd name="textAreaTop" fmla="*/ 64800 h 258840"/>
                <a:gd name="textAreaBottom" fmla="*/ 194400 h 2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5562000" y="2624400"/>
            <a:ext cx="2718360" cy="783000"/>
            <a:chOff x="5562000" y="2624400"/>
            <a:chExt cx="2718360" cy="783000"/>
          </a:xfrm>
        </p:grpSpPr>
        <p:sp>
          <p:nvSpPr>
            <p:cNvPr id="864" name=""/>
            <p:cNvSpPr/>
            <p:nvPr/>
          </p:nvSpPr>
          <p:spPr>
            <a:xfrm>
              <a:off x="6546960" y="2727360"/>
              <a:ext cx="17334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Formation 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e H</a:t>
              </a:r>
              <a:r>
                <a:rPr b="0" lang="fr-FR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315800">
              <a:off x="5570280" y="2792160"/>
              <a:ext cx="942840" cy="228600"/>
            </a:xfrm>
            <a:custGeom>
              <a:avLst/>
              <a:gdLst>
                <a:gd name="textAreaLeft" fmla="*/ 117720 w 942840"/>
                <a:gd name="textAreaRight" fmla="*/ 825120 w 9428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760" y="2463840"/>
            <a:ext cx="641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duction à la cathode     2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+ 2 e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481644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66"/>
                </a:solidFill>
                <a:latin typeface="Times New Roman"/>
              </a:rPr>
              <a:t>La quantité de H</a:t>
            </a:r>
            <a:r>
              <a:rPr b="0" lang="fr-FR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cc0066"/>
                </a:solidFill>
                <a:latin typeface="Times New Roman"/>
              </a:rPr>
              <a:t> formé est bien deux fois plus grande que celle de O</a:t>
            </a:r>
            <a:r>
              <a:rPr b="0" lang="fr-FR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550224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66"/>
                </a:solidFill>
                <a:latin typeface="Times New Roman"/>
              </a:rPr>
              <a:t>Le volume de H</a:t>
            </a:r>
            <a:r>
              <a:rPr b="0" lang="fr-FR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cc0066"/>
                </a:solidFill>
                <a:latin typeface="Times New Roman"/>
              </a:rPr>
              <a:t> formé est donc deux fois plus grand que celui de O</a:t>
            </a:r>
            <a:r>
              <a:rPr b="0" lang="fr-FR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76520" y="3662280"/>
            <a:ext cx="4238640" cy="1609920"/>
          </a:xfrm>
          <a:custGeom>
            <a:avLst/>
            <a:gdLst/>
            <a:ahLst/>
            <a:rect l="l" t="t" r="r" b="b"/>
            <a:pathLst>
              <a:path w="2670" h="1014">
                <a:moveTo>
                  <a:pt x="0" y="0"/>
                </a:moveTo>
                <a:lnTo>
                  <a:pt x="2670" y="9"/>
                </a:lnTo>
                <a:lnTo>
                  <a:pt x="2412" y="1011"/>
                </a:lnTo>
                <a:lnTo>
                  <a:pt x="2004" y="1005"/>
                </a:lnTo>
                <a:lnTo>
                  <a:pt x="1998" y="831"/>
                </a:lnTo>
                <a:lnTo>
                  <a:pt x="1908" y="831"/>
                </a:lnTo>
                <a:lnTo>
                  <a:pt x="1905" y="1014"/>
                </a:lnTo>
                <a:lnTo>
                  <a:pt x="789" y="1014"/>
                </a:lnTo>
                <a:lnTo>
                  <a:pt x="783" y="813"/>
                </a:lnTo>
                <a:lnTo>
                  <a:pt x="699" y="813"/>
                </a:lnTo>
                <a:lnTo>
                  <a:pt x="696" y="1014"/>
                </a:lnTo>
                <a:lnTo>
                  <a:pt x="261" y="101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34040" y="426708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attaqu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3080" y="5454720"/>
            <a:ext cx="3724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85920" y="4495680"/>
            <a:ext cx="13258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900240" y="4508640"/>
            <a:ext cx="319860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711440" y="4629240"/>
            <a:ext cx="149832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es tubes à essais sont renversés pour recueillir les gaz éventu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34040" y="426708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attaqu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080" y="5454720"/>
            <a:ext cx="3724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785920" y="4495680"/>
            <a:ext cx="13258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900240" y="4508640"/>
            <a:ext cx="319860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711440" y="4629240"/>
            <a:ext cx="149832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es tubes à essais sont renversés pour recueillir les gaz éventu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72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77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34040" y="426708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attaqu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080" y="5454720"/>
            <a:ext cx="3724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85920" y="4495680"/>
            <a:ext cx="13258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900240" y="4508640"/>
            <a:ext cx="319860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711440" y="4629240"/>
            <a:ext cx="149832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680" y="898560"/>
            <a:ext cx="873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On relie les électrodes par un circuit 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ontenant un génér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91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98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103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108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34040" y="426708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attaqu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3080" y="5454720"/>
            <a:ext cx="3724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785920" y="4495680"/>
            <a:ext cx="13258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900240" y="4508640"/>
            <a:ext cx="319860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711440" y="4629240"/>
            <a:ext cx="149832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3680" y="898560"/>
            <a:ext cx="87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Ce générateur impose le sens du courant 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122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129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134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139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144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34040" y="426708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attaqu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3080" y="5454720"/>
            <a:ext cx="3724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785920" y="4495680"/>
            <a:ext cx="13258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900240" y="4508640"/>
            <a:ext cx="319860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11440" y="4629240"/>
            <a:ext cx="149832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ans les conducteurs, le courant est créé par la circulation des é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160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167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172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177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182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183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186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189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190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193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34040" y="4267080"/>
            <a:ext cx="17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ectrode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attaqu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3080" y="5454720"/>
            <a:ext cx="3724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785920" y="4495680"/>
            <a:ext cx="13258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900240" y="4508640"/>
            <a:ext cx="3198600" cy="65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11440" y="4629240"/>
            <a:ext cx="149832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Dans la solution, le courant est créé par la circulation des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205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212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217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222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227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228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234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235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238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fond-electrolyse1" descr=""/>
          <p:cNvPicPr/>
          <p:nvPr/>
        </p:nvPicPr>
        <p:blipFill>
          <a:blip r:embed="rId1"/>
          <a:stretch/>
        </p:blipFill>
        <p:spPr>
          <a:xfrm>
            <a:off x="2330280" y="2976480"/>
            <a:ext cx="4838760" cy="2809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576520" y="1871640"/>
            <a:ext cx="4238640" cy="3400560"/>
          </a:xfrm>
          <a:custGeom>
            <a:avLst/>
            <a:gdLst/>
            <a:ahLst/>
            <a:rect l="l" t="t" r="r" b="b"/>
            <a:pathLst>
              <a:path w="2670" h="2142">
                <a:moveTo>
                  <a:pt x="0" y="1128"/>
                </a:moveTo>
                <a:lnTo>
                  <a:pt x="618" y="1134"/>
                </a:lnTo>
                <a:lnTo>
                  <a:pt x="612" y="117"/>
                </a:lnTo>
                <a:lnTo>
                  <a:pt x="657" y="36"/>
                </a:lnTo>
                <a:lnTo>
                  <a:pt x="714" y="9"/>
                </a:lnTo>
                <a:lnTo>
                  <a:pt x="765" y="0"/>
                </a:lnTo>
                <a:lnTo>
                  <a:pt x="834" y="27"/>
                </a:lnTo>
                <a:lnTo>
                  <a:pt x="876" y="63"/>
                </a:lnTo>
                <a:lnTo>
                  <a:pt x="897" y="126"/>
                </a:lnTo>
                <a:lnTo>
                  <a:pt x="900" y="1140"/>
                </a:lnTo>
                <a:lnTo>
                  <a:pt x="1800" y="1137"/>
                </a:lnTo>
                <a:lnTo>
                  <a:pt x="1803" y="135"/>
                </a:lnTo>
                <a:lnTo>
                  <a:pt x="1833" y="66"/>
                </a:lnTo>
                <a:lnTo>
                  <a:pt x="1878" y="36"/>
                </a:lnTo>
                <a:lnTo>
                  <a:pt x="1944" y="21"/>
                </a:lnTo>
                <a:lnTo>
                  <a:pt x="2010" y="36"/>
                </a:lnTo>
                <a:lnTo>
                  <a:pt x="2055" y="66"/>
                </a:lnTo>
                <a:lnTo>
                  <a:pt x="2094" y="144"/>
                </a:lnTo>
                <a:lnTo>
                  <a:pt x="2091" y="1134"/>
                </a:lnTo>
                <a:lnTo>
                  <a:pt x="2670" y="1137"/>
                </a:lnTo>
                <a:lnTo>
                  <a:pt x="2412" y="2139"/>
                </a:lnTo>
                <a:lnTo>
                  <a:pt x="2004" y="2133"/>
                </a:lnTo>
                <a:lnTo>
                  <a:pt x="1998" y="1959"/>
                </a:lnTo>
                <a:lnTo>
                  <a:pt x="1908" y="1959"/>
                </a:lnTo>
                <a:lnTo>
                  <a:pt x="1905" y="2142"/>
                </a:lnTo>
                <a:lnTo>
                  <a:pt x="789" y="2142"/>
                </a:lnTo>
                <a:lnTo>
                  <a:pt x="783" y="1941"/>
                </a:lnTo>
                <a:lnTo>
                  <a:pt x="699" y="1941"/>
                </a:lnTo>
                <a:lnTo>
                  <a:pt x="696" y="2142"/>
                </a:lnTo>
                <a:lnTo>
                  <a:pt x="261" y="2139"/>
                </a:lnTo>
                <a:lnTo>
                  <a:pt x="0" y="112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Électrolyse de l'e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080" y="5454720"/>
            <a:ext cx="372420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olution d’aci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lfurique  : 2 H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+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; SO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711440" y="4629240"/>
            <a:ext cx="1498320" cy="760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98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Times New Roman"/>
              </a:rPr>
              <a:t>Les anions se déplacent dans le sens des é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93960" y="5568840"/>
            <a:ext cx="3001320" cy="1113840"/>
            <a:chOff x="3693960" y="5568840"/>
            <a:chExt cx="3001320" cy="1113840"/>
          </a:xfrm>
        </p:grpSpPr>
        <p:sp>
          <p:nvSpPr>
            <p:cNvPr id="247" name=""/>
            <p:cNvSpPr/>
            <p:nvPr/>
          </p:nvSpPr>
          <p:spPr>
            <a:xfrm>
              <a:off x="5225400" y="622296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énérate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30880" y="5987880"/>
              <a:ext cx="609480" cy="60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45080" y="628668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72160" y="556884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24640" y="5648400"/>
              <a:ext cx="12060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22800" y="6426360"/>
              <a:ext cx="17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054760" y="6372360"/>
              <a:ext cx="171360" cy="177840"/>
              <a:chOff x="5054760" y="6372360"/>
              <a:chExt cx="171360" cy="177840"/>
            </a:xfrm>
          </p:grpSpPr>
          <p:sp>
            <p:nvSpPr>
              <p:cNvPr id="254" name=""/>
              <p:cNvSpPr/>
              <p:nvPr/>
            </p:nvSpPr>
            <p:spPr>
              <a:xfrm>
                <a:off x="5054760" y="64645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39720" y="6372360"/>
                <a:ext cx="6120" cy="17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3754440" y="5581800"/>
              <a:ext cx="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93960" y="5661000"/>
              <a:ext cx="120960" cy="152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541680" y="1878840"/>
            <a:ext cx="458640" cy="2746800"/>
            <a:chOff x="3541680" y="1878840"/>
            <a:chExt cx="458640" cy="2746800"/>
          </a:xfrm>
        </p:grpSpPr>
        <p:sp>
          <p:nvSpPr>
            <p:cNvPr id="259" name=""/>
            <p:cNvSpPr/>
            <p:nvPr/>
          </p:nvSpPr>
          <p:spPr>
            <a:xfrm flipV="1">
              <a:off x="354168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4000320" y="20743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42760" y="18788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541680" y="18788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433840" y="1904040"/>
            <a:ext cx="458640" cy="2746800"/>
            <a:chOff x="5433840" y="1904040"/>
            <a:chExt cx="458640" cy="2746800"/>
          </a:xfrm>
        </p:grpSpPr>
        <p:sp>
          <p:nvSpPr>
            <p:cNvPr id="264" name=""/>
            <p:cNvSpPr/>
            <p:nvPr/>
          </p:nvSpPr>
          <p:spPr>
            <a:xfrm flipV="1">
              <a:off x="543384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892480" y="2099520"/>
              <a:ext cx="0" cy="2551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34920" y="1904040"/>
              <a:ext cx="45720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3840" y="1904040"/>
              <a:ext cx="458640" cy="39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754440" y="5807160"/>
            <a:ext cx="1933920" cy="478800"/>
            <a:chOff x="3754440" y="5807160"/>
            <a:chExt cx="1933920" cy="478800"/>
          </a:xfrm>
        </p:grpSpPr>
        <p:grpSp>
          <p:nvGrpSpPr>
            <p:cNvPr id="269" name=""/>
            <p:cNvGrpSpPr/>
            <p:nvPr/>
          </p:nvGrpSpPr>
          <p:grpSpPr>
            <a:xfrm>
              <a:off x="3754440" y="5807160"/>
              <a:ext cx="295560" cy="459720"/>
              <a:chOff x="3754440" y="5807160"/>
              <a:chExt cx="295560" cy="459720"/>
            </a:xfrm>
          </p:grpSpPr>
          <p:sp>
            <p:nvSpPr>
              <p:cNvPr id="270" name=""/>
              <p:cNvSpPr/>
              <p:nvPr/>
            </p:nvSpPr>
            <p:spPr>
              <a:xfrm>
                <a:off x="3754440" y="5910120"/>
                <a:ext cx="0" cy="30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83960" y="580716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422320" y="5826240"/>
              <a:ext cx="266040" cy="459720"/>
              <a:chOff x="5422320" y="5826240"/>
              <a:chExt cx="266040" cy="4597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672160" y="5903640"/>
                <a:ext cx="0" cy="30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22320" y="58262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891960" y="5349960"/>
            <a:ext cx="1658160" cy="533160"/>
            <a:chOff x="3891960" y="5349960"/>
            <a:chExt cx="1658160" cy="533160"/>
          </a:xfrm>
        </p:grpSpPr>
        <p:grpSp>
          <p:nvGrpSpPr>
            <p:cNvPr id="276" name=""/>
            <p:cNvGrpSpPr/>
            <p:nvPr/>
          </p:nvGrpSpPr>
          <p:grpSpPr>
            <a:xfrm>
              <a:off x="5164920" y="5349960"/>
              <a:ext cx="385200" cy="520560"/>
              <a:chOff x="5164920" y="5349960"/>
              <a:chExt cx="385200" cy="52056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5505480" y="536868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64920" y="53499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891960" y="5362560"/>
              <a:ext cx="385200" cy="520560"/>
              <a:chOff x="3891960" y="5362560"/>
              <a:chExt cx="385200" cy="520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926160" y="5376960"/>
                <a:ext cx="0" cy="407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91960" y="5362560"/>
                <a:ext cx="38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ff00"/>
                    </a:solidFill>
                    <a:latin typeface="Times New Roman"/>
                  </a:rPr>
                  <a:t>e</a:t>
                </a:r>
                <a:r>
                  <a:rPr b="0" lang="fr-FR" sz="2800" spc="-1" strike="noStrike" baseline="30000">
                    <a:solidFill>
                      <a:srgbClr val="00ff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4742280" y="4719960"/>
            <a:ext cx="504000" cy="266040"/>
            <a:chOff x="4742280" y="4719960"/>
            <a:chExt cx="504000" cy="266040"/>
          </a:xfrm>
        </p:grpSpPr>
        <p:sp>
          <p:nvSpPr>
            <p:cNvPr id="283" name=""/>
            <p:cNvSpPr/>
            <p:nvPr/>
          </p:nvSpPr>
          <p:spPr>
            <a:xfrm rot="1237800">
              <a:off x="4771080" y="4751280"/>
              <a:ext cx="216000" cy="203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66120" y="4834440"/>
              <a:ext cx="380160" cy="14328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906600" y="5079960"/>
            <a:ext cx="2069280" cy="703800"/>
            <a:chOff x="6906600" y="5079960"/>
            <a:chExt cx="2069280" cy="703800"/>
          </a:xfrm>
        </p:grpSpPr>
        <p:grpSp>
          <p:nvGrpSpPr>
            <p:cNvPr id="286" name=""/>
            <p:cNvGrpSpPr/>
            <p:nvPr/>
          </p:nvGrpSpPr>
          <p:grpSpPr>
            <a:xfrm>
              <a:off x="6906600" y="5366520"/>
              <a:ext cx="497880" cy="208080"/>
              <a:chOff x="6906600" y="5366520"/>
              <a:chExt cx="497880" cy="208080"/>
            </a:xfrm>
          </p:grpSpPr>
          <p:sp>
            <p:nvSpPr>
              <p:cNvPr id="287" name=""/>
              <p:cNvSpPr/>
              <p:nvPr/>
            </p:nvSpPr>
            <p:spPr>
              <a:xfrm rot="78600">
                <a:off x="6908760" y="5368680"/>
                <a:ext cx="216000" cy="20304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98040" y="5457600"/>
                <a:ext cx="406440" cy="9360"/>
              </a:xfrm>
              <a:prstGeom prst="line">
                <a:avLst/>
              </a:prstGeom>
              <a:ln w="3816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7391520" y="5079960"/>
              <a:ext cx="158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éplacement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es an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9:10:04Z</dcterms:created>
  <dc:creator>dulaurans</dc:creator>
  <dc:description/>
  <dc:language>en-US</dc:language>
  <cp:lastModifiedBy>dulaurans</cp:lastModifiedBy>
  <dcterms:modified xsi:type="dcterms:W3CDTF">2003-04-01T12:10:44Z</dcterms:modified>
  <cp:revision>29</cp:revision>
  <dc:subject/>
  <dc:title>La pile cuivre /zinc</dc:title>
</cp:coreProperties>
</file>