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7.wmf" ContentType="image/x-wmf"/>
  <Override PartName="/ppt/media/image10.png" ContentType="image/png"/>
  <Override PartName="/ppt/media/image5.wmf" ContentType="image/x-wmf"/>
  <Override PartName="/ppt/media/image4.wmf" ContentType="image/x-wmf"/>
  <Override PartName="/ppt/media/image34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7.wmf" ContentType="image/x-wmf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837B-22BB-4065-BD7C-1ECCE9C98F8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suivantes…. Dans tout plein de do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suivantes…. Dans tout plein de do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suivantes…. Dans tout plein de do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3693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076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3693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0760" y="43693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39920" y="19810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1240" y="19810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3693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39920" y="43693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1240" y="43693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0760" y="19810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9810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3693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0760" y="43693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9810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3693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e Lycée Montaigne,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’Aquitaine et la mutation historique des technologies optique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25744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Professeur André Ducas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irecteur Général de l’Institut d’Optiqu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irecteur de l’École Supérieure d’Optiqu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petitLOGOIOTA" descr=""/>
          <p:cNvPicPr/>
          <p:nvPr/>
        </p:nvPicPr>
        <p:blipFill>
          <a:blip r:embed="rId1"/>
          <a:stretch/>
        </p:blipFill>
        <p:spPr>
          <a:xfrm>
            <a:off x="133200" y="5769000"/>
            <a:ext cx="1573200" cy="97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381400" cy="26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0964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Les processus interaction onde-matière</a:t>
            </a:r>
            <a:endParaRPr b="1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1447920"/>
            <a:ext cx="3009960" cy="1616040"/>
            <a:chOff x="609480" y="1447920"/>
            <a:chExt cx="3009960" cy="1616040"/>
          </a:xfrm>
        </p:grpSpPr>
        <p:sp>
          <p:nvSpPr>
            <p:cNvPr id="128" name=""/>
            <p:cNvSpPr/>
            <p:nvPr/>
          </p:nvSpPr>
          <p:spPr>
            <a:xfrm>
              <a:off x="1295280" y="1866960"/>
              <a:ext cx="232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5280" y="2743200"/>
              <a:ext cx="232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600" y="248436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1447920"/>
              <a:ext cx="55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8960" y="214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19040" y="2701800"/>
            <a:ext cx="180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-E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 = h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52480" y="1847520"/>
            <a:ext cx="266760" cy="991080"/>
            <a:chOff x="1752480" y="1847520"/>
            <a:chExt cx="266760" cy="991080"/>
          </a:xfrm>
        </p:grpSpPr>
        <p:sp>
          <p:nvSpPr>
            <p:cNvPr id="135" name=""/>
            <p:cNvSpPr/>
            <p:nvPr/>
          </p:nvSpPr>
          <p:spPr>
            <a:xfrm flipV="1">
              <a:off x="1886040" y="18475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2629080"/>
              <a:ext cx="266760" cy="209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971880" y="1751400"/>
            <a:ext cx="1981080" cy="992160"/>
            <a:chOff x="3971880" y="1751400"/>
            <a:chExt cx="1981080" cy="992160"/>
          </a:xfrm>
        </p:grpSpPr>
        <p:grpSp>
          <p:nvGrpSpPr>
            <p:cNvPr id="138" name=""/>
            <p:cNvGrpSpPr/>
            <p:nvPr/>
          </p:nvGrpSpPr>
          <p:grpSpPr>
            <a:xfrm>
              <a:off x="4853520" y="2149200"/>
              <a:ext cx="692280" cy="530640"/>
              <a:chOff x="4853520" y="2149200"/>
              <a:chExt cx="692280" cy="530640"/>
            </a:xfrm>
          </p:grpSpPr>
          <p:sp>
            <p:nvSpPr>
              <p:cNvPr id="139" name=""/>
              <p:cNvSpPr/>
              <p:nvPr/>
            </p:nvSpPr>
            <p:spPr>
              <a:xfrm rot="16359000">
                <a:off x="4941000" y="2112120"/>
                <a:ext cx="476280" cy="630360"/>
              </a:xfrm>
              <a:custGeom>
                <a:avLst/>
                <a:gdLst/>
                <a:ahLst/>
                <a:rect l="l" t="t" r="r" b="b"/>
                <a:pathLst>
                  <a:path w="300" h="397">
                    <a:moveTo>
                      <a:pt x="0" y="19"/>
                    </a:moveTo>
                    <a:cubicBezTo>
                      <a:pt x="54" y="9"/>
                      <a:pt x="109" y="0"/>
                      <a:pt x="120" y="19"/>
                    </a:cubicBezTo>
                    <a:cubicBezTo>
                      <a:pt x="131" y="38"/>
                      <a:pt x="56" y="112"/>
                      <a:pt x="66" y="133"/>
                    </a:cubicBezTo>
                    <a:cubicBezTo>
                      <a:pt x="76" y="154"/>
                      <a:pt x="172" y="125"/>
                      <a:pt x="180" y="145"/>
                    </a:cubicBezTo>
                    <a:cubicBezTo>
                      <a:pt x="188" y="165"/>
                      <a:pt x="102" y="233"/>
                      <a:pt x="114" y="253"/>
                    </a:cubicBezTo>
                    <a:cubicBezTo>
                      <a:pt x="126" y="273"/>
                      <a:pt x="243" y="247"/>
                      <a:pt x="252" y="265"/>
                    </a:cubicBezTo>
                    <a:cubicBezTo>
                      <a:pt x="261" y="283"/>
                      <a:pt x="160" y="339"/>
                      <a:pt x="168" y="361"/>
                    </a:cubicBezTo>
                    <a:cubicBezTo>
                      <a:pt x="176" y="383"/>
                      <a:pt x="278" y="391"/>
                      <a:pt x="300" y="39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505120" y="2149200"/>
                <a:ext cx="4068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971880" y="18669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1880" y="2743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317120" y="1751400"/>
              <a:ext cx="268920" cy="992160"/>
              <a:chOff x="4317120" y="1751400"/>
              <a:chExt cx="268920" cy="99216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4442760" y="1981440"/>
                <a:ext cx="720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0833000">
                <a:off x="4317840" y="1752480"/>
                <a:ext cx="266760" cy="209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800640" y="2139840"/>
            <a:ext cx="854280" cy="768960"/>
            <a:chOff x="800640" y="2139840"/>
            <a:chExt cx="854280" cy="768960"/>
          </a:xfrm>
        </p:grpSpPr>
        <p:sp>
          <p:nvSpPr>
            <p:cNvPr id="147" name=""/>
            <p:cNvSpPr/>
            <p:nvPr/>
          </p:nvSpPr>
          <p:spPr>
            <a:xfrm rot="18588000">
              <a:off x="956880" y="2208960"/>
              <a:ext cx="476280" cy="630000"/>
            </a:xfrm>
            <a:custGeom>
              <a:avLst/>
              <a:gdLst/>
              <a:ahLst/>
              <a:rect l="l" t="t" r="r" b="b"/>
              <a:pathLst>
                <a:path w="300" h="397">
                  <a:moveTo>
                    <a:pt x="0" y="19"/>
                  </a:moveTo>
                  <a:cubicBezTo>
                    <a:pt x="54" y="9"/>
                    <a:pt x="109" y="0"/>
                    <a:pt x="120" y="19"/>
                  </a:cubicBezTo>
                  <a:cubicBezTo>
                    <a:pt x="131" y="38"/>
                    <a:pt x="56" y="112"/>
                    <a:pt x="66" y="133"/>
                  </a:cubicBezTo>
                  <a:cubicBezTo>
                    <a:pt x="76" y="154"/>
                    <a:pt x="172" y="125"/>
                    <a:pt x="180" y="145"/>
                  </a:cubicBezTo>
                  <a:cubicBezTo>
                    <a:pt x="188" y="165"/>
                    <a:pt x="102" y="233"/>
                    <a:pt x="114" y="253"/>
                  </a:cubicBezTo>
                  <a:cubicBezTo>
                    <a:pt x="126" y="273"/>
                    <a:pt x="243" y="247"/>
                    <a:pt x="252" y="265"/>
                  </a:cubicBezTo>
                  <a:cubicBezTo>
                    <a:pt x="261" y="283"/>
                    <a:pt x="160" y="339"/>
                    <a:pt x="168" y="361"/>
                  </a:cubicBezTo>
                  <a:cubicBezTo>
                    <a:pt x="176" y="383"/>
                    <a:pt x="278" y="391"/>
                    <a:pt x="30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589400" y="2523600"/>
              <a:ext cx="6552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494840" y="2022840"/>
            <a:ext cx="854640" cy="771120"/>
            <a:chOff x="7494840" y="2022840"/>
            <a:chExt cx="854640" cy="771120"/>
          </a:xfrm>
        </p:grpSpPr>
        <p:sp>
          <p:nvSpPr>
            <p:cNvPr id="150" name=""/>
            <p:cNvSpPr/>
            <p:nvPr/>
          </p:nvSpPr>
          <p:spPr>
            <a:xfrm rot="18618600">
              <a:off x="7651080" y="2093040"/>
              <a:ext cx="476280" cy="630360"/>
            </a:xfrm>
            <a:custGeom>
              <a:avLst/>
              <a:gdLst/>
              <a:ahLst/>
              <a:rect l="l" t="t" r="r" b="b"/>
              <a:pathLst>
                <a:path w="300" h="397">
                  <a:moveTo>
                    <a:pt x="0" y="19"/>
                  </a:moveTo>
                  <a:cubicBezTo>
                    <a:pt x="54" y="9"/>
                    <a:pt x="109" y="0"/>
                    <a:pt x="120" y="19"/>
                  </a:cubicBezTo>
                  <a:cubicBezTo>
                    <a:pt x="131" y="38"/>
                    <a:pt x="56" y="112"/>
                    <a:pt x="66" y="133"/>
                  </a:cubicBezTo>
                  <a:cubicBezTo>
                    <a:pt x="76" y="154"/>
                    <a:pt x="172" y="125"/>
                    <a:pt x="180" y="145"/>
                  </a:cubicBezTo>
                  <a:cubicBezTo>
                    <a:pt x="188" y="165"/>
                    <a:pt x="102" y="233"/>
                    <a:pt x="114" y="253"/>
                  </a:cubicBezTo>
                  <a:cubicBezTo>
                    <a:pt x="126" y="273"/>
                    <a:pt x="243" y="247"/>
                    <a:pt x="252" y="265"/>
                  </a:cubicBezTo>
                  <a:cubicBezTo>
                    <a:pt x="261" y="283"/>
                    <a:pt x="160" y="339"/>
                    <a:pt x="168" y="361"/>
                  </a:cubicBezTo>
                  <a:cubicBezTo>
                    <a:pt x="176" y="383"/>
                    <a:pt x="278" y="391"/>
                    <a:pt x="30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283600" y="2412000"/>
              <a:ext cx="6588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694560" y="186516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4560" y="274176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039800" y="1749960"/>
            <a:ext cx="268920" cy="992160"/>
            <a:chOff x="7039800" y="1749960"/>
            <a:chExt cx="268920" cy="992160"/>
          </a:xfrm>
        </p:grpSpPr>
        <p:sp>
          <p:nvSpPr>
            <p:cNvPr id="155" name=""/>
            <p:cNvSpPr/>
            <p:nvPr/>
          </p:nvSpPr>
          <p:spPr>
            <a:xfrm flipH="1">
              <a:off x="7165440" y="1980000"/>
              <a:ext cx="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33000">
              <a:off x="7040520" y="1751040"/>
              <a:ext cx="266760" cy="209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94840" y="1738800"/>
            <a:ext cx="854640" cy="771120"/>
            <a:chOff x="7494840" y="1738800"/>
            <a:chExt cx="854640" cy="771120"/>
          </a:xfrm>
        </p:grpSpPr>
        <p:sp>
          <p:nvSpPr>
            <p:cNvPr id="158" name=""/>
            <p:cNvSpPr/>
            <p:nvPr/>
          </p:nvSpPr>
          <p:spPr>
            <a:xfrm rot="18618600">
              <a:off x="7651080" y="1809000"/>
              <a:ext cx="476280" cy="630360"/>
            </a:xfrm>
            <a:custGeom>
              <a:avLst/>
              <a:gdLst/>
              <a:ahLst/>
              <a:rect l="l" t="t" r="r" b="b"/>
              <a:pathLst>
                <a:path w="300" h="397">
                  <a:moveTo>
                    <a:pt x="0" y="19"/>
                  </a:moveTo>
                  <a:cubicBezTo>
                    <a:pt x="54" y="9"/>
                    <a:pt x="109" y="0"/>
                    <a:pt x="120" y="19"/>
                  </a:cubicBezTo>
                  <a:cubicBezTo>
                    <a:pt x="131" y="38"/>
                    <a:pt x="56" y="112"/>
                    <a:pt x="66" y="133"/>
                  </a:cubicBezTo>
                  <a:cubicBezTo>
                    <a:pt x="76" y="154"/>
                    <a:pt x="172" y="125"/>
                    <a:pt x="180" y="145"/>
                  </a:cubicBezTo>
                  <a:cubicBezTo>
                    <a:pt x="188" y="165"/>
                    <a:pt x="102" y="233"/>
                    <a:pt x="114" y="253"/>
                  </a:cubicBezTo>
                  <a:cubicBezTo>
                    <a:pt x="126" y="273"/>
                    <a:pt x="243" y="247"/>
                    <a:pt x="252" y="265"/>
                  </a:cubicBezTo>
                  <a:cubicBezTo>
                    <a:pt x="261" y="283"/>
                    <a:pt x="160" y="339"/>
                    <a:pt x="168" y="361"/>
                  </a:cubicBezTo>
                  <a:cubicBezTo>
                    <a:pt x="176" y="383"/>
                    <a:pt x="278" y="391"/>
                    <a:pt x="30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283600" y="2127960"/>
              <a:ext cx="6588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933160" y="1900080"/>
            <a:ext cx="854640" cy="771120"/>
            <a:chOff x="5933160" y="1900080"/>
            <a:chExt cx="854640" cy="771120"/>
          </a:xfrm>
        </p:grpSpPr>
        <p:sp>
          <p:nvSpPr>
            <p:cNvPr id="161" name=""/>
            <p:cNvSpPr/>
            <p:nvPr/>
          </p:nvSpPr>
          <p:spPr>
            <a:xfrm rot="18618600">
              <a:off x="6089400" y="1970280"/>
              <a:ext cx="476280" cy="630360"/>
            </a:xfrm>
            <a:custGeom>
              <a:avLst/>
              <a:gdLst/>
              <a:ahLst/>
              <a:rect l="l" t="t" r="r" b="b"/>
              <a:pathLst>
                <a:path w="300" h="397">
                  <a:moveTo>
                    <a:pt x="0" y="19"/>
                  </a:moveTo>
                  <a:cubicBezTo>
                    <a:pt x="54" y="9"/>
                    <a:pt x="109" y="0"/>
                    <a:pt x="120" y="19"/>
                  </a:cubicBezTo>
                  <a:cubicBezTo>
                    <a:pt x="131" y="38"/>
                    <a:pt x="56" y="112"/>
                    <a:pt x="66" y="133"/>
                  </a:cubicBezTo>
                  <a:cubicBezTo>
                    <a:pt x="76" y="154"/>
                    <a:pt x="172" y="125"/>
                    <a:pt x="180" y="145"/>
                  </a:cubicBezTo>
                  <a:cubicBezTo>
                    <a:pt x="188" y="165"/>
                    <a:pt x="102" y="233"/>
                    <a:pt x="114" y="253"/>
                  </a:cubicBezTo>
                  <a:cubicBezTo>
                    <a:pt x="126" y="273"/>
                    <a:pt x="243" y="247"/>
                    <a:pt x="252" y="265"/>
                  </a:cubicBezTo>
                  <a:cubicBezTo>
                    <a:pt x="261" y="283"/>
                    <a:pt x="160" y="339"/>
                    <a:pt x="168" y="361"/>
                  </a:cubicBezTo>
                  <a:cubicBezTo>
                    <a:pt x="176" y="383"/>
                    <a:pt x="278" y="391"/>
                    <a:pt x="30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721920" y="2289240"/>
              <a:ext cx="6588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624840" y="2717640"/>
            <a:ext cx="157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Émission</a:t>
            </a:r>
            <a:br>
              <a:rPr sz="2200"/>
            </a:b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spontan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0960" y="2717640"/>
            <a:ext cx="145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Émission</a:t>
            </a:r>
            <a:br>
              <a:rPr sz="2200"/>
            </a:b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stimulée</a:t>
            </a:r>
            <a:br>
              <a:rPr sz="2200"/>
            </a:b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(Einstei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04880" y="2360520"/>
            <a:ext cx="12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me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79720" y="3679920"/>
            <a:ext cx="49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ilieux amplificat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280" y="5113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1160" y="496584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91160" y="560700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74200" y="5607000"/>
            <a:ext cx="508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40280" y="4635360"/>
            <a:ext cx="52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5360" y="5506920"/>
            <a:ext cx="15264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72040" y="4867200"/>
            <a:ext cx="15264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53280" y="551664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69120" y="487836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86280" y="4867200"/>
            <a:ext cx="15264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67520" y="487692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8640" y="486720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9440" y="5516640"/>
            <a:ext cx="15264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9880" y="5607000"/>
            <a:ext cx="52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86680" y="4635360"/>
            <a:ext cx="831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42000" y="4933800"/>
            <a:ext cx="1656000" cy="763560"/>
          </a:xfrm>
          <a:prstGeom prst="rightArrow">
            <a:avLst>
              <a:gd name="adj1" fmla="val 50000"/>
              <a:gd name="adj2" fmla="val 5422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13400" y="6012000"/>
            <a:ext cx="2817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&gt;N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93366"/>
                </a:solidFill>
                <a:latin typeface="Arial"/>
              </a:rPr>
              <a:t>Milieu amplificate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31760" y="501012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31760" y="5651640"/>
            <a:ext cx="14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4800" y="5651640"/>
            <a:ext cx="508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4680000"/>
            <a:ext cx="52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46320" y="5551560"/>
            <a:ext cx="943920" cy="183600"/>
            <a:chOff x="1246320" y="5551560"/>
            <a:chExt cx="943920" cy="183600"/>
          </a:xfrm>
        </p:grpSpPr>
        <p:sp>
          <p:nvSpPr>
            <p:cNvPr id="189" name=""/>
            <p:cNvSpPr/>
            <p:nvPr/>
          </p:nvSpPr>
          <p:spPr>
            <a:xfrm>
              <a:off x="1246320" y="5551560"/>
              <a:ext cx="152280" cy="174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7120" y="5560920"/>
              <a:ext cx="151920" cy="174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3880" y="5560920"/>
              <a:ext cx="151920" cy="174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38320" y="5551560"/>
              <a:ext cx="151920" cy="174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27240" y="491184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8120" y="492120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19240" y="4911840"/>
            <a:ext cx="15264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00400" y="5560920"/>
            <a:ext cx="152280" cy="17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60840" y="5651640"/>
            <a:ext cx="52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4680000"/>
            <a:ext cx="831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19480" y="5168880"/>
            <a:ext cx="976320" cy="238320"/>
          </a:xfrm>
          <a:prstGeom prst="rightArrow">
            <a:avLst>
              <a:gd name="adj1" fmla="val 50000"/>
              <a:gd name="adj2" fmla="val 10241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4000" y="6056280"/>
            <a:ext cx="28180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&lt;N</a:t>
            </a:r>
            <a:r>
              <a:rPr b="1" lang="en-US" sz="2400" spc="-1" strike="noStrike" baseline="-25000">
                <a:solidFill>
                  <a:srgbClr val="99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93366"/>
                </a:solidFill>
                <a:latin typeface="Arial"/>
              </a:rPr>
              <a:t>Milieu absorb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5095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440" y="304560"/>
            <a:ext cx="705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Charles Fabry (1867-1945) </a:t>
            </a:r>
            <a:br>
              <a:rPr sz="3600"/>
            </a:b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et les cavités optiques</a:t>
            </a:r>
            <a:br>
              <a:rPr sz="3600"/>
            </a:b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1809720"/>
            <a:ext cx="90075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L’interaction de Charles Fabry avec Raymond Boulouch au Lycée Montaigne à Bordeaux ( quelques mois en 1892) : les franges fines d’un coin d’air entre lames réfléchissantes</a:t>
            </a: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D’autres précurseurs sur ces franges : Herrschel, Airy</a:t>
            </a: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le passage d’interférences à deux ondes à des interférences multi-ondes</a:t>
            </a:r>
            <a:br>
              <a:rPr sz="2800"/>
            </a:b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L’exploitation par Fabry et l’interféromètre Fabry-Per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29360" y="0"/>
            <a:ext cx="14479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28600" y="552600"/>
            <a:ext cx="861048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’énorme champ d’applications de l’interféromètre en métrologie, spectroscopie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Une extension proposée par Pierre Connes : le Fabry-Perot sphérique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Une utilisation non prévue : le stockage d’énergie entre les miroirs </a:t>
            </a:r>
            <a:r>
              <a:rPr b="0" lang="fr-FR" sz="2800" spc="-1" strike="noStrike">
                <a:solidFill>
                  <a:srgbClr val="993366"/>
                </a:solidFill>
                <a:latin typeface="ZapfDingbats"/>
                <a:ea typeface="ZapfDingbats"/>
              </a:rPr>
              <a:t></a:t>
            </a: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 la cavité optique de laser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Charles Fabry premier Directeur Général de l’Institut d’Optique (1921-1941)</a:t>
            </a: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160" y="151920"/>
            <a:ext cx="59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lfred Kastler et le pompage optique 1902-1984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Prix Nobel 1966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040" y="1886040"/>
            <a:ext cx="86108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99"/>
                </a:solidFill>
                <a:latin typeface="Arial"/>
              </a:rPr>
              <a:t>1926-1931 : professeur lycée Mulhouse, Colmar, Montaigne à Bordeau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993366"/>
                </a:solidFill>
                <a:latin typeface="Arial"/>
              </a:rPr>
              <a:t>1931-1936 : assistant de Pierre Daure, Université de Bordeaux</a:t>
            </a:r>
            <a:br>
              <a:rPr sz="2600"/>
            </a:br>
            <a:r>
              <a:rPr b="1" i="1" lang="fr-FR" sz="2600" spc="-1" strike="noStrike">
                <a:solidFill>
                  <a:srgbClr val="993366"/>
                </a:solidFill>
                <a:latin typeface="Arial"/>
              </a:rPr>
              <a:t>préparation de la thèse (polarisation de la lumière de fluorescence 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cc00"/>
                </a:solidFill>
                <a:latin typeface="Arial"/>
              </a:rPr>
              <a:t>1936-1938 : Maître de Conférences à Clermont-Ferr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1938-1941 : Professeur Université de Bordeaux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13338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2280" y="382680"/>
            <a:ext cx="822636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Appelé par Georges Bruhat à l’Ecole Normale Supéri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Création avec Jean Brossel du Laboratoire de Spectroscopie Hertzienne </a:t>
            </a:r>
            <a:r>
              <a:rPr b="0" i="1" lang="fr-FR" sz="2800" spc="-1" strike="noStrike">
                <a:solidFill>
                  <a:srgbClr val="00cc99"/>
                </a:solidFill>
                <a:latin typeface="Arial"/>
              </a:rPr>
              <a:t>(actuellement laboratoire Kastler-Brossel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Naissance d’une véritable école : interaction onde-at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Un des élèves : Claude Cohen-Tannoudji, Prix Nobel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a conservation du moment cinétique dans l’interaction onde-atomes : les méthodes de double résonance optique-hyperfréquence et de pompage op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ompage optique et transfert de moment cinétiqu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76840" y="2619360"/>
            <a:ext cx="15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76840" y="4757760"/>
            <a:ext cx="15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33560" y="3343320"/>
            <a:ext cx="15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33560" y="5481720"/>
            <a:ext cx="15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4480" y="5481720"/>
            <a:ext cx="508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6200" y="2940120"/>
            <a:ext cx="525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9000" y="507528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9000" y="300204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11920" y="219240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4560" y="436896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1280" y="2619360"/>
            <a:ext cx="0" cy="2138400"/>
          </a:xfrm>
          <a:prstGeom prst="line">
            <a:avLst/>
          </a:prstGeom>
          <a:ln w="38160">
            <a:solidFill>
              <a:srgbClr val="99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68280" y="2627280"/>
            <a:ext cx="2147040" cy="2836800"/>
          </a:xfrm>
          <a:prstGeom prst="line">
            <a:avLst/>
          </a:prstGeom>
          <a:ln w="38160">
            <a:solidFill>
              <a:srgbClr val="99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3440" y="2626920"/>
            <a:ext cx="2145600" cy="28375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66960" y="3429000"/>
            <a:ext cx="296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021280" y="3429000"/>
            <a:ext cx="1611360" cy="536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3060720"/>
            <a:ext cx="185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Arial"/>
              </a:rPr>
              <a:t>Relax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6840" y="5970600"/>
            <a:ext cx="69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29120" y="5653080"/>
            <a:ext cx="42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version de population dans la structure du niveau 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lles technologies de l’Optique dans le contexte économique du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ècl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6360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es besoins d’une nouvelle société </a:t>
            </a:r>
            <a:br>
              <a:rPr sz="2800"/>
            </a:b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des Sciences et Techniques de l’Information</a:t>
            </a:r>
            <a:br>
              <a:rPr sz="2800"/>
            </a:b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et de la Communic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s solutions optiques au secours </a:t>
            </a:r>
            <a:br>
              <a:rPr sz="2800"/>
            </a:b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des limitations actuell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33"/>
                </a:solidFill>
                <a:latin typeface="Arial"/>
              </a:rPr>
              <a:t>L’explosion des télécommunications optiqu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Le développement d’une bio-photoniqu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Des densités de puissance et d’énergie considérables avec les lasers femtosecondes : de nouvelles applications médicales et en mécanique des lasers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2640" indent="-332640" algn="r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L’Optique : un moyen de motiver </a:t>
            </a:r>
            <a:br>
              <a:rPr sz="2800"/>
            </a:b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nos jeunes générations pour les sciences 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939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01520" y="85680"/>
            <a:ext cx="71625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enjeux économiqu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l’Optiqu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957240"/>
            <a:ext cx="85345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Un marché mondial en pleine expans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 algn="r">
              <a:lnSpc>
                <a:spcPct val="95000"/>
              </a:lnSpc>
              <a:spcBef>
                <a:spcPts val="3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33"/>
                </a:solidFill>
                <a:latin typeface="Arial"/>
              </a:rPr>
              <a:t>Composants électroniques : 130 G$  décroissance de 8% par 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 algn="r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Composants optiques et électro-optiques : 30 G$  croissance de 10% par 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es domaines en pleine ébulli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oi de Moore de l’électronique des années 60 dépassée en télécommunications optiques 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3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cc33"/>
                </a:solidFill>
                <a:latin typeface="Arial"/>
              </a:rPr>
              <a:t>Doublement de capacité nécessaire </a:t>
            </a:r>
            <a:br>
              <a:rPr sz="2400"/>
            </a:br>
            <a:r>
              <a:rPr b="0" lang="fr-FR" sz="2400" spc="-1" strike="noStrike">
                <a:solidFill>
                  <a:srgbClr val="33cc33"/>
                </a:solidFill>
                <a:latin typeface="Arial"/>
              </a:rPr>
              <a:t>tous les a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3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3366"/>
                </a:solidFill>
                <a:latin typeface="Arial"/>
              </a:rPr>
              <a:t>Des start-up avec des croissances extraordinai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Un verrou prévisible : les moyens humains disponibl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90840" indent="-265680" algn="r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La nécessité de former un beaucoup plus grand nombre d’ingénieurs et de techniciens en optiqu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15280" y="0"/>
            <a:ext cx="124452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75960"/>
            <a:ext cx="836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éveloppement de l’optique dans le mon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286000"/>
          <a:ext cx="7772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4224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040" y="1219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L’opti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un secteur économique en pleine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80" y="75960"/>
            <a:ext cx="901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Grands domaines d’application de l’optique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30200" y="3787920"/>
          <a:ext cx="160668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3787920"/>
                    <a:ext cx="16066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09600" y="857160"/>
          <a:ext cx="152388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600" y="857160"/>
                    <a:ext cx="15238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013520" y="2438280"/>
          <a:ext cx="5317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3520" y="2438280"/>
                    <a:ext cx="531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7253280" y="762120"/>
          <a:ext cx="1674720" cy="12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53280" y="762120"/>
                    <a:ext cx="16747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47920" y="5562720"/>
          <a:ext cx="74916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5562720"/>
                    <a:ext cx="749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303200" y="2514600"/>
          <a:ext cx="868680" cy="100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03200" y="2514600"/>
                    <a:ext cx="8686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861240" y="3789360"/>
          <a:ext cx="83988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61240" y="3789360"/>
                    <a:ext cx="839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071720" y="685800"/>
          <a:ext cx="1373040" cy="552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71720" y="685800"/>
                    <a:ext cx="1373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26000" y="20257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Dis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19680" y="1968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251080" y="1676520"/>
            <a:ext cx="844560" cy="380880"/>
          </a:xfrm>
          <a:custGeom>
            <a:avLst/>
            <a:gdLst>
              <a:gd name="textAreaLeft" fmla="*/ 105480 w 844560"/>
              <a:gd name="textAreaRight" fmla="*/ 739080 w 8445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920" y="265104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Imag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méd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6320" y="2743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b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9120" y="4540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Gui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10480" y="425124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Télé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dé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59040" y="5483160"/>
            <a:ext cx="153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industr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Métr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73360" y="762120"/>
            <a:ext cx="40798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Technologies de l’Inform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&amp; Commun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3360" y="2209680"/>
            <a:ext cx="40798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Santé &amp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sciences de la v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73360" y="3657600"/>
            <a:ext cx="40798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Aéronautiq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spatial &amp; défen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3360" y="5105520"/>
            <a:ext cx="40798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Optique pour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99"/>
                </a:solidFill>
                <a:latin typeface="Arial"/>
              </a:rPr>
              <a:t>production industriel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9840" y="1600200"/>
            <a:ext cx="844200" cy="380880"/>
          </a:xfrm>
          <a:custGeom>
            <a:avLst/>
            <a:gdLst>
              <a:gd name="textAreaLeft" fmla="*/ 105480 w 844200"/>
              <a:gd name="textAreaRight" fmla="*/ 738720 w 844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89840" y="3048120"/>
            <a:ext cx="844200" cy="380880"/>
          </a:xfrm>
          <a:custGeom>
            <a:avLst/>
            <a:gdLst>
              <a:gd name="textAreaLeft" fmla="*/ 105480 w 844200"/>
              <a:gd name="textAreaRight" fmla="*/ 738720 w 844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89840" y="4343400"/>
            <a:ext cx="844200" cy="380880"/>
          </a:xfrm>
          <a:custGeom>
            <a:avLst/>
            <a:gdLst>
              <a:gd name="textAreaLeft" fmla="*/ 105480 w 844200"/>
              <a:gd name="textAreaRight" fmla="*/ 738720 w 844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51080" y="2971800"/>
            <a:ext cx="844560" cy="380880"/>
          </a:xfrm>
          <a:custGeom>
            <a:avLst/>
            <a:gdLst>
              <a:gd name="textAreaLeft" fmla="*/ 105480 w 844560"/>
              <a:gd name="textAreaRight" fmla="*/ 739080 w 8445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51080" y="4267080"/>
            <a:ext cx="844560" cy="381240"/>
          </a:xfrm>
          <a:custGeom>
            <a:avLst/>
            <a:gdLst>
              <a:gd name="textAreaLeft" fmla="*/ 105480 w 844560"/>
              <a:gd name="textAreaRight" fmla="*/ 739080 w 8445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251080" y="5867280"/>
            <a:ext cx="844560" cy="381240"/>
          </a:xfrm>
          <a:custGeom>
            <a:avLst/>
            <a:gdLst>
              <a:gd name="textAreaLeft" fmla="*/ 105480 w 844560"/>
              <a:gd name="textAreaRight" fmla="*/ 739080 w 8445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89840" y="5867280"/>
            <a:ext cx="844200" cy="381240"/>
          </a:xfrm>
          <a:custGeom>
            <a:avLst/>
            <a:gdLst>
              <a:gd name="textAreaLeft" fmla="*/ 105480 w 844200"/>
              <a:gd name="textAreaRight" fmla="*/ 738720 w 844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2480" y="571176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Usin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Une mutation technologique 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n march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a découverte des lasers et la révolution optiqu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 précurseurs de cette découverte : 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Charles Fabry, Alfred Kastler et le Lycée Montaigne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L’Université Bordeaux I : un Centre important de développement des lasers et de leurs applicat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e programme Laser MégaJoule au CEA/DAM en Aquitaine : une extraordinaire opportunité économique et scientifique pour la Rég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9840" y="75960"/>
            <a:ext cx="900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xemple 1 : les télécoms optiques...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05480" y="4572000"/>
            <a:ext cx="3505320" cy="2136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1657440"/>
            <a:ext cx="2286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on «multicolore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nform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ée e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933480"/>
            <a:ext cx="6629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4419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0960" y="4583160"/>
            <a:ext cx="5370840" cy="23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bit d’informatio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 fibre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quivalent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0 mill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nversation téléphoniques simulta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+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00 canaux à 10 Gb/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Tb/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+ de 10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86000" y="933480"/>
          <a:ext cx="69724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933480"/>
                    <a:ext cx="6972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xemple 1 : ...les télécoms optique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839880"/>
            <a:ext cx="84582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Composants et fonctions opti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3366"/>
                </a:solidFill>
                <a:latin typeface="Arial"/>
              </a:rPr>
              <a:t>diodes laser, modulateurs,  filtres optiques (mux/demux), routeurs en </a:t>
            </a:r>
            <a:r>
              <a:rPr b="1" lang="fr-FR" sz="22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1" lang="fr-FR" sz="2200" spc="-1" strike="noStrike">
                <a:solidFill>
                  <a:srgbClr val="993366"/>
                </a:solidFill>
                <a:latin typeface="Arial"/>
              </a:rPr>
              <a:t>, fibres, amplificateurs optiques, régénérateurs, détecteur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2743200"/>
            <a:ext cx="62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«puce» o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composant industriel fi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’Aquitaine et la mutation optique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’optique à l’Université Bordeaux I</a:t>
            </a:r>
            <a:br>
              <a:rPr sz="3600"/>
            </a:b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886880" y="3429000"/>
            <a:ext cx="952200" cy="704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86012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Le développement d’une “ optique moléculaire ” (Auguste Rousset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La création d’un pôle laser dans le Centre de Physique Moléculaire Optique et Hertzienne  (CPMOH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La création d’un CEntre Laser Intense et Applications (CELIA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890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240 impulsions ns d’environ 8 kJ pour exciter une bille de l’ordre du 1/10 mm contenant D+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La Ligne d’Intégration Laser : 1/30 du LMJ, opérationnelle 2002-200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Mise en œuvre complète du LMJ : vers 2010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Objectif : remplacement des essais nucléaires </a:t>
            </a:r>
            <a:r>
              <a:rPr b="0" i="1" lang="fr-FR" sz="2800" spc="-1" strike="noStrike" u="sng">
                <a:solidFill>
                  <a:srgbClr val="ffcc00"/>
                </a:solidFill>
                <a:uFillTx/>
                <a:latin typeface="Arial"/>
              </a:rPr>
              <a:t>+ une piste importante pour les sources d’énergie du futu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a création en cours d’un Institut  Laser Plasma national</a:t>
            </a: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20920" y="6338880"/>
            <a:ext cx="68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’Aquitaine : un pôle optiqu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6440" y="117360"/>
            <a:ext cx="8474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cc"/>
                </a:solidFill>
                <a:latin typeface="Arial"/>
              </a:rPr>
              <a:t>Le programme Laser MégaJoule au CESTA/C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975440" y="1428840"/>
            <a:ext cx="819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10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éma d ’une cible d’attaque indirec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4229280"/>
            <a:ext cx="91440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33360" y="1850760"/>
            <a:ext cx="87091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L’optique : le démarrage d ’un extraordinaire développement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Arial"/>
              </a:rPr>
              <a:t>L’optique : une grande ouverture sur les autres disciplines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1624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technologiques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1624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fondamentales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Un domaine de choix pour les jeunes entrepreneurs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Des débouchés d’une grande diversité dans l’industrie et la recherche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776240" y="171000"/>
            <a:ext cx="726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880" y="285840"/>
          <a:ext cx="13413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85840"/>
                    <a:ext cx="13413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lan de l’exposé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e laser dans l’histoire des technologies optiqu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harles Fabry : un précurseur pour les cavités optiques laser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Alfred Kastler : un précurseur pour les milieux amplificateurs laser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L’explosion du champ d’applications des technologies laser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es opportunités pour le développement d’un pôle optique fort en Aquitain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76440" y="-360"/>
            <a:ext cx="358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’optique, c’est 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5560" y="990720"/>
            <a:ext cx="79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et l’ingénie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é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é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mièr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nc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«photonique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960" y="2286000"/>
            <a:ext cx="1758960" cy="1828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52960" y="3657600"/>
          <a:ext cx="213372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3657600"/>
                    <a:ext cx="2133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560680" y="3657600"/>
          <a:ext cx="1081080" cy="20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0680" y="3657600"/>
                    <a:ext cx="10810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dish3" descr=""/>
          <p:cNvPicPr/>
          <p:nvPr/>
        </p:nvPicPr>
        <p:blipFill>
          <a:blip r:embed="rId5"/>
          <a:stretch/>
        </p:blipFill>
        <p:spPr>
          <a:xfrm>
            <a:off x="7737480" y="4724280"/>
            <a:ext cx="1341360" cy="1481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560" y="41133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040" y="57135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54600" y="59421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1840" y="61898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6" idx="3"/>
          </p:cNvCxnSpPr>
          <p:nvPr/>
        </p:nvCxnSpPr>
        <p:spPr>
          <a:xfrm>
            <a:off x="1969560" y="3411360"/>
            <a:ext cx="1132920" cy="246960"/>
          </a:xfrm>
          <a:prstGeom prst="curvedConnector2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flipH="1" rot="16200000">
            <a:off x="4610160" y="2149200"/>
            <a:ext cx="2160" cy="301824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endCxn id="61" idx="0"/>
          </p:cNvCxnSpPr>
          <p:nvPr/>
        </p:nvCxnSpPr>
        <p:spPr>
          <a:xfrm flipH="1" rot="16200000">
            <a:off x="6730560" y="3045240"/>
            <a:ext cx="1067400" cy="2289960"/>
          </a:xfrm>
          <a:prstGeom prst="curvedConnector5">
            <a:avLst>
              <a:gd name="adj1" fmla="val -21423"/>
              <a:gd name="adj2" fmla="val 50000"/>
              <a:gd name="adj3" fmla="val -21423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graphicFrame>
        <p:nvGraphicFramePr>
          <p:cNvPr id="69" name=""/>
          <p:cNvGraphicFramePr/>
          <p:nvPr/>
        </p:nvGraphicFramePr>
        <p:xfrm>
          <a:off x="3441600" y="2133720"/>
          <a:ext cx="1949400" cy="18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41600" y="2133720"/>
                    <a:ext cx="19494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942000" y="2771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8548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’évolution des technologies optiques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Une utilisation très ancienne de « composants » optiques : les miroirs d’Archimède (212 av. J.C.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Le 17ème siècle : un âge d’or pour les technologi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38680" indent="-223920">
              <a:spcBef>
                <a:spcPts val="13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cc00"/>
                </a:solidFill>
                <a:latin typeface="Arial"/>
              </a:rPr>
              <a:t>la découverte des microscopes optiques : Loeuvenbrook ou Zacharias Jansen (1590)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38680" indent="-223920">
              <a:spcBef>
                <a:spcPts val="13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cc"/>
                </a:solidFill>
                <a:latin typeface="Arial"/>
              </a:rPr>
              <a:t>la lunette de Galilée et l’observation des planètes (1609)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38680" indent="-223920">
              <a:spcBef>
                <a:spcPts val="130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99"/>
                </a:solidFill>
                <a:latin typeface="Arial"/>
              </a:rPr>
              <a:t>les débuts de la spectroscopie : la décomposition des couleurs par un prisme : Newton (1666)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La spectroscopie et la découverte du monde microscopique : fin 19ème-début 20ème s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819000" indent="-285480">
              <a:spcBef>
                <a:spcPts val="1624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99"/>
                </a:solidFill>
                <a:latin typeface="Arial"/>
              </a:rPr>
              <a:t>Spectroscopie et structure atomique : Balmer, Rutherford, Bohr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819000" indent="-285480">
              <a:spcBef>
                <a:spcPts val="1624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99"/>
                </a:solidFill>
                <a:latin typeface="Arial"/>
              </a:rPr>
              <a:t>Le développement d’interféromètres performants : Michelson, Fabry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Une révolution en optique : la découverte des lasers (1958) : Townes-Schawlow, Basov-Prokhorov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Un vecteur essentiel pour le transport de la lumière : les fibres optiques : Kao (1966) Bell Lab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Le Laser</a:t>
            </a:r>
            <a:br>
              <a:rPr sz="3200"/>
            </a:b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Light Amplification by Stimulated Emission of Radi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9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3366"/>
                </a:solidFill>
                <a:latin typeface="Arial"/>
              </a:rPr>
              <a:t>L’invention en 1958 : Townes-Schawlow, Basov-Prokhorov</a:t>
            </a:r>
            <a:br>
              <a:rPr sz="2800"/>
            </a:b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Les premiers lasers : 1960 Maiman, Javan</a:t>
            </a:r>
            <a:br>
              <a:rPr sz="2800"/>
            </a:b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1980 : l’extension des applications hors laboratoires le développement du transport par fibre optique</a:t>
            </a:r>
            <a:br>
              <a:rPr sz="2800"/>
            </a:b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1990 : la prise de conscience d’un véritable phénomène de société</a:t>
            </a: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612800"/>
            <a:ext cx="557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un </a:t>
            </a:r>
            <a:r>
              <a:rPr b="1" i="1" lang="en-US" sz="2600" spc="-1" strike="noStrike" u="sng">
                <a:solidFill>
                  <a:srgbClr val="00cc99"/>
                </a:solidFill>
                <a:uFillTx/>
                <a:latin typeface="Arial"/>
              </a:rPr>
              <a:t>oscillateur </a:t>
            </a: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du domaine optiq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5875200"/>
            <a:ext cx="85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66"/>
                </a:solidFill>
                <a:latin typeface="Arial"/>
              </a:rPr>
              <a:t>Une rupture technologique majeure pour la Phy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514600" y="68400"/>
            <a:ext cx="2895480" cy="1655640"/>
            <a:chOff x="2514600" y="68400"/>
            <a:chExt cx="2895480" cy="1655640"/>
          </a:xfrm>
        </p:grpSpPr>
        <p:sp>
          <p:nvSpPr>
            <p:cNvPr id="80" name=""/>
            <p:cNvSpPr/>
            <p:nvPr/>
          </p:nvSpPr>
          <p:spPr>
            <a:xfrm>
              <a:off x="251460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9240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7200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5124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3084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687240"/>
              <a:ext cx="0" cy="10368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34400" y="68400"/>
              <a:ext cx="139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3366"/>
                  </a:solidFill>
                  <a:latin typeface="Arial"/>
                </a:rPr>
                <a:t>Énergi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1800" y="1916280"/>
            <a:ext cx="6742440" cy="1178640"/>
            <a:chOff x="361800" y="1916280"/>
            <a:chExt cx="6742440" cy="1178640"/>
          </a:xfrm>
        </p:grpSpPr>
        <p:sp>
          <p:nvSpPr>
            <p:cNvPr id="88" name=""/>
            <p:cNvSpPr/>
            <p:nvPr/>
          </p:nvSpPr>
          <p:spPr>
            <a:xfrm>
              <a:off x="361800" y="2406600"/>
              <a:ext cx="6858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02360" y="2406600"/>
              <a:ext cx="9651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56120" y="1916280"/>
              <a:ext cx="6648120" cy="1178640"/>
              <a:chOff x="456120" y="1916280"/>
              <a:chExt cx="6648120" cy="1178640"/>
            </a:xfrm>
          </p:grpSpPr>
          <p:sp>
            <p:nvSpPr>
              <p:cNvPr id="91" name=""/>
              <p:cNvSpPr/>
              <p:nvPr/>
            </p:nvSpPr>
            <p:spPr>
              <a:xfrm>
                <a:off x="1009800" y="2406600"/>
                <a:ext cx="1066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456120" y="1916280"/>
                <a:ext cx="6648120" cy="1178640"/>
                <a:chOff x="456120" y="1916280"/>
                <a:chExt cx="6648120" cy="11786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171880" y="1916280"/>
                  <a:ext cx="3657600" cy="1036440"/>
                </a:xfrm>
                <a:prstGeom prst="rect">
                  <a:avLst/>
                </a:prstGeom>
                <a:noFill/>
                <a:ln w="572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35520" y="2604960"/>
                  <a:ext cx="2294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Amplificateur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924200" y="2406600"/>
                  <a:ext cx="445752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6120" y="196200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cc99"/>
                      </a:solidFill>
                      <a:latin typeface="Arial"/>
                    </a:rPr>
                    <a:t>E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30920" y="1962000"/>
                  <a:ext cx="1273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cc99"/>
                      </a:solidFill>
                      <a:latin typeface="Arial"/>
                    </a:rPr>
                    <a:t>E2 &gt; E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"/>
          <p:cNvGrpSpPr/>
          <p:nvPr/>
        </p:nvGrpSpPr>
        <p:grpSpPr>
          <a:xfrm>
            <a:off x="304920" y="1724040"/>
            <a:ext cx="8839080" cy="1764720"/>
            <a:chOff x="304920" y="1724040"/>
            <a:chExt cx="8839080" cy="1764720"/>
          </a:xfrm>
        </p:grpSpPr>
        <p:sp>
          <p:nvSpPr>
            <p:cNvPr id="99" name=""/>
            <p:cNvSpPr/>
            <p:nvPr/>
          </p:nvSpPr>
          <p:spPr>
            <a:xfrm>
              <a:off x="8458200" y="2406600"/>
              <a:ext cx="6858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04920" y="1724040"/>
              <a:ext cx="8653680" cy="1764720"/>
              <a:chOff x="304920" y="1724040"/>
              <a:chExt cx="8653680" cy="1764720"/>
            </a:xfrm>
          </p:grpSpPr>
          <p:sp>
            <p:nvSpPr>
              <p:cNvPr id="101" name=""/>
              <p:cNvSpPr/>
              <p:nvPr/>
            </p:nvSpPr>
            <p:spPr>
              <a:xfrm>
                <a:off x="6761160" y="2406600"/>
                <a:ext cx="194796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304920" y="1724040"/>
                <a:ext cx="8653680" cy="1764720"/>
                <a:chOff x="304920" y="1724040"/>
                <a:chExt cx="8653680" cy="17647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04920" y="1724040"/>
                  <a:ext cx="152280" cy="1419120"/>
                </a:xfrm>
                <a:custGeom>
                  <a:avLst/>
                  <a:gdLst>
                    <a:gd name="textAreaLeft" fmla="*/ 44640 w 152280"/>
                    <a:gd name="textAreaRight" fmla="*/ 152640 w 152280"/>
                    <a:gd name="textAreaTop" fmla="*/ 59040 h 1419120"/>
                    <a:gd name="textAreaBottom" fmla="*/ 1360080 h 141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0794000">
                  <a:off x="7104960" y="1724040"/>
                  <a:ext cx="152280" cy="1419120"/>
                </a:xfrm>
                <a:custGeom>
                  <a:avLst/>
                  <a:gdLst>
                    <a:gd name="textAreaLeft" fmla="*/ 44640 w 152280"/>
                    <a:gd name="textAreaRight" fmla="*/ 152640 w 152280"/>
                    <a:gd name="textAreaTop" fmla="*/ 59040 h 1419120"/>
                    <a:gd name="textAreaBottom" fmla="*/ 1360080 h 141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6040080" y="2603520"/>
                  <a:ext cx="121428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141200" y="2603520"/>
                  <a:ext cx="507348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360360" y="2603520"/>
                  <a:ext cx="109872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0360" y="2406600"/>
                  <a:ext cx="1440" cy="19836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81600" y="1724040"/>
                  <a:ext cx="13770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cc99"/>
                      </a:solidFill>
                      <a:latin typeface="Arial"/>
                    </a:rPr>
                    <a:t>Faisceau</a:t>
                  </a:r>
                  <a:br>
                    <a:rPr sz="2200"/>
                  </a:br>
                  <a:r>
                    <a:rPr b="1" lang="en-US" sz="2200" spc="-1" strike="noStrike">
                      <a:solidFill>
                        <a:srgbClr val="00cc99"/>
                      </a:solidFill>
                      <a:latin typeface="Arial"/>
                    </a:rPr>
                    <a:t>de sorti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8280" y="3029040"/>
                  <a:ext cx="748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nsemble de 2 miroirs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résonateur linéai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51240" y="3314880"/>
                  <a:ext cx="57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" name=""/>
          <p:cNvGrpSpPr/>
          <p:nvPr/>
        </p:nvGrpSpPr>
        <p:grpSpPr>
          <a:xfrm>
            <a:off x="457200" y="3411360"/>
            <a:ext cx="8251920" cy="3418200"/>
            <a:chOff x="457200" y="3411360"/>
            <a:chExt cx="8251920" cy="34182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457200" y="4307040"/>
              <a:ext cx="8251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24160" y="3411360"/>
              <a:ext cx="214668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ser liné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6200" y="3927600"/>
              <a:ext cx="52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Amplificateu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993366"/>
                  </a:solidFill>
                  <a:latin typeface="Arial"/>
                </a:rPr>
                <a:t>résonateur liné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14560" y="5730840"/>
            <a:ext cx="1657440" cy="995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43640" y="5365800"/>
            <a:ext cx="2133360" cy="140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1800" y="1428840"/>
            <a:ext cx="4133880" cy="2120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cc"/>
                </a:solidFill>
                <a:latin typeface="Arial"/>
              </a:rPr>
              <a:t>Fonctionnement multimode du laser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09440"/>
            <a:ext cx="853416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1000"/>
          </a:bodyPr>
          <a:p>
            <a:pPr marL="37440" indent="-37440">
              <a:spcBef>
                <a:spcPts val="1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odes résonnants de la cavité (ou résonateur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-37440">
              <a:spcBef>
                <a:spcPts val="1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Milieu amplificateu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7440" indent="-37440">
              <a:spcBef>
                <a:spcPts val="1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Las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257800" y="1547640"/>
            <a:ext cx="3181320" cy="2001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413388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257800" y="3429000"/>
            <a:ext cx="2808360" cy="193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61800" y="5024520"/>
            <a:ext cx="2648160" cy="70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52960" y="5365800"/>
            <a:ext cx="7621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9:00:23Z</dcterms:created>
  <dc:creator>Sophie Guédon</dc:creator>
  <dc:description/>
  <dc:language>en-US</dc:language>
  <cp:lastModifiedBy>Sophie Guédon</cp:lastModifiedBy>
  <dcterms:modified xsi:type="dcterms:W3CDTF">2002-10-23T13:57:54Z</dcterms:modified>
  <cp:revision>35</cp:revision>
  <dc:subject/>
  <dc:title>Aucun titre de diapositive</dc:title>
</cp:coreProperties>
</file>