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AA4-7985-4834-9E41-976FD43D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5B22-1B61-4074-BC63-023ECED5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90A-B9E3-4A1E-B55D-9DEECC71B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7B96-29F1-4D8A-B1CD-D246DD6B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EB32-2651-4CA7-B4CC-3908D55C0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078B-705B-4168-BBD6-3669E9DC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A1FA-CBD7-47A0-A995-3FE10194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207-D3AF-4ABC-8E5B-8236B1750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A7B3-E8D7-4600-95C7-F9BCADC1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795DD-B791-4734-B6BF-1EC448C9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5F0D-8023-421F-BBE4-459BCDB5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BB8-B3BF-4F34-B012-9B608C74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F6E3-2B6C-40E5-8162-D0B08A906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42AA-73AD-442F-B5E8-79E31154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CA37-B107-4CF1-B673-043FE51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7889C-D74C-4502-8F3E-4E3E97A68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6701-3D0E-4741-88B4-6AC0C4814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09B4-F46E-4FE9-A889-2545CB26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3E3-9C7C-49F3-8781-D074B33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40C-B5FE-428E-B4CC-AC600138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D842-421B-4723-AC47-C521C09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E7A-2B9F-4485-AB0C-E3F9C7C2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BAB-A1CF-44E2-B5D5-4698364F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1F4-A405-48C3-8FDE-17ABAC16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1244-0AC6-4603-AF5B-6DA83875FC9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7CF2-C43A-42AE-9A1F-BA5208BF412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&#233;ambule.ppt" TargetMode="External"/><Relationship Id="rId2" Type="http://schemas.openxmlformats.org/officeDocument/2006/relationships/hyperlink" Target="file:///Pr&#233;ambule.ppt" TargetMode="External"/><Relationship Id="rId3" Type="http://schemas.openxmlformats.org/officeDocument/2006/relationships/hyperlink" Target="file:///Sch&#233;matisation%20de%20la%20certificationV.ppt" TargetMode="External"/><Relationship Id="rId4" Type="http://schemas.openxmlformats.org/officeDocument/2006/relationships/hyperlink" Target="file:///Sch&#233;matisation%20de%20la%20certificationV.pptx" TargetMode="External"/><Relationship Id="rId5" Type="http://schemas.openxmlformats.org/officeDocument/2006/relationships/hyperlink" Target="file:///Contenu%20du%20r&#233;f&#233;rentiel%20de%20certification%20du%20BEP%20ELEEC.ppt" TargetMode="External"/><Relationship Id="rId6" Type="http://schemas.openxmlformats.org/officeDocument/2006/relationships/hyperlink" Target="file:///Mise%20en%20&#339;uvre%20de%20la%20certification.ppt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1C9D-1C92-4EAD-ADF9-8C84A7701D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3886200" y="106668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DU BACCALAUREAT PROFESSIONNEL ELE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17" descr="DOUTE"/>
          <p:cNvPicPr/>
          <p:nvPr/>
        </p:nvPicPr>
        <p:blipFill>
          <a:blip r:embed="rId1"/>
          <a:stretch/>
        </p:blipFill>
        <p:spPr>
          <a:xfrm>
            <a:off x="7115040" y="4246560"/>
            <a:ext cx="628920" cy="15238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18"/>
          <p:cNvSpPr/>
          <p:nvPr/>
        </p:nvSpPr>
        <p:spPr>
          <a:xfrm>
            <a:off x="0" y="176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33cc"/>
                </a:solidFill>
                <a:latin typeface="Arial"/>
              </a:rPr>
              <a:t>Él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ectrotechnique</a:t>
            </a:r>
            <a:r>
              <a:rPr b="0" lang="fr-FR" sz="4000" spc="-1" strike="noStrike">
                <a:solidFill>
                  <a:srgbClr val="0033cc"/>
                </a:solidFill>
                <a:latin typeface="Arial"/>
              </a:rPr>
              <a:t> É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nergie</a:t>
            </a:r>
            <a:r>
              <a:rPr b="0" lang="fr-FR" sz="4000" spc="-1" strike="noStrike">
                <a:solidFill>
                  <a:srgbClr val="0033cc"/>
                </a:solidFill>
                <a:latin typeface="Arial"/>
              </a:rPr>
              <a:t> É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quipements </a:t>
            </a:r>
            <a:r>
              <a:rPr b="0" lang="fr-FR" sz="40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0033cc"/>
                </a:solidFill>
                <a:latin typeface="Arial"/>
              </a:rPr>
              <a:t>ommunicants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ff0000"/>
                </a:solidFill>
                <a:latin typeface="Bernard MT Condense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20"/>
          <p:cNvSpPr txBox="1"/>
          <p:nvPr/>
        </p:nvSpPr>
        <p:spPr>
          <a:xfrm>
            <a:off x="0" y="304920"/>
            <a:ext cx="1122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Le BEP ELEEC certification intermédiair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4" name="Picture 22" descr="C:\Program Files\Microsoft Office\MEDIA\CAGCAT10\j0285410.wmf"/>
          <p:cNvPicPr/>
          <p:nvPr/>
        </p:nvPicPr>
        <p:blipFill>
          <a:blip r:embed="rId4"/>
          <a:stretch/>
        </p:blipFill>
        <p:spPr>
          <a:xfrm>
            <a:off x="3638520" y="2786040"/>
            <a:ext cx="1866960" cy="1776600"/>
          </a:xfrm>
          <a:prstGeom prst="rect">
            <a:avLst/>
          </a:prstGeom>
          <a:ln w="0">
            <a:noFill/>
          </a:ln>
        </p:spPr>
      </p:pic>
      <p:pic>
        <p:nvPicPr>
          <p:cNvPr id="95" name="Rectangle 11" descr=""/>
          <p:cNvPicPr/>
          <p:nvPr/>
        </p:nvPicPr>
        <p:blipFill>
          <a:blip r:embed="rId5"/>
          <a:stretch/>
        </p:blipFill>
        <p:spPr>
          <a:xfrm>
            <a:off x="353880" y="4443480"/>
            <a:ext cx="8466120" cy="133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7f7f7f"/>
                </a:solidFill>
                <a:latin typeface="Arial"/>
                <a:ea typeface="Arial"/>
              </a:rPr>
              <a:t>SOMMAI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Espace réservé du numéro de diapositive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EA74-0FF0-4812-919B-D282B4195C1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Espace réservé du pied de page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ZoneTexte 10"/>
          <p:cNvSpPr/>
          <p:nvPr/>
        </p:nvSpPr>
        <p:spPr>
          <a:xfrm>
            <a:off x="928800" y="1390680"/>
            <a:ext cx="75578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Préambule.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3"/>
              </a:rPr>
              <a:t>Schématisation de la certification intermédiaire</a:t>
            </a: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cc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5"/>
              </a:rPr>
              <a:t>Le contenu du référentiel de certification du BEP ELE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ff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Mise en œuvre de la certification du BEP ELEE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99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99ccff"/>
                </a:solidFill>
                <a:uFillTx/>
                <a:latin typeface="Arial"/>
              </a:rPr>
              <a:t>La période de formation en milieu professionn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ffffff"/>
                </a:solidFill>
                <a:uFillTx/>
                <a:latin typeface="Arial"/>
              </a:rPr>
              <a:t>Annexes sous format  .doc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 exemple de carnet de bord avec fiche de positionnem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Un exemple de livret d’évaluation pour l’épreuve UP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8:49:12Z</dcterms:created>
  <dc:creator>MICHEL</dc:creator>
  <dc:description/>
  <dc:language>en-US</dc:language>
  <cp:lastModifiedBy>MICHEL</cp:lastModifiedBy>
  <dcterms:modified xsi:type="dcterms:W3CDTF">2009-06-29T21:57:38Z</dcterms:modified>
  <cp:revision>5</cp:revision>
  <dc:subject/>
  <dc:title>Diapositive 1</dc:title>
</cp:coreProperties>
</file>