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31A-1F05-49AF-96ED-B134B0B1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9384-C51D-4930-A104-5B4936B06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3C3D-C5D1-4E61-BAB6-F28A75CD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BFFA-E287-4EA1-BA58-1B996412E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B4C4-275A-4719-883A-FBF26A86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976B-8FA7-4679-8127-D1287623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CFF5-A5BE-4C6D-9CAF-8AB6A1EF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FE9A7-7E21-4B02-8089-10C24B71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CD58-B88F-42B2-ACD6-17A44693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9605B-88EE-4A82-A27F-863E28AE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6A8A-1EDA-4A10-B1E2-7BB2273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B20-F4A0-4753-836B-989F2643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C006-F8F6-453B-854E-2ED184206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B483-CD27-427D-A115-785F70D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CEB7B-46F9-4DB1-8CF0-F9A4FE53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4D6F-A533-4EE2-9878-BE4A0739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89CB-BC35-48D6-94AF-412E9A89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F3A2-01ED-4188-868D-ABEB8DD2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D2E1-E2CB-4622-B0DC-DEC828F6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D35-F788-4003-91EF-A46A262E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F0A-E36A-4E18-85C3-983B9168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F2CD-1A6F-4F57-A641-4D48B3E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3389-7268-4F1C-890C-F168BBCC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2F3-248A-40E7-890C-3C57067B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6D1E-0062-47C7-93A3-4262FD98782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bcbcb"/>
                </a:solidFill>
                <a:latin typeface="Arial"/>
              </a:rPr>
              <a:t>Journées d’information et d’animation Bac Pro ELEEC (Électrotechnique Énergie Équipements Communicant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BAC PRO ELE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971800" y="762120"/>
            <a:ext cx="320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EDF1-19C7-4695-9BD5-86413A142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Dossiers%20BAC/Annexe1Repere%20v2.doc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2514600"/>
            <a:ext cx="8305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LA REGLEMENTATION D’EXAME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8800" y="44197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. Leblanc IEN académie d’Orléans-Tou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A689-5405-48A2-94D3-5E54CDFC5A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2280" y="1219320"/>
            <a:ext cx="8763120" cy="5806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aintenance d’un ouv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3 coefficient 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2133720"/>
            <a:ext cx="7696080" cy="2113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ée 3 h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uls les savoirs technologiques, correspondant aux niveaux taxonomiques du tronc commun de connaissances, sont mobilisés lors de cette sous - épreuve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419720"/>
            <a:ext cx="7696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situation proposée est aussi proche que possible d’une situation réel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L’ouvrage est suffisamment significatif pour que les opérations de maintenance puissent s’effectuer depuis les circuits de distribution jusqu’aux applications termi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DCB6-B442-4C0F-AF89-4815B32450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0" y="1295280"/>
            <a:ext cx="4572000" cy="6098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295280"/>
            <a:ext cx="4419720" cy="6098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295280"/>
            <a:ext cx="8991720" cy="58068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églage, paramétrage, contrôle, modification liés au champ d’application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4 coefficien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133720"/>
            <a:ext cx="7696080" cy="24789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ée 4 h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es savoirs technologiques se rapportant au champ d’application "habitat/tertiaire" ou "industriel" choisi par le candidat lors de son inscription à l’examen sont plus particulièrement mobilisés lors de cette sous - épreu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5410080"/>
            <a:ext cx="434340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6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mp d’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E8F-0692-48D8-921E-5CC6EFAA9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322280"/>
            <a:ext cx="8763120" cy="4267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228600" y="1447920"/>
          <a:ext cx="8534520" cy="396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447920"/>
                    <a:ext cx="85345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5638680" y="414180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EPREUVE E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79EF-93FF-4A80-82AF-2946FD0976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324000" y="1052640"/>
          <a:ext cx="8491320" cy="5187960"/>
        </p:xfrm>
        <a:graphic>
          <a:graphicData uri="http://schemas.openxmlformats.org/drawingml/2006/table">
            <a:tbl>
              <a:tblPr/>
              <a:tblGrid>
                <a:gridCol w="2871720"/>
                <a:gridCol w="584280"/>
                <a:gridCol w="431640"/>
                <a:gridCol w="920880"/>
                <a:gridCol w="920520"/>
                <a:gridCol w="920880"/>
                <a:gridCol w="920880"/>
                <a:gridCol w="920520"/>
              </a:tblGrid>
              <a:tr h="57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.2 Étude d’un ouv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cri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3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.3 Épreuve pratique prenan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 compte l’activité professionnel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  <a:hlinkClick r:id="rId1"/>
                        </a:rPr>
                        <a:t>annex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s-épreuve E3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tuations de travail spécifiées et réalisées en milieu professionnel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net de bor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che 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a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che 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m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846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s-épreuve E3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se en service d’un ouv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tiq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844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s-épreuve E33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intenance d’un ouvr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tiq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cc33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s-épreuve E34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Réglage, paramétrage, contrôle, modification liés au champ d’applicatio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ch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atiqu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CF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75"/>
          <p:cNvSpPr/>
          <p:nvPr/>
        </p:nvSpPr>
        <p:spPr>
          <a:xfrm>
            <a:off x="468720" y="747720"/>
            <a:ext cx="267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sources    http://lpelec.ovh.org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4931-3605-488D-8AAB-6B6086262D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685800"/>
            <a:ext cx="2590560" cy="2128320"/>
          </a:xfrm>
          <a:prstGeom prst="rect">
            <a:avLst/>
          </a:prstGeom>
          <a:solidFill>
            <a:srgbClr val="000099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PREUVE E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c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h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efficient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971800"/>
            <a:ext cx="3276720" cy="268452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50000">
                <a:srgbClr val="008000"/>
              </a:gs>
              <a:gs pos="100000">
                <a:srgbClr val="cc00cc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onc comm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points (70%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2819520"/>
            <a:ext cx="3047760" cy="122940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fondis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tiai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points (3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4800600"/>
            <a:ext cx="3047760" cy="122940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fondiss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ustri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points (30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495680"/>
            <a:ext cx="304920" cy="0"/>
          </a:xfrm>
          <a:prstGeom prst="line">
            <a:avLst/>
          </a:prstGeom>
          <a:ln cap="sq" w="3816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40280" y="42656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648320" y="3429000"/>
            <a:ext cx="990360" cy="99072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8320" y="4572000"/>
            <a:ext cx="990360" cy="76212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8400" y="41893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1828800"/>
            <a:ext cx="3352680" cy="4597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66"/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mp d’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18FB-2B89-4F5E-A5CA-DDAE017030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5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638680" y="5181480"/>
            <a:ext cx="3200400" cy="838440"/>
          </a:xfrm>
          <a:prstGeom prst="rect">
            <a:avLst/>
          </a:prstGeom>
          <a:solidFill>
            <a:srgbClr val="cc00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181480"/>
            <a:ext cx="3047760" cy="838440"/>
          </a:xfrm>
          <a:prstGeom prst="rect">
            <a:avLst/>
          </a:prstGeom>
          <a:solidFill>
            <a:srgbClr val="008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90920" y="1523880"/>
            <a:ext cx="6248160" cy="106740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ituations de travail spécifiées et réalisées en milieu 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1 coefficie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28600" y="762120"/>
            <a:ext cx="2209680" cy="6006600"/>
            <a:chOff x="228600" y="762120"/>
            <a:chExt cx="2209680" cy="6006600"/>
          </a:xfrm>
        </p:grpSpPr>
        <p:sp>
          <p:nvSpPr>
            <p:cNvPr id="108" name=""/>
            <p:cNvSpPr/>
            <p:nvPr/>
          </p:nvSpPr>
          <p:spPr>
            <a:xfrm>
              <a:off x="228600" y="762120"/>
              <a:ext cx="2209680" cy="6006600"/>
            </a:xfrm>
            <a:prstGeom prst="rect">
              <a:avLst/>
            </a:prstGeom>
            <a:solidFill>
              <a:srgbClr val="000099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PREUVE E3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Épreuve prenant en compte l’activité professionn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efficient 8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61240" y="3581280"/>
              <a:ext cx="1469880" cy="1572120"/>
            </a:xfrm>
            <a:prstGeom prst="rect">
              <a:avLst/>
            </a:pr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C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Ou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onctuell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590920" y="2819520"/>
            <a:ext cx="6248160" cy="82404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ise en service d’un ouv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2 coefficient 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0920" y="3962520"/>
            <a:ext cx="6248160" cy="82404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3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aintenance d’un ouv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3 coefficient 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5181480"/>
            <a:ext cx="6248160" cy="82404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églage, paramétrage, contrôle, modification liés au champ d’application (1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4 coefficient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710A-2339-4429-A242-579B05D10A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50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1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9051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L’évaluation s’effectue sur deux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2514600"/>
            <a:ext cx="3276720" cy="24382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és ré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 le candid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FM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95680" y="2514600"/>
            <a:ext cx="4038840" cy="2438280"/>
          </a:xfrm>
          <a:prstGeom prst="rect">
            <a:avLst/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é oral en f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ycle en établisse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formation des 4 activit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éalisées en entrepr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t l’étude de 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écrites dans un doss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Et donne lieu à 3 no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bcbcb"/>
                </a:solidFill>
                <a:latin typeface="Arial"/>
              </a:rPr>
              <a:t>PFMP – Dossier – Présentation ora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914400"/>
            <a:ext cx="1371600" cy="64260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3-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EB75-F8BB-4AA3-A8FC-88B6CF8CD9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52280" y="1295280"/>
            <a:ext cx="8534520" cy="5806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ituations de travail spécifiées et réalisées en milieu 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1 coefficie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" y="2057400"/>
            <a:ext cx="8381880" cy="37515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es compétences et des attitudes professionnelles du candidat durant les PFMP (coefficient 1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E4A8-8807-40BC-9E79-DD6E5C897C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52280" y="1295280"/>
            <a:ext cx="8534520" cy="5806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ituations de travail spécifiées et réalisées en milieu 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1 coefficie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2057400"/>
            <a:ext cx="8381880" cy="37515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es compétences et des attitudes professionnelles du candidat durant les PFMP (coefficient 1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u dossier de synthèse réalisé par le candidat (Coefficient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C1FD-95E5-4F85-9EB3-1C40A907CF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295280"/>
            <a:ext cx="8534520" cy="5806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ituations de travail spécifiées et réalisées en milieu professionn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1 coefficie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057400"/>
            <a:ext cx="8381880" cy="375156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es compétences et des attitudes professionnelles du candidat durant les PFMP (coefficient 1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u dossier de synthèse réalisé par le candidat (Coefficient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valuation de la présentation orale d’activités réalisées durant les PFMP et particulièrement l’étude de cas (Coefficient 0,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D2C-7DFF-43F7-9EEE-8AFCEFB7E5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52280" y="1295280"/>
            <a:ext cx="8686800" cy="580680"/>
          </a:xfrm>
          <a:prstGeom prst="rect">
            <a:avLst/>
          </a:prstGeom>
          <a:gradFill rotWithShape="0">
            <a:gsLst>
              <a:gs pos="0">
                <a:srgbClr val="cc00cc"/>
              </a:gs>
              <a:gs pos="100000">
                <a:srgbClr val="008000"/>
              </a:gs>
            </a:gsLst>
            <a:lin ang="13500000"/>
          </a:gra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s-épreuve E3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Mise en service d’un ouvrag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32 coefficient 1.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2133720"/>
            <a:ext cx="7696080" cy="21132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ée 3 he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uls les savoirs technologiques, correspondant aux niveaux taxonomiques du tronc commun de connaissances, sont mobilisés lors de cette sous - épreuve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419720"/>
            <a:ext cx="7696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a situation proposée est aussi proche que possible d’une situation réell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L’ouvrage doit être suffisamment significatif pour que la mise en service puisse s’effectuer depuis les circuits de distribution jusqu’aux applications terminales.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AC ELEEC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0325-8EB0-4BFE-A020-0498C7F90A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6:30:11Z</dcterms:created>
  <dc:creator>J. leblanc</dc:creator>
  <dc:description/>
  <dc:language>en-US</dc:language>
  <cp:lastModifiedBy>Techniciens ED</cp:lastModifiedBy>
  <dcterms:modified xsi:type="dcterms:W3CDTF">2009-06-09T20:37:00Z</dcterms:modified>
  <cp:revision>49</cp:revision>
  <dc:subject/>
  <dc:title>Règlement d’examen</dc:title>
</cp:coreProperties>
</file>