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1CED-571E-46C4-B8F4-379B8B672C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PC = commission paritaire consultative composée d’inspecteurs, d’enseignants et professionnels représentatifs. Les travaux étant supervisés par un I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5. Enseignement qui s’appuie sur l’utilisation du modeleur volumique et sur l’observation du réel : base de lecture, compréhension des solutions constructives présentes sur les applications terminales, réalisation d’un croquis d’une pièce si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16F1-BFF0-4AD1-9A3B-CDEDAA05066E}" type="slidenum">
              <a:rPr b="0" lang="fr-FR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D0A9-6104-4044-A834-8D124004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AF6B-7846-4E6E-90B6-FE2A5C7E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65C-7CCD-415B-AE0E-E978E2EF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22B-2767-4003-A4CC-BC5907BF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14A1-CB24-4725-8454-FA5C3A809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EE27-2FBA-44AA-ADC6-A031578D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8A57-BBF9-46F4-A2FC-BC8D0D8C7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CBA1-7C45-45D4-84D6-D5145910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1238-2373-4A85-8E3C-6C19E62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BAAD-D8E3-4CDC-BF87-5B2651B2F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8932-BDF6-4D9C-8A4B-A1141615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29C8-B0B0-4B1E-8206-A68356D4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7F8-0E94-442D-A6AC-1E59BC6B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2E09-EFCF-47C8-BFF6-BEDDED5D4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DC2B1-A7EB-4DB6-AB5A-2E2C0C74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3083-EF10-4336-9A99-D6BC8A82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BC6A-E8E8-4AAA-9CE2-6A8DBE5E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583D-E9AA-4209-B630-DACF4B82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8A6-1135-446A-AB3E-6CC6EC61A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1248-3E7E-4F6E-87D9-B072E342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05B0-5A53-4313-8250-212B017A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2803-23D8-4EE0-9BE5-E224D82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C95C-6EFB-4FCF-AE62-0C11BE82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24F-DA96-4A0C-916C-63CE6CE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BA738-591C-4FFB-A0B8-629342C4C9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E542-B3AD-4FC3-8D78-A1BC44EDDE5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e contenu du référentiel de certification du BEP ELEEC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4288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Pour écrire la certification intermédiaire niveau V du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BAC PRO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, la CPC s’est appuyée sur le contenu du BEP des métiers de l’électrotechnique. Pour autant, il convient de noter les évolutions suivantes 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a notion d’ouvrage électrique est présente dans l’ensemble du diplôme, afin que les réalisations envisagées dans la progression pédagogique puissent être les plus représentatives des réalités actuel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CB38-9F80-4762-A0B1-25EF888717C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e contenu du référentiel de certification du BEP ELEEC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397160"/>
            <a:ext cx="7772400" cy="52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716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es activités de maintenance ainsi que les activités de mises en service normatives  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ne sont  plus retenue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dans le référentiel du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BEP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fr-FR" sz="2400" spc="-1" strike="noStrike">
                <a:solidFill>
                  <a:srgbClr val="ffff00"/>
                </a:solidFill>
                <a:latin typeface="Arial"/>
              </a:rPr>
              <a:t>Elles restent bien entendu totalement présentes dans celui du baccalauréat professionnel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écriture des savoirs associés a fait l’objet d’un allégement important. Le référentiel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BEP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définit le niveau d’exigence de la certification intermédiaire et non celui du </a:t>
            </a:r>
            <a:r>
              <a:rPr b="0" lang="fr-FR" sz="2400" spc="-1" strike="noStrike">
                <a:solidFill>
                  <a:srgbClr val="00cc00"/>
                </a:solidFill>
                <a:latin typeface="Arial"/>
              </a:rPr>
              <a:t>BAC PRO ELEEC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. Le référentiel de ce dernier prévaut touj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7C9A-488A-49B8-9872-643420B3D36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42976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a6a6a6"/>
                </a:solidFill>
                <a:latin typeface="Arial"/>
              </a:rPr>
              <a:t>Le contenu du référentiel de certification du BEP ELEEC.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-533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activité relative à l’enseignement du </a:t>
            </a:r>
            <a:r>
              <a:rPr b="0" lang="fr-FR" sz="2400" spc="-1" strike="noStrike">
                <a:solidFill>
                  <a:srgbClr val="ff0033"/>
                </a:solidFill>
                <a:latin typeface="Arial"/>
              </a:rPr>
              <a:t>S0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se fait soit sur l’espace « </a:t>
            </a:r>
            <a:r>
              <a:rPr b="0" lang="fr-FR" sz="2400" spc="-1" strike="noStrike">
                <a:solidFill>
                  <a:srgbClr val="ff9900"/>
                </a:solidFill>
                <a:latin typeface="Arial"/>
              </a:rPr>
              <a:t>expérimentation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 » soit sur l’espace systèmes pour apprendre à exploiter les mesureurs et/ou pour vérifier les lois fondamentales de l’électrotechniqu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533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53352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L’enseignement de la </a:t>
            </a:r>
            <a:r>
              <a:rPr b="0" lang="fr-FR" sz="2400" spc="-1" strike="noStrike">
                <a:solidFill>
                  <a:srgbClr val="ff00ff"/>
                </a:solidFill>
                <a:latin typeface="Arial"/>
              </a:rPr>
              <a:t>construction mécanique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est présent dans la formation </a:t>
            </a:r>
            <a:r>
              <a:rPr b="0" lang="fr-FR" sz="2400" spc="-1" strike="noStrike">
                <a:solidFill>
                  <a:srgbClr val="99ff99"/>
                </a:solidFill>
                <a:latin typeface="Arial"/>
              </a:rPr>
              <a:t>BAC PRO 3 ans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par le biais de la certification intermédiaire. Les professeurs de construction proposeront des activités dont les thèmes sont issus des domaines électrotechn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Espace réservé du pied de pag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Espace réservé du numéro de diapositive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FCE68-22D3-4CEC-956E-1C66FF8E55B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18:51:54Z</dcterms:created>
  <dc:creator>MICHEL</dc:creator>
  <dc:description/>
  <dc:language>en-US</dc:language>
  <cp:lastModifiedBy>MICHEL</cp:lastModifiedBy>
  <dcterms:modified xsi:type="dcterms:W3CDTF">2009-06-29T21:55:19Z</dcterms:modified>
  <cp:revision>4</cp:revision>
  <dc:subject/>
  <dc:title>Préambule</dc:title>
</cp:coreProperties>
</file>