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DED-8F55-4404-8632-8285FE45F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D018-CFE1-4AE6-9505-D022695F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7E3D-0805-4BC5-A140-DD87A263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48B6-B52B-4FC3-89C8-02C99505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4ED2-3D6D-418D-B0BC-56432168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8EA0-3531-4C88-B689-049400BE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4F314-A743-48B0-AF69-ACC1C56C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84FD-99FD-46CA-AC82-1B725561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7CE8-4620-4979-9B8A-AF71FBB5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2A86-F116-47CB-BA77-9E799C55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DAEA0-4343-45E5-A00D-CAF37721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0828-DFC4-4866-BEF2-6E818A6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245-B358-40C9-8AA4-A5980320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F8CA1-4C15-4CDE-9034-DFF43E02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66B5-EB2F-41E2-8E07-E2092A7E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13A0-D607-4FCF-9E81-493599F8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1B58-DB39-4DDC-B08E-6AEB85032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3F66-0724-469C-9263-1884B66F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3EA-5928-4784-BDD3-5CC445B49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A663-BA4E-40B0-A074-C1B13252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D63-8766-445C-B8A7-5A7F1B8A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B3B-48B8-4D25-95C6-61E66D741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273E-EB34-48C3-B635-6C8DB2CE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D267-74EB-4950-92F9-343207EE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786-1DD4-4A10-8303-52C270594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9A3C-570C-4D41-B541-7611F5A0A81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00"/>
                </a:solidFill>
                <a:latin typeface="Arial"/>
              </a:rPr>
              <a:t>La commission d’évaluateur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0560" y="167652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omic Sans MS"/>
              </a:rPr>
              <a:t>Le Dossier de synthèse et la présentation orale sont évalués par une commission d’évaluateurs composée comme sui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 Professeur d’enseignement professio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 professeur d’économie ges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 professio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Il est à noter que l’absence de ce dernier ne peut invalider l’éval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Espace réservé du numéro de diapositive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FFB4-3232-4093-9AB9-8B20EF182F8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2:39:30Z</dcterms:created>
  <dc:creator>MICHEL</dc:creator>
  <dc:description/>
  <dc:language>en-US</dc:language>
  <cp:lastModifiedBy>MICHEL</cp:lastModifiedBy>
  <dcterms:modified xsi:type="dcterms:W3CDTF">2009-06-29T22:39:56Z</dcterms:modified>
  <cp:revision>1</cp:revision>
  <dc:subject/>
  <dc:title>La commission d’évaluateurs</dc:title>
</cp:coreProperties>
</file>