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760-1670-4E3C-BC2F-53671B96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C9DB-0A6E-45EE-9CDA-CDD330F9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3D2B-98D0-47E5-8EFE-9858A39F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802-29FB-4642-8C73-DF15EC92E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410-1853-41CE-8CC3-A4FFE7E8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3EDC-8F9A-485B-B410-C0E7DD721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59D2-B5AE-4F96-BF6B-3D4E518B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D70-9964-460E-AE4C-051E416E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462-B69E-4AC0-A4DF-7D7B6F91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C7A2-9AF4-4E33-8E9E-9AC0ABB6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D06C-B7CE-4626-A1FD-477DCBA9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23600"/>
            <a:ext cx="777240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5830-C335-432C-A66B-A5C49182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446025"/>
              </a:gs>
              <a:gs pos="50000">
                <a:srgbClr val="92d050"/>
              </a:gs>
              <a:gs pos="100000">
                <a:srgbClr val="4460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BAC ELE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4EE6-5376-4C8E-A301-9F2BA218D197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304920" y="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cbcbcb"/>
                </a:solidFill>
                <a:latin typeface="Arial"/>
              </a:rPr>
              <a:t>BEP et Bac Pro ELEEC (Électrotechnique Énergie Équipements Communicant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bcbcb"/>
                </a:solidFill>
                <a:latin typeface="Arial"/>
              </a:rPr>
              <a:t>BAC PRO ELEE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Text Box 12"/>
          <p:cNvSpPr/>
          <p:nvPr/>
        </p:nvSpPr>
        <p:spPr>
          <a:xfrm>
            <a:off x="2971800" y="762120"/>
            <a:ext cx="32004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Espace réservé du pied de page 1"/>
          <p:cNvSpPr/>
          <p:nvPr/>
        </p:nvSpPr>
        <p:spPr>
          <a:xfrm>
            <a:off x="3124080" y="6248520"/>
            <a:ext cx="2895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BAC ELE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Espace réservé du numéro de diapositive 2"/>
          <p:cNvSpPr/>
          <p:nvPr/>
        </p:nvSpPr>
        <p:spPr>
          <a:xfrm>
            <a:off x="6553080" y="62485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512E-95D1-42F5-AC89-4BBBC4DC3978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23960" y="85716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Times New Roman"/>
              </a:rPr>
              <a:t>L’épreuve de contrôle du baccalauréat professionn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14240" y="207180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66cc"/>
                </a:solidFill>
                <a:latin typeface="Times New Roman"/>
              </a:rPr>
              <a:t>Le tex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66cc"/>
                </a:solidFill>
                <a:latin typeface="Times New Roman"/>
              </a:rPr>
              <a:t>Document élè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0066cc"/>
                </a:solidFill>
                <a:latin typeface="Times New Roman"/>
              </a:rPr>
              <a:t>L’éval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06:30:11Z</dcterms:created>
  <dc:creator>J. leblanc</dc:creator>
  <dc:description/>
  <dc:language>en-US</dc:language>
  <cp:lastModifiedBy>MICHEL</cp:lastModifiedBy>
  <dcterms:modified xsi:type="dcterms:W3CDTF">2009-06-29T22:14:29Z</dcterms:modified>
  <cp:revision>105</cp:revision>
  <dc:subject/>
  <dc:title>Règlement d’examen</dc:title>
</cp:coreProperties>
</file>