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E6A3-08A5-4920-9EBF-681D0288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6103-500D-451B-923E-59F39987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6BF4-1C7C-494A-B3FA-9A58F633F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B956-6247-4204-B100-C6C337B3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D96B-C717-47C4-BF32-335941A56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40E-D160-4676-9718-9CBE5046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8F6A-F014-414E-97C4-FCAF4757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0D6BE-9660-4C6E-A771-6C4A61DB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AC2F-F621-48BE-8A21-37AC898C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AA1F-A1E4-48A5-ABAF-52F1A8484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4505-1A5B-4D60-B240-70D01BC87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26B7-3D9E-4832-A197-79F35D8D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9ACA3-3937-415D-A7B7-330E4504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93EF-8EBA-4B0E-AAE3-93C1B69A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C705-E4F4-4109-BE25-C3F2AC53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2AFBA-AADA-4929-9E4B-33D5A310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12A5-0D41-4793-A54F-7596DEADF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7781-6816-40FC-B8EF-48CF77D0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6F9-753F-4A98-A7A4-92B28E63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A259-7583-4400-B31D-C46613A5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CAD-F9C1-43B3-8134-7FDDD67C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491-6D6E-4A49-BDE7-08752E06C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ABD7-EDB3-4F63-983C-C75F6F8C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DBF-8B8C-4D1E-9286-8E29177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88D5-C8D5-4950-A5F6-C791D13063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125360"/>
            <a:ext cx="9009000" cy="1052640"/>
            <a:chOff x="0" y="112536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1233360"/>
              <a:ext cx="712440" cy="474840"/>
              <a:chOff x="293760" y="123336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1233360"/>
                <a:ext cx="438480" cy="47484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123336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1655640"/>
              <a:ext cx="739800" cy="474840"/>
              <a:chOff x="417600" y="165564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165564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165564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158256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112536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194760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4DF-A950-40E2-9581-6E7C6ADB1A21}" type="slidenum">
              <a:rPr b="0" lang="fr-FR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pt BEP\Sommaire.ppt" TargetMode="External"/><Relationship Id="rId2" Type="http://schemas.openxmlformats.org/officeDocument/2006/relationships/hyperlink" Target="ppt BAC\Bac ELEEC rep&#232;res Sommaire.ppt" TargetMode="External"/><Relationship Id="rId3" Type="http://schemas.openxmlformats.org/officeDocument/2006/relationships/hyperlink" Target="Documentation annexe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90340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es animations du </a:t>
            </a:r>
            <a:r>
              <a:rPr b="0" lang="fr-FR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BEP</a:t>
            </a:r>
            <a:br>
              <a:rPr sz="4000"/>
            </a:b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es animations du </a:t>
            </a:r>
            <a:r>
              <a:rPr b="0" lang="fr-FR" sz="4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BAC</a:t>
            </a:r>
            <a:br>
              <a:rPr sz="4000"/>
            </a:b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La documentation </a:t>
            </a:r>
            <a:r>
              <a:rPr b="0" lang="fr-FR" sz="4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annex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971640" y="620640"/>
            <a:ext cx="7772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e4a8"/>
                </a:solidFill>
                <a:latin typeface="Tahoma"/>
              </a:rPr>
              <a:t>Le BAC ELEEC 3 a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9T08:49:58Z</dcterms:created>
  <dc:creator>Techniciens ED</dc:creator>
  <dc:description/>
  <dc:language>en-US</dc:language>
  <cp:lastModifiedBy>MICHEL</cp:lastModifiedBy>
  <dcterms:modified xsi:type="dcterms:W3CDTF">2009-06-29T21:59:57Z</dcterms:modified>
  <cp:revision>8</cp:revision>
  <dc:subject/>
  <dc:title>BEP BAC</dc:title>
</cp:coreProperties>
</file>