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B577-5DFC-4387-85B8-49C061F82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BC83-B8FD-4EBE-BDED-4FDAF9982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E34B-7603-4F6C-99B3-783F1CD80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692A-84E3-4DBC-A609-AA13AC4A2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68FF5-C0B1-44D1-AD52-D6211D2F0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DEE7D-9AA0-4BC5-AAA2-1A0808AB1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2E24D-2F3A-4C71-89BA-538E0625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3663E-C981-4E18-8B1D-A06F3F12E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1640B-D650-41A8-B6F8-D0548BA80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BFFDD-ACF2-4539-91E6-21E9D2ED7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A33D0-A3EE-424B-9E72-D6CA7720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7B4E-1D09-41B3-8B97-3E27C9D10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C494D-99E0-4AF4-9625-15594508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6D50C-D548-4FFF-A9B7-1BD6E626F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B9930-152F-4621-ADC2-5B90EEC79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E59D3-8245-4E3A-A084-00A7E76F6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E8B6D-B57A-4EE1-B2DF-D43D5BE4D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BC2B-FB8E-4172-95CC-F61507B07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DB15-6EBE-4B9C-B22E-FBD2521CF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6856-FDEE-48A5-B826-555C26C45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ED35-9635-40F0-B3AE-573630870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A492-0CB1-4BC5-8525-506681DE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738A-7937-4667-BAEB-CF1B4F30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34DF-6DF0-4C4A-B6DC-E60D77CC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5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89BFA-22DF-4CD6-9FB8-C11E17B4DFB8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04920" y="0"/>
            <a:ext cx="85341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cbcbcb"/>
                </a:solidFill>
                <a:latin typeface="Arial"/>
              </a:rPr>
              <a:t>Journées d’information et d’animation de l’Inspection Générale de l’Éducation National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cbcbcb"/>
                </a:solidFill>
                <a:latin typeface="Arial"/>
              </a:rPr>
              <a:t>Rénovation des diplôm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cbcbcb"/>
                </a:solidFill>
                <a:latin typeface="Arial"/>
              </a:rPr>
              <a:t>Bac Pro ELEEC (Électrotechnique Énergie Équipements Communicants)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8556480" y="0"/>
            <a:ext cx="586080" cy="74772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bcbc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bcbcb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6E572-422B-4A80-8BC4-B63DD3D4B862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15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150000"/>
              </a:lnSpc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pr&#233;sentation%20g&#233;n&#233;rale.ppt" TargetMode="External"/><Relationship Id="rId2" Type="http://schemas.openxmlformats.org/officeDocument/2006/relationships/hyperlink" Target="file:///Savoirs%20associ&#233;s.ppt" TargetMode="External"/><Relationship Id="rId3" Type="http://schemas.openxmlformats.org/officeDocument/2006/relationships/hyperlink" Target="file:///Zones%20et%20&#233;quipements.ppt" TargetMode="External"/><Relationship Id="rId4" Type="http://schemas.openxmlformats.org/officeDocument/2006/relationships/hyperlink" Target="file:///R&#232;glement%20d&apos;examen2.ppt" TargetMode="External"/><Relationship Id="rId5" Type="http://schemas.openxmlformats.org/officeDocument/2006/relationships/hyperlink" Target="file:///PFMP.ppt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610480" cy="626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bcbcb"/>
                </a:solidFill>
                <a:latin typeface="Arial"/>
              </a:rPr>
              <a:t>Journées d’information et d’animation </a:t>
            </a:r>
            <a:br>
              <a:rPr sz="2000"/>
            </a:br>
            <a:r>
              <a:rPr b="0" lang="fr-FR" sz="2000" spc="-1" strike="noStrike">
                <a:solidFill>
                  <a:srgbClr val="cbcbcb"/>
                </a:solidFill>
                <a:latin typeface="Arial"/>
              </a:rPr>
              <a:t>de l’Inspection Générale de l’Éducation Nationale.</a:t>
            </a:r>
            <a:br>
              <a:rPr sz="2000"/>
            </a:br>
            <a:br>
              <a:rPr sz="20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Rénovation des diplômes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fr-FR" sz="2000" spc="-1" strike="noStrike">
                <a:solidFill>
                  <a:srgbClr val="cbcbcb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Bac Pro ELEEC</a:t>
            </a:r>
            <a:r>
              <a:rPr b="0" lang="fr-FR" sz="2000" spc="-1" strike="noStrike">
                <a:solidFill>
                  <a:srgbClr val="cbcbcb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fr-FR" sz="2000" spc="-1" strike="noStrike">
                <a:solidFill>
                  <a:srgbClr val="cbcbcb"/>
                </a:solidFill>
                <a:latin typeface="Arial"/>
              </a:rPr>
              <a:t>(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ÉL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ectrotechnique</a:t>
            </a:r>
            <a:r>
              <a:rPr b="0" lang="fr-FR" sz="2000" spc="-1" strike="noStrike">
                <a:solidFill>
                  <a:srgbClr val="cbcbcb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É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nergie</a:t>
            </a:r>
            <a:r>
              <a:rPr b="0" lang="fr-FR" sz="2000" spc="-1" strike="noStrike">
                <a:solidFill>
                  <a:srgbClr val="cbcbcb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É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quipements</a:t>
            </a:r>
            <a:r>
              <a:rPr b="0" lang="fr-FR" sz="2000" spc="-1" strike="noStrike">
                <a:solidFill>
                  <a:srgbClr val="cbcbcb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f3300"/>
                </a:solidFill>
                <a:latin typeface="Arial"/>
              </a:rPr>
              <a:t>C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ommunicants</a:t>
            </a:r>
            <a:r>
              <a:rPr b="0" lang="fr-FR" sz="2000" spc="-1" strike="noStrike">
                <a:solidFill>
                  <a:srgbClr val="cbcbcb"/>
                </a:solidFill>
                <a:latin typeface="Arial"/>
              </a:rPr>
              <a:t>)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CERPET</a:t>
            </a:r>
            <a:br>
              <a:rPr sz="2000"/>
            </a:br>
            <a:r>
              <a:rPr b="0" lang="fr-FR" sz="1600" spc="-1" strike="noStrike">
                <a:solidFill>
                  <a:srgbClr val="cbcbcb"/>
                </a:solidFill>
                <a:latin typeface="Arial"/>
              </a:rPr>
              <a:t>Centre Études Rénovation Pédagogique de L’Enseignement Technique</a:t>
            </a:r>
            <a:br>
              <a:rPr sz="1600"/>
            </a:br>
            <a:r>
              <a:rPr b="0" lang="fr-FR" sz="1600" spc="-1" strike="noStrike">
                <a:solidFill>
                  <a:srgbClr val="cbcbcb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fr-FR" sz="1800" spc="-1" strike="noStrike">
                <a:solidFill>
                  <a:srgbClr val="cbcbcb"/>
                </a:solidFill>
                <a:latin typeface="Arial"/>
              </a:rPr>
              <a:t>décembre 2003</a:t>
            </a:r>
            <a:r>
              <a:rPr b="0" lang="fr-FR" sz="2000" spc="-1" strike="noStrike">
                <a:solidFill>
                  <a:srgbClr val="cbcbcb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362320" y="5943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305920" y="0"/>
            <a:ext cx="838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4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Bac Pro ELEEC</a:t>
            </a:r>
            <a:endParaRPr b="0" lang="en-US" sz="2400" spc="-1" strike="noStrike">
              <a:solidFill>
                <a:srgbClr val="cbcbc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74872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'esprit général du Bac Pro </a:t>
            </a:r>
            <a:r>
              <a:rPr b="1" lang="fr-FR" sz="2000" spc="-1" strike="noStrike" u="sng">
                <a:solidFill>
                  <a:srgbClr val="ff3300"/>
                </a:solidFill>
                <a:uFillTx/>
                <a:latin typeface="Webdings"/>
                <a:ea typeface="Webdings"/>
                <a:hlinkClick r:id="rId1"/>
              </a:rPr>
              <a:t>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es niveaux taxonomiques et la répartition horaire </a:t>
            </a:r>
            <a:r>
              <a:rPr b="1" lang="fr-FR" sz="2000" spc="-1" strike="noStrike" u="sng">
                <a:solidFill>
                  <a:srgbClr val="ff3300"/>
                </a:solidFill>
                <a:uFillTx/>
                <a:latin typeface="Webdings"/>
                <a:ea typeface="Webdings"/>
                <a:hlinkClick r:id="rId2"/>
              </a:rPr>
              <a:t>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Exploitation des zones et des équipements en relation avec le champ d’application choisi </a:t>
            </a:r>
            <a:r>
              <a:rPr b="1" lang="fr-FR" sz="2000" spc="-1" strike="noStrike" u="sng">
                <a:solidFill>
                  <a:srgbClr val="ff3300"/>
                </a:solidFill>
                <a:uFillTx/>
                <a:latin typeface="Webdings"/>
                <a:ea typeface="Webdings"/>
                <a:hlinkClick r:id="rId3"/>
              </a:rPr>
              <a:t>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Zones et matériels associes </a:t>
            </a:r>
            <a:r>
              <a:rPr b="1" lang="fr-FR" sz="2000" spc="-1" strike="noStrike">
                <a:solidFill>
                  <a:srgbClr val="ffffff"/>
                </a:solidFill>
                <a:latin typeface="Webdings"/>
                <a:ea typeface="Webdings"/>
              </a:rPr>
              <a:t>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Règlement d’examen </a:t>
            </a:r>
            <a:r>
              <a:rPr b="1" lang="fr-FR" sz="2000" spc="-1" strike="noStrike" u="sng">
                <a:solidFill>
                  <a:srgbClr val="ff3300"/>
                </a:solidFill>
                <a:uFillTx/>
                <a:latin typeface="Webdings"/>
                <a:ea typeface="Webdings"/>
                <a:hlinkClick r:id="rId4"/>
              </a:rPr>
              <a:t>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Epreuve de contrôle </a:t>
            </a:r>
            <a:r>
              <a:rPr b="1" lang="fr-FR" sz="2000" spc="-1" strike="noStrike">
                <a:solidFill>
                  <a:srgbClr val="ffffff"/>
                </a:solidFill>
                <a:latin typeface="Webdings"/>
                <a:ea typeface="Webdings"/>
              </a:rPr>
              <a:t>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Périodes de Formation en Milieu Professionnel </a:t>
            </a:r>
            <a:r>
              <a:rPr b="1" lang="fr-FR" sz="2000" spc="-1" strike="noStrike" u="sng">
                <a:solidFill>
                  <a:srgbClr val="ff3300"/>
                </a:solidFill>
                <a:uFillTx/>
                <a:latin typeface="Webdings"/>
                <a:ea typeface="Webdings"/>
                <a:hlinkClick r:id="rId5"/>
              </a:rPr>
              <a:t>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Situations de travail en entrepri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Validation des compéten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2T09:49:11Z</dcterms:created>
  <dc:creator>Martel-Hebrard</dc:creator>
  <dc:description/>
  <dc:language>en-US</dc:language>
  <cp:lastModifiedBy>Techniciens ED</cp:lastModifiedBy>
  <dcterms:modified xsi:type="dcterms:W3CDTF">2009-06-09T20:48:11Z</dcterms:modified>
  <cp:revision>65</cp:revision>
  <dc:subject/>
  <dc:title>Journée d’information et d’animation  de l’Inspection Générale de l’Éducation Nationale.  Rénovation des diplômes.   BEP des Métiers de l’Électrotechnique   Bac Pro ELEEC  (Électrotechnique Énergie Équipement Communicants).</dc:title>
</cp:coreProperties>
</file>