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5628-ED52-42FF-8F94-18F36A07517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6 semaines imposées en fin d’année, le reste autonomie de l’établissement dans l’organis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que colonne correspond à un niveau de certif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l certifiera un niveau d’exécutant électricien capable de réaliser en autonomie une installation électrique tant du domaine habitat/tertiaire qu’industriel et de la mettre en service dans le cadre d’une activité participative encadré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172E-8231-4190-A047-DD77E2C5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DDC-AAFC-4181-81B0-D23ED52A0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68E-9385-4C37-9055-73D39E8F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1775-3F39-4CA2-8109-441FF2F5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DC4E-0A5E-4608-A3CD-04AC76615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50D17-0500-4911-8B32-0B6B27A1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04A8-5F73-4C4D-A754-161F3CA1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C8D9-7693-4378-9BD7-FF4844C9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AE1B5-5A25-4145-8F7F-627F1F25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B0AD-A28C-40D8-928E-05D184D9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894F-1E59-435E-8A4A-D853C4146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DE8-84E9-4F72-9A4E-2CC1CF4A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CD76-0FA9-41A6-8F8C-A514E4CF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16051-20AC-4200-9772-FAC9C6DB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B92E-8086-4DD4-9AD4-6A5F989C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6A43-5A77-4EC1-A66A-A2BD8978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5ADB-578C-4161-9270-9871481C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7134-CE76-43FE-996B-922DF473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BBA0-25C5-49B0-92F3-268D9DEB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4C84-233E-41B1-84C3-9B4F8E6A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CBA5-F608-4A66-B201-7DC8A9F86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2851-17B6-4E0A-A2FA-11AF17D2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6BD9-4020-44EA-B32A-2478411F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F020-7049-4F01-AB6B-FB477BEE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4C40-F3B0-494C-B39B-D59270032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E1A3-C24A-46B5-97FA-D9364F6D4E9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a6a6a6"/>
                </a:solidFill>
                <a:latin typeface="Arial"/>
                <a:ea typeface="Arial"/>
              </a:rPr>
              <a:t>Préambu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Tous les élèves sous statut scolaires inscrits dans un parcours en trois ans, doivent se présenter à une </a:t>
            </a:r>
            <a:r>
              <a:rPr b="1" lang="fr-FR" sz="2400" spc="-1" strike="noStrike" u="sng">
                <a:solidFill>
                  <a:srgbClr val="ffcc66"/>
                </a:solidFill>
                <a:uFillTx/>
                <a:latin typeface="Arial"/>
              </a:rPr>
              <a:t>certification intermédiaire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afin d’obtenir un </a:t>
            </a:r>
            <a:r>
              <a:rPr b="1" lang="fr-FR" sz="2400" spc="-1" strike="noStrike" u="sng">
                <a:solidFill>
                  <a:srgbClr val="ffff00"/>
                </a:solidFill>
                <a:uFillTx/>
                <a:latin typeface="Arial"/>
              </a:rPr>
              <a:t>diplôme de niveau V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: le </a:t>
            </a:r>
            <a:r>
              <a:rPr b="1" lang="fr-FR" sz="2400" spc="-1" strike="noStrike" u="sng">
                <a:solidFill>
                  <a:srgbClr val="ff0000"/>
                </a:solidFill>
                <a:uFillTx/>
                <a:latin typeface="Arial"/>
              </a:rPr>
              <a:t>BEP ELEEC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objectif de la certification intermédiaire est de </a:t>
            </a:r>
            <a:r>
              <a:rPr b="1" lang="fr-FR" sz="2400" spc="-1" strike="noStrike" u="sng">
                <a:solidFill>
                  <a:srgbClr val="99ff99"/>
                </a:solidFill>
                <a:uFillTx/>
                <a:latin typeface="Arial"/>
              </a:rPr>
              <a:t>valider un niveau de compétences reconnu par les professionnels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 d’éviter ainsi une éventuelle sortie sans qualific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DCCD-9AB6-453A-8326-64BF6F8FFE2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a6a6a6"/>
                </a:solidFill>
                <a:latin typeface="Arial"/>
                <a:ea typeface="Arial"/>
              </a:rPr>
              <a:t>Préambu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531800"/>
            <a:ext cx="7772400" cy="46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Cette certification s’appuie sur la formation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BPR3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es classes de seconde et de première sans remettre en cause l’objectif visé qui est bien la préparation du baccalauréat professionn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certification intermédiaire BEP ELEEC compte cinq unités dont </a:t>
            </a:r>
            <a:r>
              <a:rPr b="1" lang="fr-FR" sz="2400" spc="-1" strike="noStrike" u="sng">
                <a:solidFill>
                  <a:srgbClr val="99ccff"/>
                </a:solidFill>
                <a:uFillTx/>
                <a:latin typeface="Arial"/>
              </a:rPr>
              <a:t>deux unités pour le domaine professionnel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 (</a:t>
            </a:r>
            <a:r>
              <a:rPr b="1" lang="fr-FR" sz="2400" spc="-1" strike="noStrike" u="sng">
                <a:solidFill>
                  <a:srgbClr val="ffff66"/>
                </a:solidFill>
                <a:uFillTx/>
                <a:latin typeface="Arial"/>
              </a:rPr>
              <a:t>UP1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 et </a:t>
            </a:r>
            <a:r>
              <a:rPr b="1" lang="fr-FR" sz="2400" spc="-1" strike="noStrike" u="sng">
                <a:solidFill>
                  <a:srgbClr val="ff9900"/>
                </a:solidFill>
                <a:uFillTx/>
                <a:latin typeface="Arial"/>
              </a:rPr>
              <a:t>UP2</a:t>
            </a:r>
            <a:r>
              <a:rPr b="1" lang="fr-FR" sz="2400" spc="-1" strike="noStrike" u="sng">
                <a:solidFill>
                  <a:srgbClr val="ffffff"/>
                </a:solidFill>
                <a:uFillTx/>
                <a:latin typeface="Arial"/>
              </a:rPr>
              <a:t>)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t trois pour le domaine génér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4B80-D224-4699-AED5-2C1815C1C8F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a6a6a6"/>
                </a:solidFill>
                <a:latin typeface="Arial"/>
                <a:ea typeface="Arial"/>
              </a:rPr>
              <a:t>Préambu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180800"/>
            <a:ext cx="777240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référentiel 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BEP ELEEC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ropose un contenu et une certification qui s’intègre complètement dans le référentiel du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BAC PRO ELEEC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obtention de ce diplôme de niveau V ne conditionne ni le passage en classe supérieure, ni l’inscription au baccalauréat professionn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organisation de la certification est à programmer en début de formation lors de l’écriture de la progression pédagog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progression prend appui sur les </a:t>
            </a:r>
            <a:r>
              <a:rPr b="0" lang="fr-FR" sz="2400" spc="-1" strike="noStrike">
                <a:solidFill>
                  <a:srgbClr val="99ff99"/>
                </a:solidFill>
                <a:latin typeface="Arial"/>
              </a:rPr>
              <a:t>84 semaines en lycé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T les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22 semaines en entrepris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ED40-68C8-4BE7-8184-E3626BBF1AF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u pied de page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Espace réservé du numéro de diapositive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2C8F2-3D57-4347-A416-3AC2A7E0EC1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itre 1"/>
          <p:cNvSpPr/>
          <p:nvPr/>
        </p:nvSpPr>
        <p:spPr>
          <a:xfrm>
            <a:off x="685800" y="0"/>
            <a:ext cx="7772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a6a6a6"/>
                </a:solidFill>
                <a:latin typeface="Arial"/>
                <a:ea typeface="Arial"/>
              </a:rPr>
              <a:t>Préambul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448320" y="2852640"/>
            <a:ext cx="1633680" cy="343404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rofondissement de mise en servi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rofondissement de mainten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figuration, réglage, paramétrage d’un ouvrage du champ d’applicatio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odification (réalisation) d’un ouvrage du champ d’applic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elation avec la clientè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689360" y="2852640"/>
            <a:ext cx="1633680" cy="343404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Approfondissement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s</a:t>
            </a: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réalisations 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(installations plus conséquentes)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Approfondissement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 mise en servic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Approfondissement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de maintenanc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Étud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Relation avec la clientèl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044720" y="2852640"/>
            <a:ext cx="1758960" cy="343404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Réalisation d’installations « de base » du domaine habitat/tertiaire et du domaine industrie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ise en servi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Mainten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éparation des réalisatio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928960" y="2852640"/>
            <a:ext cx="1635120" cy="3434040"/>
          </a:xfrm>
          <a:prstGeom prst="rect">
            <a:avLst/>
          </a:prstGeom>
          <a:gradFill rotWithShape="0">
            <a:gsLst>
              <a:gs pos="0">
                <a:srgbClr val="80ffff"/>
              </a:gs>
              <a:gs pos="100000">
                <a:srgbClr val="da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0000"/>
                </a:solidFill>
                <a:latin typeface="Arial"/>
              </a:rPr>
              <a:t>Approfondissement</a:t>
            </a: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 des réalisations 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(installations plus conséquentes)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Approfondissement de la préparation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ise en service fonctionnelle et normative d’installations électriques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Maintenance.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Étude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Group 7"/>
          <p:cNvGrpSpPr/>
          <p:nvPr/>
        </p:nvGrpSpPr>
        <p:grpSpPr>
          <a:xfrm>
            <a:off x="246240" y="692280"/>
            <a:ext cx="7835400" cy="1193760"/>
            <a:chOff x="246240" y="692280"/>
            <a:chExt cx="7835400" cy="1193760"/>
          </a:xfrm>
        </p:grpSpPr>
        <p:grpSp>
          <p:nvGrpSpPr>
            <p:cNvPr id="115" name="Group 8"/>
            <p:cNvGrpSpPr/>
            <p:nvPr/>
          </p:nvGrpSpPr>
          <p:grpSpPr>
            <a:xfrm>
              <a:off x="1044720" y="692280"/>
              <a:ext cx="7036920" cy="868680"/>
              <a:chOff x="1044720" y="692280"/>
              <a:chExt cx="7036920" cy="868680"/>
            </a:xfrm>
          </p:grpSpPr>
          <p:grpSp>
            <p:nvGrpSpPr>
              <p:cNvPr id="116" name="Group 9"/>
              <p:cNvGrpSpPr/>
              <p:nvPr/>
            </p:nvGrpSpPr>
            <p:grpSpPr>
              <a:xfrm>
                <a:off x="5819400" y="964080"/>
                <a:ext cx="2262240" cy="596880"/>
                <a:chOff x="5819400" y="964080"/>
                <a:chExt cx="2262240" cy="596880"/>
              </a:xfrm>
            </p:grpSpPr>
            <p:sp>
              <p:nvSpPr>
                <p:cNvPr id="117" name="Rectangle 10"/>
                <p:cNvSpPr/>
                <p:nvPr/>
              </p:nvSpPr>
              <p:spPr>
                <a:xfrm rot="5400000">
                  <a:off x="5899320" y="884520"/>
                  <a:ext cx="594720" cy="753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da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11"/>
                <p:cNvSpPr/>
                <p:nvPr/>
              </p:nvSpPr>
              <p:spPr>
                <a:xfrm rot="5400000">
                  <a:off x="6653160" y="884520"/>
                  <a:ext cx="594720" cy="753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da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12"/>
                <p:cNvSpPr/>
                <p:nvPr/>
              </p:nvSpPr>
              <p:spPr>
                <a:xfrm rot="5400000">
                  <a:off x="7407360" y="884520"/>
                  <a:ext cx="594720" cy="753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da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13"/>
                <p:cNvSpPr/>
                <p:nvPr/>
              </p:nvSpPr>
              <p:spPr>
                <a:xfrm rot="5400000">
                  <a:off x="6652080" y="131760"/>
                  <a:ext cx="596160" cy="2261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Group 14"/>
              <p:cNvGrpSpPr/>
              <p:nvPr/>
            </p:nvGrpSpPr>
            <p:grpSpPr>
              <a:xfrm>
                <a:off x="1044720" y="964080"/>
                <a:ext cx="2261520" cy="596880"/>
                <a:chOff x="1044720" y="964080"/>
                <a:chExt cx="2261520" cy="596880"/>
              </a:xfrm>
            </p:grpSpPr>
            <p:sp>
              <p:nvSpPr>
                <p:cNvPr id="122" name="Rectangle 15"/>
                <p:cNvSpPr/>
                <p:nvPr/>
              </p:nvSpPr>
              <p:spPr>
                <a:xfrm rot="5400000">
                  <a:off x="1124280" y="884520"/>
                  <a:ext cx="594720" cy="753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da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Rectangle 16"/>
                <p:cNvSpPr/>
                <p:nvPr/>
              </p:nvSpPr>
              <p:spPr>
                <a:xfrm rot="5400000">
                  <a:off x="1878120" y="884520"/>
                  <a:ext cx="594720" cy="753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da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Rectangle 17"/>
                <p:cNvSpPr/>
                <p:nvPr/>
              </p:nvSpPr>
              <p:spPr>
                <a:xfrm rot="5400000">
                  <a:off x="2631960" y="884520"/>
                  <a:ext cx="594720" cy="753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da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Rectangle 18"/>
                <p:cNvSpPr/>
                <p:nvPr/>
              </p:nvSpPr>
              <p:spPr>
                <a:xfrm rot="5400000">
                  <a:off x="1877400" y="131760"/>
                  <a:ext cx="596160" cy="2261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Group 19"/>
              <p:cNvGrpSpPr/>
              <p:nvPr/>
            </p:nvGrpSpPr>
            <p:grpSpPr>
              <a:xfrm>
                <a:off x="3431880" y="964080"/>
                <a:ext cx="2262240" cy="596880"/>
                <a:chOff x="3431880" y="964080"/>
                <a:chExt cx="2262240" cy="596880"/>
              </a:xfrm>
            </p:grpSpPr>
            <p:sp>
              <p:nvSpPr>
                <p:cNvPr id="127" name="Rectangle 20"/>
                <p:cNvSpPr/>
                <p:nvPr/>
              </p:nvSpPr>
              <p:spPr>
                <a:xfrm rot="5400000">
                  <a:off x="3511800" y="884520"/>
                  <a:ext cx="594720" cy="753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da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21"/>
                <p:cNvSpPr/>
                <p:nvPr/>
              </p:nvSpPr>
              <p:spPr>
                <a:xfrm rot="5400000">
                  <a:off x="4265640" y="884520"/>
                  <a:ext cx="594720" cy="753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da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22"/>
                <p:cNvSpPr/>
                <p:nvPr/>
              </p:nvSpPr>
              <p:spPr>
                <a:xfrm rot="5400000">
                  <a:off x="5019840" y="884520"/>
                  <a:ext cx="594720" cy="753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c000"/>
                    </a:gs>
                    <a:gs pos="100000">
                      <a:srgbClr val="da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Rectangle 23"/>
                <p:cNvSpPr/>
                <p:nvPr/>
              </p:nvSpPr>
              <p:spPr>
                <a:xfrm rot="5400000">
                  <a:off x="4264560" y="131760"/>
                  <a:ext cx="596160" cy="2261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rot="10800000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1" name="Rectangle 24"/>
              <p:cNvSpPr/>
              <p:nvPr/>
            </p:nvSpPr>
            <p:spPr>
              <a:xfrm>
                <a:off x="1672920" y="692280"/>
                <a:ext cx="113004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a6a6a6"/>
                    </a:solidFill>
                    <a:latin typeface="Arial"/>
                  </a:rPr>
                  <a:t>Second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Rectangle 25"/>
              <p:cNvSpPr/>
              <p:nvPr/>
            </p:nvSpPr>
            <p:spPr>
              <a:xfrm>
                <a:off x="6447960" y="692280"/>
                <a:ext cx="113004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a6a6a6"/>
                    </a:solidFill>
                    <a:latin typeface="Arial"/>
                  </a:rPr>
                  <a:t>Terminale 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26"/>
              <p:cNvSpPr/>
              <p:nvPr/>
            </p:nvSpPr>
            <p:spPr>
              <a:xfrm>
                <a:off x="4060440" y="692280"/>
                <a:ext cx="113004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a6a6a6"/>
                    </a:solidFill>
                    <a:latin typeface="Arial"/>
                  </a:rPr>
                  <a:t>Première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27"/>
            <p:cNvGrpSpPr/>
            <p:nvPr/>
          </p:nvGrpSpPr>
          <p:grpSpPr>
            <a:xfrm>
              <a:off x="246240" y="1647360"/>
              <a:ext cx="7333200" cy="238680"/>
              <a:chOff x="246240" y="1647360"/>
              <a:chExt cx="7333200" cy="238680"/>
            </a:xfrm>
          </p:grpSpPr>
          <p:sp>
            <p:nvSpPr>
              <p:cNvPr id="135" name="Rectangle 28"/>
              <p:cNvSpPr/>
              <p:nvPr/>
            </p:nvSpPr>
            <p:spPr>
              <a:xfrm>
                <a:off x="2928960" y="1680480"/>
                <a:ext cx="376920" cy="2055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ffffff"/>
                    </a:solidFill>
                    <a:latin typeface="Arial"/>
                  </a:rPr>
                  <a:t>6 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Rectangle 29"/>
              <p:cNvSpPr/>
              <p:nvPr/>
            </p:nvSpPr>
            <p:spPr>
              <a:xfrm>
                <a:off x="7328160" y="1680480"/>
                <a:ext cx="251280" cy="2055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ffffff"/>
                    </a:solidFill>
                    <a:latin typeface="Arial"/>
                  </a:rPr>
                  <a:t>4 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Rectangle 30"/>
              <p:cNvSpPr/>
              <p:nvPr/>
            </p:nvSpPr>
            <p:spPr>
              <a:xfrm>
                <a:off x="5191920" y="1680480"/>
                <a:ext cx="250920" cy="2055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ffffff"/>
                    </a:solidFill>
                    <a:latin typeface="Arial"/>
                  </a:rPr>
                  <a:t>4 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Rectangle 31"/>
              <p:cNvSpPr/>
              <p:nvPr/>
            </p:nvSpPr>
            <p:spPr>
              <a:xfrm>
                <a:off x="6322680" y="1680480"/>
                <a:ext cx="251280" cy="2055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ffffff"/>
                    </a:solidFill>
                    <a:latin typeface="Arial"/>
                  </a:rPr>
                  <a:t>4 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Rectangle 32"/>
              <p:cNvSpPr/>
              <p:nvPr/>
            </p:nvSpPr>
            <p:spPr>
              <a:xfrm>
                <a:off x="4437720" y="1680480"/>
                <a:ext cx="251280" cy="20556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100" spc="-1" strike="noStrike">
                    <a:solidFill>
                      <a:srgbClr val="ffffff"/>
                    </a:solidFill>
                    <a:latin typeface="Arial"/>
                  </a:rPr>
                  <a:t>4 S</a:t>
                </a:r>
                <a:endParaRPr b="0" lang="en-US" sz="11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Rectangle 33"/>
              <p:cNvSpPr/>
              <p:nvPr/>
            </p:nvSpPr>
            <p:spPr>
              <a:xfrm>
                <a:off x="246240" y="1647360"/>
                <a:ext cx="682560" cy="238680"/>
              </a:xfrm>
              <a:prstGeom prst="rect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ffffff"/>
                    </a:solidFill>
                    <a:latin typeface="Arial"/>
                  </a:rPr>
                  <a:t>PFMP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ZoneTexte 36"/>
          <p:cNvSpPr/>
          <p:nvPr/>
        </p:nvSpPr>
        <p:spPr>
          <a:xfrm>
            <a:off x="539640" y="1974960"/>
            <a:ext cx="813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 répartition des périodes de formation en milieu professionnel est donnée à titre indicati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38"/>
          <p:cNvSpPr/>
          <p:nvPr/>
        </p:nvSpPr>
        <p:spPr>
          <a:xfrm>
            <a:off x="745560" y="2400480"/>
            <a:ext cx="7471800" cy="30708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53753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 progression prend appui sur les </a:t>
            </a:r>
            <a:r>
              <a:rPr b="0" lang="fr-FR" sz="1400" spc="-1" strike="noStrike">
                <a:solidFill>
                  <a:srgbClr val="99ff99"/>
                </a:solidFill>
                <a:latin typeface="Arial"/>
              </a:rPr>
              <a:t>84 semaines en lycée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ET les </a:t>
            </a:r>
            <a:r>
              <a:rPr b="0" lang="fr-FR" sz="1400" spc="-1" strike="noStrike">
                <a:solidFill>
                  <a:srgbClr val="ffff66"/>
                </a:solidFill>
                <a:latin typeface="Arial"/>
              </a:rPr>
              <a:t>22 semaines en entreprise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a6a6a6"/>
                </a:solidFill>
                <a:latin typeface="Arial"/>
                <a:ea typeface="Arial"/>
              </a:rPr>
              <a:t>Préambu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progression pédagogique et « 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l’apprentissag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 » des fonctions prennent appui sur les supports du plateau technique. L’espace habitat tertiaire échelle 1 et les applications terminales sont utilisés dès le début de la formation afin de placer le jeune dans des </a:t>
            </a:r>
            <a:r>
              <a:rPr b="0" lang="fr-FR" sz="2400" spc="-1" strike="noStrike">
                <a:solidFill>
                  <a:srgbClr val="99ff99"/>
                </a:solidFill>
                <a:latin typeface="Arial"/>
              </a:rPr>
              <a:t>situations authentiqu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 diplôme du BEP ELEEC 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ne demande pas de complément de formation spécifiqu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 Il est certifié au cours du parcours pédagogique du BAC PRO ELEEC. Il certifiera un niveau d’exécutant électricie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9ff99"/>
                </a:solidFill>
                <a:latin typeface="Arial"/>
              </a:rPr>
              <a:t>fiche é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5236-684F-4842-A48D-798835E858D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3564000" y="5445000"/>
            <a:ext cx="647640" cy="43200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373" h="21600">
                <a:moveTo>
                  <a:pt x="0" y="0"/>
                </a:moveTo>
                <a:lnTo>
                  <a:pt x="32373" y="0"/>
                </a:lnTo>
                <a:lnTo>
                  <a:pt x="32373" y="21600"/>
                </a:lnTo>
                <a:lnTo>
                  <a:pt x="0" y="21600"/>
                </a:lnTo>
                <a:close/>
              </a:path>
              <a:path fill="lightenLess" w="32373" h="21600">
                <a:moveTo>
                  <a:pt x="0" y="0"/>
                </a:moveTo>
                <a:lnTo>
                  <a:pt x="32373" y="0"/>
                </a:lnTo>
                <a:lnTo>
                  <a:pt x="30973" y="1400"/>
                </a:lnTo>
                <a:lnTo>
                  <a:pt x="1400" y="1400"/>
                </a:lnTo>
                <a:close/>
              </a:path>
              <a:path fill="darken" w="32373" h="21600">
                <a:moveTo>
                  <a:pt x="32373" y="0"/>
                </a:moveTo>
                <a:lnTo>
                  <a:pt x="32373" y="21600"/>
                </a:lnTo>
                <a:lnTo>
                  <a:pt x="30973" y="20200"/>
                </a:lnTo>
                <a:lnTo>
                  <a:pt x="30973" y="1400"/>
                </a:lnTo>
                <a:close/>
              </a:path>
              <a:path fill="darkenLess" w="32373" h="21600">
                <a:moveTo>
                  <a:pt x="323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3" y="20200"/>
                </a:lnTo>
                <a:close/>
              </a:path>
              <a:path fill="lighten" w="323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3" h="21600">
                <a:moveTo>
                  <a:pt x="16187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32373" h="21600">
                <a:moveTo>
                  <a:pt x="16187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32373" h="21600">
                <a:moveTo>
                  <a:pt x="13610" y="8224"/>
                </a:moveTo>
                <a:lnTo>
                  <a:pt x="17475" y="8224"/>
                </a:lnTo>
                <a:lnTo>
                  <a:pt x="17475" y="15221"/>
                </a:lnTo>
                <a:lnTo>
                  <a:pt x="18763" y="15221"/>
                </a:lnTo>
                <a:lnTo>
                  <a:pt x="18763" y="16144"/>
                </a:lnTo>
                <a:lnTo>
                  <a:pt x="13610" y="16144"/>
                </a:lnTo>
                <a:lnTo>
                  <a:pt x="13610" y="15221"/>
                </a:lnTo>
                <a:lnTo>
                  <a:pt x="14898" y="15221"/>
                </a:lnTo>
                <a:lnTo>
                  <a:pt x="14898" y="9129"/>
                </a:lnTo>
                <a:lnTo>
                  <a:pt x="13610" y="9129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8:51:54Z</dcterms:created>
  <dc:creator>MICHEL</dc:creator>
  <dc:description/>
  <dc:language>en-US</dc:language>
  <cp:lastModifiedBy>MICHEL</cp:lastModifiedBy>
  <dcterms:modified xsi:type="dcterms:W3CDTF">2009-06-29T21:54:34Z</dcterms:modified>
  <cp:revision>3</cp:revision>
  <dc:subject/>
  <dc:title>Préambule</dc:title>
</cp:coreProperties>
</file>