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jpeg" ContentType="image/jpeg"/>
  <Override PartName="/ppt/media/image2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 baseline="8000">
                <a:solidFill>
                  <a:srgbClr val="000000"/>
                </a:solidFill>
                <a:latin typeface="Symbol Set SWA"/>
                <a:ea typeface="Symbol Set SW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B5B5-DB4A-4E48-8D08-1C085F423D75}" type="slidenum">
              <a:rPr b="0" lang="fr-FR" sz="1200" spc="-1" strike="noStrike" baseline="8000">
                <a:solidFill>
                  <a:srgbClr val="000000"/>
                </a:solidFill>
                <a:latin typeface="Symbol Set SWA"/>
                <a:ea typeface="Symbol Set SW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apositive « chevron » pour renseigner les différentes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ériodes minimum 3 sema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apositive « chevron » pour renseigner les différentes pa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D8E-B568-4F60-8B76-8B3E07C73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196-E63A-49F7-A6CC-669E49BE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10FA-CD0A-4752-A1AB-5B4D52566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5D9-0BC6-48DB-BA5A-B214BC29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E8AB-8C6F-47C6-B6B6-28298C5B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85A4D-B974-48E9-B7D5-168F2CA8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83773-03BB-47D2-8E81-52212783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D950-2717-42AA-9371-B7CA3FEF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71069-EC52-46DA-A978-D5ED3343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01E0-E67D-4857-9FEA-57EDE09B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300F-04B3-48C8-BC79-74377A3F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5FF-85A9-4E70-9CB2-8CD4748A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3FB8D-66EC-4726-BB7F-F96CFA6A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C773-25EE-4ACA-8F1A-06036028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E6A2-A492-4361-BA77-C9A31544B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25DC-CEFF-4484-995E-B1696CED8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34A9-167A-44D5-9F25-3E52DEBF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F78-0E4F-4F9B-B9B8-599E52ED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0A0-27AB-429D-A324-2A7F0AA2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384B-8747-44DA-864F-A9839FDC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39CA-CB24-48B2-BBA5-2457FF67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BC16-30DB-42BF-BBD5-0EA00F91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727-B0CB-4D0F-9A63-87D8ED6AA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09B8-2248-4916-A9F4-7AB92F2A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4457-AA19-4709-A3C6-915F40FB204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3A70-8832-4EB6-AE75-0A600231EE0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image" Target="../media/image19.wmf"/><Relationship Id="rId10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4.wmf"/><Relationship Id="rId1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AD202-A920-4FED-9C75-075432BACDF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Picture 16" descr="damier2"/>
          <p:cNvPicPr/>
          <p:nvPr/>
        </p:nvPicPr>
        <p:blipFill>
          <a:blip r:embed="rId1"/>
          <a:stretch/>
        </p:blipFill>
        <p:spPr>
          <a:xfrm>
            <a:off x="1981080" y="3390840"/>
            <a:ext cx="5257800" cy="2819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3886200" y="10666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 Black"/>
              </a:rPr>
              <a:t>DU BACCALAUREAT PROFESSIONN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9" name="Picture 17" descr="DOUTE"/>
          <p:cNvPicPr/>
          <p:nvPr/>
        </p:nvPicPr>
        <p:blipFill>
          <a:blip r:embed="rId2"/>
          <a:stretch/>
        </p:blipFill>
        <p:spPr>
          <a:xfrm>
            <a:off x="6381720" y="4800600"/>
            <a:ext cx="628560" cy="15238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8"/>
          <p:cNvSpPr/>
          <p:nvPr/>
        </p:nvSpPr>
        <p:spPr>
          <a:xfrm>
            <a:off x="0" y="1768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Él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ectrotechnique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 É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nergie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 É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quipements </a:t>
            </a:r>
            <a:r>
              <a:rPr b="0" lang="fr-FR" sz="4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fr-FR" sz="2000" spc="-1" strike="noStrike">
                <a:solidFill>
                  <a:srgbClr val="ffff00"/>
                </a:solidFill>
                <a:latin typeface="Arial"/>
              </a:rPr>
              <a:t>ommunicants</a:t>
            </a:r>
            <a:r>
              <a:rPr b="0" lang="fr-FR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ff0000"/>
                </a:solidFill>
                <a:latin typeface="Bernard MT Condensed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WordArt 20"/>
          <p:cNvSpPr txBox="1"/>
          <p:nvPr/>
        </p:nvSpPr>
        <p:spPr>
          <a:xfrm>
            <a:off x="0" y="304920"/>
            <a:ext cx="112204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Les périodes de formation en milieu professionnel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E6CF-66E2-46BA-BCC3-6D1B06A3BCF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66"/>
                </a:solidFill>
                <a:latin typeface="Arial"/>
              </a:rPr>
              <a:t>Rassemblement d’éléments à prendre en compte pour évaluer le travai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62" name="Object 14"/>
          <p:cNvGraphicFramePr/>
          <p:nvPr/>
        </p:nvGraphicFramePr>
        <p:xfrm>
          <a:off x="304920" y="1413000"/>
          <a:ext cx="3133440" cy="30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13000"/>
                    <a:ext cx="31334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15"/>
          <p:cNvSpPr/>
          <p:nvPr/>
        </p:nvSpPr>
        <p:spPr>
          <a:xfrm>
            <a:off x="4343400" y="22096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Swis721 Blk BT"/>
              </a:rPr>
              <a:t>Traçabilité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657600" y="3505320"/>
            <a:ext cx="464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Ce carnet non évalué est laissé à l’initiative de chaque centr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AutoShape 17"/>
          <p:cNvSpPr/>
          <p:nvPr/>
        </p:nvSpPr>
        <p:spPr>
          <a:xfrm rot="3073800">
            <a:off x="6628320" y="1405800"/>
            <a:ext cx="533160" cy="957240"/>
          </a:xfrm>
          <a:prstGeom prst="downArrow">
            <a:avLst>
              <a:gd name="adj1" fmla="val 50000"/>
              <a:gd name="adj2" fmla="val 44885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8388360" y="3716280"/>
            <a:ext cx="457200" cy="4730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73040"/>
              <a:gd name="textAreaBottom" fmla="*/ 443520 h 473040"/>
            </a:gdLst>
            <a:ahLst/>
            <a:rect l="textAreaLeft" t="textAreaTop" r="textAreaRight" b="textAreaBottom"/>
            <a:pathLst>
              <a:path w="21600" h="22348">
                <a:moveTo>
                  <a:pt x="0" y="0"/>
                </a:moveTo>
                <a:lnTo>
                  <a:pt x="21600" y="0"/>
                </a:lnTo>
                <a:lnTo>
                  <a:pt x="21600" y="22348"/>
                </a:lnTo>
                <a:lnTo>
                  <a:pt x="0" y="22348"/>
                </a:lnTo>
                <a:close/>
              </a:path>
              <a:path fill="lightenLess" w="21600" h="223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348">
                <a:moveTo>
                  <a:pt x="21600" y="0"/>
                </a:moveTo>
                <a:lnTo>
                  <a:pt x="21600" y="22348"/>
                </a:lnTo>
                <a:lnTo>
                  <a:pt x="20200" y="20948"/>
                </a:lnTo>
                <a:lnTo>
                  <a:pt x="20200" y="1400"/>
                </a:lnTo>
                <a:close/>
              </a:path>
              <a:path fill="darkenLess" w="21600" h="22348">
                <a:moveTo>
                  <a:pt x="21600" y="22348"/>
                </a:moveTo>
                <a:lnTo>
                  <a:pt x="0" y="22348"/>
                </a:lnTo>
                <a:lnTo>
                  <a:pt x="1400" y="20948"/>
                </a:lnTo>
                <a:lnTo>
                  <a:pt x="20200" y="20948"/>
                </a:lnTo>
                <a:close/>
              </a:path>
              <a:path fill="lighten" w="21600" h="22348">
                <a:moveTo>
                  <a:pt x="0" y="223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948"/>
                </a:lnTo>
                <a:close/>
              </a:path>
              <a:path fill="darken" w="21600" h="22348">
                <a:moveTo>
                  <a:pt x="10800" y="4167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348">
                <a:moveTo>
                  <a:pt x="10800" y="4542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348">
                <a:moveTo>
                  <a:pt x="8224" y="8598"/>
                </a:moveTo>
                <a:lnTo>
                  <a:pt x="12088" y="8598"/>
                </a:lnTo>
                <a:lnTo>
                  <a:pt x="12088" y="15595"/>
                </a:lnTo>
                <a:lnTo>
                  <a:pt x="13376" y="15595"/>
                </a:lnTo>
                <a:lnTo>
                  <a:pt x="13376" y="16518"/>
                </a:lnTo>
                <a:lnTo>
                  <a:pt x="8224" y="16518"/>
                </a:lnTo>
                <a:lnTo>
                  <a:pt x="8224" y="15595"/>
                </a:lnTo>
                <a:lnTo>
                  <a:pt x="9512" y="15595"/>
                </a:lnTo>
                <a:lnTo>
                  <a:pt x="9512" y="9503"/>
                </a:lnTo>
                <a:lnTo>
                  <a:pt x="8224" y="9503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EEC8-A80B-4194-A31B-09F37A4E4AD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Swis721 Blk BT"/>
              </a:rPr>
              <a:t>Le livret de suivi 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71" name="Object 19"/>
          <p:cNvGraphicFramePr/>
          <p:nvPr/>
        </p:nvGraphicFramePr>
        <p:xfrm>
          <a:off x="685800" y="1405080"/>
          <a:ext cx="3287880" cy="30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05080"/>
                    <a:ext cx="3287880" cy="30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Text Box 24"/>
          <p:cNvSpPr/>
          <p:nvPr/>
        </p:nvSpPr>
        <p:spPr>
          <a:xfrm>
            <a:off x="3973680" y="1158840"/>
            <a:ext cx="5170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Le suivi est effectué par l’ensemble de l’équipe enseignant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Rectangle 26"/>
          <p:cNvSpPr/>
          <p:nvPr/>
        </p:nvSpPr>
        <p:spPr>
          <a:xfrm>
            <a:off x="3848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5" name="Picture 25" descr="évaluation"/>
          <p:cNvPicPr/>
          <p:nvPr/>
        </p:nvPicPr>
        <p:blipFill>
          <a:blip r:embed="rId3"/>
          <a:stretch/>
        </p:blipFill>
        <p:spPr>
          <a:xfrm>
            <a:off x="4572000" y="1463760"/>
            <a:ext cx="3048120" cy="150336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7"/>
          <p:cNvSpPr/>
          <p:nvPr/>
        </p:nvSpPr>
        <p:spPr>
          <a:xfrm>
            <a:off x="4343400" y="3429000"/>
            <a:ext cx="449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L’évaluation du candidat est effectuée par le tuteur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09572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78" name="Picture 28" descr="tuteur-stagiaire"/>
          <p:cNvPicPr/>
          <p:nvPr/>
        </p:nvPicPr>
        <p:blipFill>
          <a:blip r:embed="rId4"/>
          <a:stretch/>
        </p:blipFill>
        <p:spPr>
          <a:xfrm>
            <a:off x="5410080" y="4038480"/>
            <a:ext cx="1981440" cy="17431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30"/>
          <p:cNvSpPr/>
          <p:nvPr/>
        </p:nvSpPr>
        <p:spPr>
          <a:xfrm>
            <a:off x="685800" y="4862520"/>
            <a:ext cx="340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Comic Sans MS"/>
              </a:rPr>
              <a:t>La note est établie conjointement par le tuteur et le professeur d’enseignement professionnel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AutoShape 31"/>
          <p:cNvSpPr/>
          <p:nvPr/>
        </p:nvSpPr>
        <p:spPr>
          <a:xfrm>
            <a:off x="4419720" y="2924280"/>
            <a:ext cx="380880" cy="357120"/>
          </a:xfrm>
          <a:custGeom>
            <a:avLst/>
            <a:gdLst>
              <a:gd name="textAreaLeft" fmla="*/ 23040 w 380880"/>
              <a:gd name="textAreaRight" fmla="*/ 357840 w 3808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23036" h="21600">
                <a:moveTo>
                  <a:pt x="0" y="0"/>
                </a:moveTo>
                <a:lnTo>
                  <a:pt x="23036" y="0"/>
                </a:lnTo>
                <a:lnTo>
                  <a:pt x="23036" y="21600"/>
                </a:lnTo>
                <a:lnTo>
                  <a:pt x="0" y="21600"/>
                </a:lnTo>
                <a:close/>
              </a:path>
              <a:path fill="lightenLess" w="23036" h="21600">
                <a:moveTo>
                  <a:pt x="0" y="0"/>
                </a:moveTo>
                <a:lnTo>
                  <a:pt x="23036" y="0"/>
                </a:lnTo>
                <a:lnTo>
                  <a:pt x="21636" y="1400"/>
                </a:lnTo>
                <a:lnTo>
                  <a:pt x="1400" y="1400"/>
                </a:lnTo>
                <a:close/>
              </a:path>
              <a:path fill="darken" w="23036" h="21600">
                <a:moveTo>
                  <a:pt x="23036" y="0"/>
                </a:moveTo>
                <a:lnTo>
                  <a:pt x="23036" y="21600"/>
                </a:lnTo>
                <a:lnTo>
                  <a:pt x="21636" y="20200"/>
                </a:lnTo>
                <a:lnTo>
                  <a:pt x="21636" y="1400"/>
                </a:lnTo>
                <a:close/>
              </a:path>
              <a:path fill="darkenLess" w="23036" h="21600">
                <a:moveTo>
                  <a:pt x="23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6" y="20200"/>
                </a:lnTo>
                <a:close/>
              </a:path>
              <a:path fill="lighten" w="23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6" h="21600">
                <a:moveTo>
                  <a:pt x="11518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036" h="21600">
                <a:moveTo>
                  <a:pt x="11518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036" h="21600">
                <a:moveTo>
                  <a:pt x="8942" y="8224"/>
                </a:moveTo>
                <a:lnTo>
                  <a:pt x="12806" y="8224"/>
                </a:lnTo>
                <a:lnTo>
                  <a:pt x="12806" y="15221"/>
                </a:lnTo>
                <a:lnTo>
                  <a:pt x="14094" y="15221"/>
                </a:lnTo>
                <a:lnTo>
                  <a:pt x="14094" y="16144"/>
                </a:lnTo>
                <a:lnTo>
                  <a:pt x="8942" y="16144"/>
                </a:lnTo>
                <a:lnTo>
                  <a:pt x="8942" y="15221"/>
                </a:lnTo>
                <a:lnTo>
                  <a:pt x="10230" y="15221"/>
                </a:lnTo>
                <a:lnTo>
                  <a:pt x="10230" y="9129"/>
                </a:lnTo>
                <a:lnTo>
                  <a:pt x="8942" y="9129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AutoShape 32"/>
          <p:cNvSpPr/>
          <p:nvPr/>
        </p:nvSpPr>
        <p:spPr>
          <a:xfrm>
            <a:off x="4478400" y="5126040"/>
            <a:ext cx="380880" cy="3906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90600"/>
              <a:gd name="textAreaBottom" fmla="*/ 366120 h 390600"/>
            </a:gdLst>
            <a:ahLst/>
            <a:rect l="textAreaLeft" t="textAreaTop" r="textAreaRight" b="textAreaBottom"/>
            <a:pathLst>
              <a:path w="21600" h="22151">
                <a:moveTo>
                  <a:pt x="0" y="0"/>
                </a:moveTo>
                <a:lnTo>
                  <a:pt x="21600" y="0"/>
                </a:lnTo>
                <a:lnTo>
                  <a:pt x="21600" y="22151"/>
                </a:lnTo>
                <a:lnTo>
                  <a:pt x="0" y="22151"/>
                </a:lnTo>
                <a:close/>
              </a:path>
              <a:path fill="lightenLess" w="21600" h="221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51">
                <a:moveTo>
                  <a:pt x="21600" y="0"/>
                </a:moveTo>
                <a:lnTo>
                  <a:pt x="21600" y="22151"/>
                </a:lnTo>
                <a:lnTo>
                  <a:pt x="20200" y="20751"/>
                </a:lnTo>
                <a:lnTo>
                  <a:pt x="20200" y="1400"/>
                </a:lnTo>
                <a:close/>
              </a:path>
              <a:path fill="darkenLess" w="21600" h="22151">
                <a:moveTo>
                  <a:pt x="21600" y="22151"/>
                </a:moveTo>
                <a:lnTo>
                  <a:pt x="0" y="22151"/>
                </a:lnTo>
                <a:lnTo>
                  <a:pt x="1400" y="20751"/>
                </a:lnTo>
                <a:lnTo>
                  <a:pt x="20200" y="20751"/>
                </a:lnTo>
                <a:close/>
              </a:path>
              <a:path fill="lighten" w="21600" h="22151">
                <a:moveTo>
                  <a:pt x="0" y="221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51"/>
                </a:lnTo>
                <a:close/>
              </a:path>
              <a:path fill="darken" w="21600" h="22151">
                <a:moveTo>
                  <a:pt x="10800" y="406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151">
                <a:moveTo>
                  <a:pt x="10800" y="444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151">
                <a:moveTo>
                  <a:pt x="8224" y="8499"/>
                </a:moveTo>
                <a:lnTo>
                  <a:pt x="12088" y="8499"/>
                </a:lnTo>
                <a:lnTo>
                  <a:pt x="12088" y="15497"/>
                </a:lnTo>
                <a:lnTo>
                  <a:pt x="13376" y="15497"/>
                </a:lnTo>
                <a:lnTo>
                  <a:pt x="13376" y="16419"/>
                </a:lnTo>
                <a:lnTo>
                  <a:pt x="8224" y="16419"/>
                </a:lnTo>
                <a:lnTo>
                  <a:pt x="8224" y="15497"/>
                </a:lnTo>
                <a:lnTo>
                  <a:pt x="9512" y="15497"/>
                </a:lnTo>
                <a:lnTo>
                  <a:pt x="9512" y="9404"/>
                </a:lnTo>
                <a:lnTo>
                  <a:pt x="8224" y="9404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08A0-401E-4C77-A017-EA41571717AF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Le dossier de synthèse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3124080" y="1523880"/>
            <a:ext cx="26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cc00"/>
                </a:solidFill>
                <a:latin typeface="Comic Sans MS"/>
              </a:rPr>
              <a:t>Préalabl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304920" y="220968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Formation spécifique à la constitution de ce dossier par les enseignants de français, de l’enseignement professionnel et d’économie gest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04920" y="34290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Un temps, en établissement de formation et en fin de cursus, pourra être consacré à la seule mise en forme du dossier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4EFD-5834-469E-ABCD-73BC2850252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Constitution du dossier de synthès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91" name="Object 7"/>
          <p:cNvGraphicFramePr/>
          <p:nvPr/>
        </p:nvGraphicFramePr>
        <p:xfrm>
          <a:off x="838080" y="1728720"/>
          <a:ext cx="2108160" cy="375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28720"/>
                    <a:ext cx="21081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8"/>
          <p:cNvGraphicFramePr/>
          <p:nvPr/>
        </p:nvGraphicFramePr>
        <p:xfrm>
          <a:off x="3352680" y="1066680"/>
          <a:ext cx="1581120" cy="2819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066680"/>
                    <a:ext cx="15811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4933800" y="2209680"/>
          <a:ext cx="1538280" cy="274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33800" y="2209680"/>
                    <a:ext cx="15382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C29A-17CE-4F71-8074-1A8C9D3F176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Les quatre activités remarquables et significatives du métier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00" name="Object 6"/>
          <p:cNvGraphicFramePr/>
          <p:nvPr/>
        </p:nvGraphicFramePr>
        <p:xfrm>
          <a:off x="1752480" y="1792440"/>
          <a:ext cx="1274760" cy="16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92440"/>
                    <a:ext cx="1274760" cy="16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7"/>
          <p:cNvGraphicFramePr/>
          <p:nvPr/>
        </p:nvGraphicFramePr>
        <p:xfrm>
          <a:off x="496800" y="1461960"/>
          <a:ext cx="1103400" cy="19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800" y="1461960"/>
                    <a:ext cx="110340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Text Box 8"/>
          <p:cNvSpPr/>
          <p:nvPr/>
        </p:nvSpPr>
        <p:spPr>
          <a:xfrm>
            <a:off x="3027240" y="1263600"/>
            <a:ext cx="594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00"/>
                </a:solidFill>
                <a:latin typeface="Copperplate Gothic Light"/>
              </a:rPr>
              <a:t>Le candidat effectue 4 compte rendu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Text Box 9"/>
          <p:cNvSpPr/>
          <p:nvPr/>
        </p:nvSpPr>
        <p:spPr>
          <a:xfrm>
            <a:off x="3200400" y="1792440"/>
            <a:ext cx="577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cc66"/>
                </a:solidFill>
                <a:latin typeface="Comic Sans MS"/>
              </a:rPr>
              <a:t>Chaque compte rendu fait état d’une activité intéressante à relater sur la pratique du métier d’électricien par le candid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3352680" y="3276720"/>
            <a:ext cx="56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9900"/>
                </a:solidFill>
                <a:latin typeface="Comic Sans MS"/>
              </a:rPr>
              <a:t>Le compte rendu doit faire apparaître 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7" name="Text Box 13"/>
          <p:cNvSpPr/>
          <p:nvPr/>
        </p:nvSpPr>
        <p:spPr>
          <a:xfrm>
            <a:off x="3352680" y="3887640"/>
            <a:ext cx="5618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Lucida Sans"/>
              </a:rPr>
              <a:t>Pourquoi</a:t>
            </a:r>
            <a:r>
              <a:rPr b="1" lang="fr-FR" sz="1400" spc="-1" strike="noStrike">
                <a:solidFill>
                  <a:srgbClr val="ff0000"/>
                </a:solidFill>
                <a:latin typeface="Lucida Sans"/>
              </a:rPr>
              <a:t> </a:t>
            </a:r>
            <a:r>
              <a:rPr b="1" lang="fr-FR" sz="1400" spc="-1" strike="noStrike">
                <a:solidFill>
                  <a:srgbClr val="ffffff"/>
                </a:solidFill>
                <a:latin typeface="Lucida Sans"/>
              </a:rPr>
              <a:t>l’activité est jugée intéressante et significative du métier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3352680" y="4572000"/>
            <a:ext cx="441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00"/>
                </a:solidFill>
                <a:latin typeface="Lucida Sans"/>
              </a:rPr>
              <a:t>Comment </a:t>
            </a:r>
            <a:r>
              <a:rPr b="1" lang="fr-FR" sz="1400" spc="-1" strike="noStrike">
                <a:solidFill>
                  <a:srgbClr val="ffffff"/>
                </a:solidFill>
                <a:latin typeface="Lucida Sans"/>
              </a:rPr>
              <a:t>cette activité a été menée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Text Box 16"/>
          <p:cNvSpPr/>
          <p:nvPr/>
        </p:nvSpPr>
        <p:spPr>
          <a:xfrm>
            <a:off x="1219320" y="5197320"/>
            <a:ext cx="754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omic Sans MS"/>
              </a:rPr>
              <a:t>Cependant ce n’est qu’une simple narration des faits vécu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7394-F783-4F0C-A1B4-F26546EF7F26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L’étude de cas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13" name="Object 6"/>
          <p:cNvGraphicFramePr/>
          <p:nvPr/>
        </p:nvGraphicFramePr>
        <p:xfrm>
          <a:off x="496800" y="934920"/>
          <a:ext cx="110340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934920"/>
                    <a:ext cx="110340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1828800" y="1422360"/>
          <a:ext cx="119844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422360"/>
                    <a:ext cx="119844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8"/>
          <p:cNvSpPr/>
          <p:nvPr/>
        </p:nvSpPr>
        <p:spPr>
          <a:xfrm>
            <a:off x="3429000" y="125424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Est un approfondissement d’une des quatre activités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3429000" y="290196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Est basée et élaborée sous forme de problématique* à résoudr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Text Box 13"/>
          <p:cNvSpPr/>
          <p:nvPr/>
        </p:nvSpPr>
        <p:spPr>
          <a:xfrm>
            <a:off x="0" y="59436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cc66"/>
                </a:solidFill>
                <a:latin typeface="Arial"/>
              </a:rPr>
              <a:t>*Ou « situation problème » avec le mot problème pris dans son acception la plus large et relatif à une démarche de projet</a:t>
            </a: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Text Box 14"/>
          <p:cNvSpPr/>
          <p:nvPr/>
        </p:nvSpPr>
        <p:spPr>
          <a:xfrm>
            <a:off x="3429000" y="1895400"/>
            <a:ext cx="563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Complétera l’activité choisie (ou initiée par le tuteur) par l’apport d’éléments techniques et argumentaires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Text Box 15"/>
          <p:cNvSpPr/>
          <p:nvPr/>
        </p:nvSpPr>
        <p:spPr>
          <a:xfrm>
            <a:off x="3429000" y="358128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A pour finalité d’élaborer un plan d’action et une solution argumentée concernant la construction, modification ou maintenance de type curatif d’un ouvr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2" name="Text Box 16"/>
          <p:cNvSpPr/>
          <p:nvPr/>
        </p:nvSpPr>
        <p:spPr>
          <a:xfrm>
            <a:off x="3429000" y="4924440"/>
            <a:ext cx="53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Permet de présenter cette solution parmi plusieurs dont les aspects et les implications seront explicités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685800" y="3581280"/>
            <a:ext cx="17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omic Sans MS"/>
              </a:rPr>
              <a:t>Rester dans la limite de complexité se référant aux niveaux taxonomiques définis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082AD-321D-48D1-B2AA-DAF09029FDD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la présentation oral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27" name="Picture 6" descr="ORAL"/>
          <p:cNvPicPr/>
          <p:nvPr/>
        </p:nvPicPr>
        <p:blipFill>
          <a:blip r:embed="rId1"/>
          <a:stretch/>
        </p:blipFill>
        <p:spPr>
          <a:xfrm>
            <a:off x="5415120" y="1295280"/>
            <a:ext cx="3190680" cy="153540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1409760" y="2830680"/>
            <a:ext cx="40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66"/>
                </a:solidFill>
                <a:latin typeface="Comic Sans MS"/>
              </a:rPr>
              <a:t>L’évaluation comporte deux phases 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262080" y="3197160"/>
            <a:ext cx="87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cc66"/>
                </a:solidFill>
                <a:latin typeface="Comic Sans MS"/>
              </a:rPr>
              <a:t>Le candidat effectue un oral de présentation des travaux effectués à l’aide de supports de présentation adaptés qui sera limité à 10 mn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262080" y="3838680"/>
            <a:ext cx="88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cc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cc66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cc66"/>
                </a:solidFill>
                <a:latin typeface="Comic Sans MS"/>
              </a:rPr>
              <a:t>Les examinateurs de la commission s’entretiennent avec le candidat sur certains points jugés importants ou à approfondir sur une durée limitée à 10 mn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228600" y="100476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Des séquences d’enseignement préparatoires à cette épreuve sont à prévoir (savoir S7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2" name="Text Box 13"/>
          <p:cNvSpPr/>
          <p:nvPr/>
        </p:nvSpPr>
        <p:spPr>
          <a:xfrm>
            <a:off x="228600" y="1646280"/>
            <a:ext cx="51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Comic Sans MS"/>
              </a:rPr>
              <a:t>Un temps pourra être consacré à la création d’outils de communication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228600" y="46944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Comic Sans MS"/>
              </a:rPr>
              <a:t>L’évaluation ne porte que sur la forme de la présentation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4" name="Text Box 15"/>
          <p:cNvSpPr/>
          <p:nvPr/>
        </p:nvSpPr>
        <p:spPr>
          <a:xfrm>
            <a:off x="228600" y="5060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ffff00"/>
                </a:solidFill>
                <a:latin typeface="Comic Sans MS"/>
              </a:rPr>
              <a:t>Les questions des examinateurs ne concernent que les activités abordées dans le dossier de synthèse mis à leur disposition 8 jours avant l’évaluation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5" name="AutoShape 17"/>
          <p:cNvSpPr/>
          <p:nvPr/>
        </p:nvSpPr>
        <p:spPr>
          <a:xfrm>
            <a:off x="7162920" y="5791320"/>
            <a:ext cx="380880" cy="4395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39560"/>
              <a:gd name="textAreaBottom" fmla="*/ 415080 h 439560"/>
            </a:gdLst>
            <a:ahLst/>
            <a:rect l="textAreaLeft" t="textAreaTop" r="textAreaRight" b="textAreaBottom"/>
            <a:pathLst>
              <a:path w="21600" h="24925">
                <a:moveTo>
                  <a:pt x="0" y="0"/>
                </a:moveTo>
                <a:lnTo>
                  <a:pt x="21600" y="0"/>
                </a:lnTo>
                <a:lnTo>
                  <a:pt x="21600" y="24925"/>
                </a:lnTo>
                <a:lnTo>
                  <a:pt x="0" y="24925"/>
                </a:lnTo>
                <a:close/>
              </a:path>
              <a:path fill="lightenLess" w="21600" h="2492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25">
                <a:moveTo>
                  <a:pt x="21600" y="0"/>
                </a:moveTo>
                <a:lnTo>
                  <a:pt x="21600" y="24925"/>
                </a:lnTo>
                <a:lnTo>
                  <a:pt x="20200" y="23525"/>
                </a:lnTo>
                <a:lnTo>
                  <a:pt x="20200" y="1400"/>
                </a:lnTo>
                <a:close/>
              </a:path>
              <a:path fill="darkenLess" w="21600" h="24925">
                <a:moveTo>
                  <a:pt x="21600" y="24925"/>
                </a:moveTo>
                <a:lnTo>
                  <a:pt x="0" y="24925"/>
                </a:lnTo>
                <a:lnTo>
                  <a:pt x="1400" y="23525"/>
                </a:lnTo>
                <a:lnTo>
                  <a:pt x="20200" y="23525"/>
                </a:lnTo>
                <a:close/>
              </a:path>
              <a:path fill="lighten" w="21600" h="24925">
                <a:moveTo>
                  <a:pt x="0" y="24925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25"/>
                </a:lnTo>
                <a:close/>
              </a:path>
              <a:path fill="darken" w="21600" h="24925">
                <a:moveTo>
                  <a:pt x="10800" y="5456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4925">
                <a:moveTo>
                  <a:pt x="10800" y="5830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4925">
                <a:moveTo>
                  <a:pt x="8224" y="9886"/>
                </a:moveTo>
                <a:lnTo>
                  <a:pt x="12088" y="9886"/>
                </a:lnTo>
                <a:lnTo>
                  <a:pt x="12088" y="16884"/>
                </a:lnTo>
                <a:lnTo>
                  <a:pt x="13376" y="16884"/>
                </a:lnTo>
                <a:lnTo>
                  <a:pt x="13376" y="17806"/>
                </a:lnTo>
                <a:lnTo>
                  <a:pt x="8224" y="17806"/>
                </a:lnTo>
                <a:lnTo>
                  <a:pt x="8224" y="16884"/>
                </a:lnTo>
                <a:lnTo>
                  <a:pt x="9512" y="16884"/>
                </a:lnTo>
                <a:lnTo>
                  <a:pt x="9512" y="10791"/>
                </a:lnTo>
                <a:lnTo>
                  <a:pt x="8224" y="10791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D99C-A266-4376-9D1C-58DBC5A013C1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les livrets de not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39" name="Object 6"/>
          <p:cNvGraphicFramePr/>
          <p:nvPr/>
        </p:nvGraphicFramePr>
        <p:xfrm>
          <a:off x="192240" y="1106640"/>
          <a:ext cx="1103040" cy="19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" y="1106640"/>
                    <a:ext cx="110304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7"/>
          <p:cNvGraphicFramePr/>
          <p:nvPr/>
        </p:nvGraphicFramePr>
        <p:xfrm>
          <a:off x="1295280" y="1106640"/>
          <a:ext cx="1128960" cy="138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106640"/>
                    <a:ext cx="1128960" cy="13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Object 8"/>
          <p:cNvGraphicFramePr/>
          <p:nvPr/>
        </p:nvGraphicFramePr>
        <p:xfrm>
          <a:off x="2344680" y="4592520"/>
          <a:ext cx="1103400" cy="196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4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44680" y="4592520"/>
                    <a:ext cx="110340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Object 9"/>
          <p:cNvGraphicFramePr/>
          <p:nvPr/>
        </p:nvGraphicFramePr>
        <p:xfrm>
          <a:off x="3654360" y="4592520"/>
          <a:ext cx="1069920" cy="130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4360" y="4592520"/>
                    <a:ext cx="106992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Text Box 10"/>
          <p:cNvSpPr/>
          <p:nvPr/>
        </p:nvSpPr>
        <p:spPr>
          <a:xfrm>
            <a:off x="2424240" y="1106640"/>
            <a:ext cx="67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Ce livret recueille les différentes notations relatives aux évaluations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3009960" y="1442880"/>
            <a:ext cx="52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- des situations de travail en entreprise (coef 1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3009960" y="1812960"/>
            <a:ext cx="5829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- de l’exposé et l’entretien évalué par la commission des évaluateurs (coef 0,5 (dont l’éco-gestion)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50" name="Picture 13" descr="JURY"/>
          <p:cNvPicPr/>
          <p:nvPr/>
        </p:nvPicPr>
        <p:blipFill>
          <a:blip r:embed="rId9"/>
          <a:stretch/>
        </p:blipFill>
        <p:spPr>
          <a:xfrm>
            <a:off x="1700280" y="2490840"/>
            <a:ext cx="2147760" cy="12999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5"/>
          <p:cNvSpPr/>
          <p:nvPr/>
        </p:nvSpPr>
        <p:spPr>
          <a:xfrm>
            <a:off x="4267080" y="2819520"/>
            <a:ext cx="457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- de la notation du dossier de synthèse évalué par la commission des évaluateurs (coef 1 (dont l’éco-gestion)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5105520" y="43876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Résultat de ces notations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3" name="AutoShape 18"/>
          <p:cNvSpPr/>
          <p:nvPr/>
        </p:nvSpPr>
        <p:spPr>
          <a:xfrm rot="10800000">
            <a:off x="4858920" y="4724280"/>
            <a:ext cx="1559160" cy="990720"/>
          </a:xfrm>
          <a:custGeom>
            <a:avLst/>
            <a:gdLst>
              <a:gd name="textAreaLeft" fmla="*/ 897120 w 1559160"/>
              <a:gd name="textAreaRight" fmla="*/ 1458360 w 1559160"/>
              <a:gd name="textAreaTop" fmla="*/ 203040 h 990720"/>
              <a:gd name="textAreaBottom" fmla="*/ 35424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6437" y="0"/>
                </a:lnTo>
                <a:lnTo>
                  <a:pt x="16437" y="4431"/>
                </a:lnTo>
                <a:lnTo>
                  <a:pt x="12427" y="4431"/>
                </a:lnTo>
                <a:cubicBezTo>
                  <a:pt x="5564" y="4431"/>
                  <a:pt x="0" y="7890"/>
                  <a:pt x="0" y="12158"/>
                </a:cubicBezTo>
                <a:lnTo>
                  <a:pt x="0" y="21600"/>
                </a:lnTo>
                <a:lnTo>
                  <a:pt x="3369" y="21600"/>
                </a:lnTo>
                <a:lnTo>
                  <a:pt x="3369" y="12158"/>
                </a:lnTo>
                <a:cubicBezTo>
                  <a:pt x="3369" y="9711"/>
                  <a:pt x="7424" y="7727"/>
                  <a:pt x="12427" y="7727"/>
                </a:cubicBezTo>
                <a:lnTo>
                  <a:pt x="16437" y="7727"/>
                </a:lnTo>
                <a:lnTo>
                  <a:pt x="16437" y="12158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4" name="AutoShape 19"/>
          <p:cNvSpPr/>
          <p:nvPr/>
        </p:nvSpPr>
        <p:spPr>
          <a:xfrm>
            <a:off x="8434440" y="3216240"/>
            <a:ext cx="404640" cy="425520"/>
          </a:xfrm>
          <a:custGeom>
            <a:avLst/>
            <a:gdLst>
              <a:gd name="textAreaLeft" fmla="*/ 25920 w 404640"/>
              <a:gd name="textAreaRight" fmla="*/ 378720 w 404640"/>
              <a:gd name="textAreaTop" fmla="*/ 25920 h 425520"/>
              <a:gd name="textAreaBottom" fmla="*/ 399600 h 425520"/>
            </a:gdLst>
            <a:ahLst/>
            <a:rect l="textAreaLeft" t="textAreaTop" r="textAreaRight" b="textAreaBottom"/>
            <a:pathLst>
              <a:path w="21600" h="22714">
                <a:moveTo>
                  <a:pt x="0" y="0"/>
                </a:moveTo>
                <a:lnTo>
                  <a:pt x="21600" y="0"/>
                </a:lnTo>
                <a:lnTo>
                  <a:pt x="21600" y="22714"/>
                </a:lnTo>
                <a:lnTo>
                  <a:pt x="0" y="22714"/>
                </a:lnTo>
                <a:close/>
              </a:path>
              <a:path fill="lightenLess" w="21600" h="2271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14">
                <a:moveTo>
                  <a:pt x="21600" y="0"/>
                </a:moveTo>
                <a:lnTo>
                  <a:pt x="21600" y="22714"/>
                </a:lnTo>
                <a:lnTo>
                  <a:pt x="20200" y="21314"/>
                </a:lnTo>
                <a:lnTo>
                  <a:pt x="20200" y="1400"/>
                </a:lnTo>
                <a:close/>
              </a:path>
              <a:path fill="darkenLess" w="21600" h="22714">
                <a:moveTo>
                  <a:pt x="21600" y="22714"/>
                </a:moveTo>
                <a:lnTo>
                  <a:pt x="0" y="22714"/>
                </a:lnTo>
                <a:lnTo>
                  <a:pt x="1400" y="21314"/>
                </a:lnTo>
                <a:lnTo>
                  <a:pt x="20200" y="21314"/>
                </a:lnTo>
                <a:close/>
              </a:path>
              <a:path fill="lighten" w="21600" h="22714">
                <a:moveTo>
                  <a:pt x="0" y="22714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14"/>
                </a:lnTo>
                <a:close/>
              </a:path>
              <a:path fill="darken" w="21600" h="22714">
                <a:moveTo>
                  <a:pt x="10800" y="4350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714">
                <a:moveTo>
                  <a:pt x="10800" y="4725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714">
                <a:moveTo>
                  <a:pt x="8224" y="8781"/>
                </a:moveTo>
                <a:lnTo>
                  <a:pt x="12088" y="8781"/>
                </a:lnTo>
                <a:lnTo>
                  <a:pt x="12088" y="15778"/>
                </a:lnTo>
                <a:lnTo>
                  <a:pt x="13376" y="15778"/>
                </a:lnTo>
                <a:lnTo>
                  <a:pt x="13376" y="16701"/>
                </a:lnTo>
                <a:lnTo>
                  <a:pt x="8224" y="16701"/>
                </a:lnTo>
                <a:lnTo>
                  <a:pt x="8224" y="15778"/>
                </a:lnTo>
                <a:lnTo>
                  <a:pt x="9512" y="15778"/>
                </a:lnTo>
                <a:lnTo>
                  <a:pt x="9512" y="9686"/>
                </a:lnTo>
                <a:lnTo>
                  <a:pt x="8224" y="9686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5" name="AutoShape 20"/>
          <p:cNvSpPr/>
          <p:nvPr/>
        </p:nvSpPr>
        <p:spPr>
          <a:xfrm>
            <a:off x="4114800" y="3995640"/>
            <a:ext cx="380880" cy="3906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90600"/>
              <a:gd name="textAreaBottom" fmla="*/ 366120 h 390600"/>
            </a:gdLst>
            <a:ahLst/>
            <a:rect l="textAreaLeft" t="textAreaTop" r="textAreaRight" b="textAreaBottom"/>
            <a:pathLst>
              <a:path w="21600" h="22151">
                <a:moveTo>
                  <a:pt x="0" y="0"/>
                </a:moveTo>
                <a:lnTo>
                  <a:pt x="21600" y="0"/>
                </a:lnTo>
                <a:lnTo>
                  <a:pt x="21600" y="22151"/>
                </a:lnTo>
                <a:lnTo>
                  <a:pt x="0" y="22151"/>
                </a:lnTo>
                <a:close/>
              </a:path>
              <a:path fill="lightenLess" w="21600" h="2215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51">
                <a:moveTo>
                  <a:pt x="21600" y="0"/>
                </a:moveTo>
                <a:lnTo>
                  <a:pt x="21600" y="22151"/>
                </a:lnTo>
                <a:lnTo>
                  <a:pt x="20200" y="20751"/>
                </a:lnTo>
                <a:lnTo>
                  <a:pt x="20200" y="1400"/>
                </a:lnTo>
                <a:close/>
              </a:path>
              <a:path fill="darkenLess" w="21600" h="22151">
                <a:moveTo>
                  <a:pt x="21600" y="22151"/>
                </a:moveTo>
                <a:lnTo>
                  <a:pt x="0" y="22151"/>
                </a:lnTo>
                <a:lnTo>
                  <a:pt x="1400" y="20751"/>
                </a:lnTo>
                <a:lnTo>
                  <a:pt x="20200" y="20751"/>
                </a:lnTo>
                <a:close/>
              </a:path>
              <a:path fill="lighten" w="21600" h="22151">
                <a:moveTo>
                  <a:pt x="0" y="22151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51"/>
                </a:lnTo>
                <a:close/>
              </a:path>
              <a:path fill="darken" w="21600" h="22151">
                <a:moveTo>
                  <a:pt x="10800" y="4069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2151">
                <a:moveTo>
                  <a:pt x="10800" y="4443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2151">
                <a:moveTo>
                  <a:pt x="8224" y="8499"/>
                </a:moveTo>
                <a:lnTo>
                  <a:pt x="12088" y="8499"/>
                </a:lnTo>
                <a:lnTo>
                  <a:pt x="12088" y="15497"/>
                </a:lnTo>
                <a:lnTo>
                  <a:pt x="13376" y="15497"/>
                </a:lnTo>
                <a:lnTo>
                  <a:pt x="13376" y="16419"/>
                </a:lnTo>
                <a:lnTo>
                  <a:pt x="8224" y="16419"/>
                </a:lnTo>
                <a:lnTo>
                  <a:pt x="8224" y="15497"/>
                </a:lnTo>
                <a:lnTo>
                  <a:pt x="9512" y="15497"/>
                </a:lnTo>
                <a:lnTo>
                  <a:pt x="9512" y="9404"/>
                </a:lnTo>
                <a:lnTo>
                  <a:pt x="8224" y="9404"/>
                </a:lnTo>
                <a:close/>
              </a:path>
            </a:pathLst>
          </a:cu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Text Box 21"/>
          <p:cNvSpPr/>
          <p:nvPr/>
        </p:nvSpPr>
        <p:spPr>
          <a:xfrm>
            <a:off x="1066680" y="3852720"/>
            <a:ext cx="304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Composition et rôles de la commission des évaluateurs: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000"/>
                            </p:stCondLst>
                            <p:childTnLst>
                              <p:par>
                                <p:cTn id="4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BF2F-5038-429B-AAB5-35044217BB5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9" name="AutoShape 20"/>
          <p:cNvSpPr/>
          <p:nvPr/>
        </p:nvSpPr>
        <p:spPr>
          <a:xfrm>
            <a:off x="6858000" y="1676520"/>
            <a:ext cx="2286000" cy="2300040"/>
          </a:xfrm>
          <a:prstGeom prst="foldedCorner">
            <a:avLst>
              <a:gd name="adj" fmla="val 12500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Les différents dossiers pour la partie E3-1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261" name="Object 11"/>
          <p:cNvGraphicFramePr/>
          <p:nvPr/>
        </p:nvGraphicFramePr>
        <p:xfrm>
          <a:off x="522360" y="1066680"/>
          <a:ext cx="2155680" cy="19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2360" y="1066680"/>
                    <a:ext cx="215568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12"/>
          <p:cNvGraphicFramePr/>
          <p:nvPr/>
        </p:nvGraphicFramePr>
        <p:xfrm>
          <a:off x="2882880" y="1219320"/>
          <a:ext cx="2040120" cy="19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2880" y="1219320"/>
                    <a:ext cx="204012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Object 13"/>
          <p:cNvGraphicFramePr/>
          <p:nvPr/>
        </p:nvGraphicFramePr>
        <p:xfrm>
          <a:off x="304920" y="3976560"/>
          <a:ext cx="1103040" cy="196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3976560"/>
                    <a:ext cx="110304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Object 14"/>
          <p:cNvGraphicFramePr/>
          <p:nvPr/>
        </p:nvGraphicFramePr>
        <p:xfrm>
          <a:off x="1407960" y="3373560"/>
          <a:ext cx="2298960" cy="206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07960" y="3373560"/>
                    <a:ext cx="2298960" cy="20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15"/>
          <p:cNvGraphicFramePr/>
          <p:nvPr/>
        </p:nvGraphicFramePr>
        <p:xfrm>
          <a:off x="2255760" y="4502160"/>
          <a:ext cx="2192400" cy="1967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0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55760" y="4502160"/>
                    <a:ext cx="219240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16"/>
          <p:cNvGraphicFramePr/>
          <p:nvPr/>
        </p:nvGraphicFramePr>
        <p:xfrm>
          <a:off x="4448160" y="2900520"/>
          <a:ext cx="2119320" cy="19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2" name="Object 16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48160" y="2900520"/>
                    <a:ext cx="2119320" cy="19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17"/>
          <p:cNvGraphicFramePr/>
          <p:nvPr/>
        </p:nvGraphicFramePr>
        <p:xfrm>
          <a:off x="7243920" y="1917720"/>
          <a:ext cx="1665000" cy="196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4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43920" y="1917720"/>
                    <a:ext cx="1665000" cy="19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AutoShape 21"/>
          <p:cNvSpPr/>
          <p:nvPr/>
        </p:nvSpPr>
        <p:spPr>
          <a:xfrm>
            <a:off x="8229600" y="4114800"/>
            <a:ext cx="228600" cy="838080"/>
          </a:xfrm>
          <a:prstGeom prst="upArrow">
            <a:avLst>
              <a:gd name="adj1" fmla="val 50000"/>
              <a:gd name="adj2" fmla="val 91654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AutoShape 22"/>
          <p:cNvSpPr/>
          <p:nvPr/>
        </p:nvSpPr>
        <p:spPr>
          <a:xfrm>
            <a:off x="7848720" y="5105520"/>
            <a:ext cx="1295280" cy="685800"/>
          </a:xfrm>
          <a:prstGeom prst="foldedCorner">
            <a:avLst>
              <a:gd name="adj" fmla="val 12500"/>
            </a:avLst>
          </a:prstGeom>
          <a:solidFill>
            <a:srgbClr val="00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Autres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omic Sans MS"/>
              </a:rPr>
              <a:t>notations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26A1-FB53-4C8C-A1CE-5A9A01F48C13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9" name="Text Box 2"/>
          <p:cNvSpPr/>
          <p:nvPr/>
        </p:nvSpPr>
        <p:spPr>
          <a:xfrm>
            <a:off x="3352680" y="3429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600200" y="40384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00"/>
                </a:solidFill>
                <a:latin typeface="Arial"/>
              </a:rPr>
              <a:t>Fi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905120" y="13716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283" name="Picture 7" descr="AFFICHE2"/>
          <p:cNvPicPr/>
          <p:nvPr/>
        </p:nvPicPr>
        <p:blipFill>
          <a:blip r:embed="rId1"/>
          <a:stretch/>
        </p:blipFill>
        <p:spPr>
          <a:xfrm>
            <a:off x="474840" y="468360"/>
            <a:ext cx="7162560" cy="632448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8"/>
          <p:cNvSpPr/>
          <p:nvPr/>
        </p:nvSpPr>
        <p:spPr>
          <a:xfrm rot="20215200">
            <a:off x="524520" y="1718280"/>
            <a:ext cx="8458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3300"/>
                </a:solidFill>
                <a:latin typeface="Brush Script MT"/>
              </a:rPr>
              <a:t>Merci de</a:t>
            </a:r>
            <a:endParaRPr b="1" lang="en-US" sz="6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3300"/>
                </a:solidFill>
                <a:latin typeface="Brush Script MT"/>
              </a:rPr>
              <a:t>votre attention</a:t>
            </a:r>
            <a:endParaRPr b="1" lang="en-US" sz="6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D42F-8611-45E2-BD1C-D59FD423E7F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Situations de travail spécifiées et réalisées en milieu professionn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05" name="Object 9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224640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8C95-6829-49B7-8C49-A9877C4D538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66"/>
                </a:solidFill>
                <a:latin typeface="Arial"/>
              </a:rPr>
              <a:t>Présenta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66560" y="1523880"/>
            <a:ext cx="820908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es PFMP représentent 26% du temps de  formation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SzPct val="8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En conséquence, on ne doit pas négliger 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- Le choix des entreprises,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- la qualité et la diversité des activités menées en entreprise,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a qualité de l’encadrement effectif du stagiair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0" y="4495680"/>
            <a:ext cx="89154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Elles doivent être en interaction avec la formation donnée en centre de formatio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34ED-F229-443F-A251-9795104AD224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66"/>
                </a:solidFill>
                <a:latin typeface="Arial"/>
              </a:rPr>
              <a:t>Durée et répartition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Rectangle 1027"/>
          <p:cNvSpPr/>
          <p:nvPr/>
        </p:nvSpPr>
        <p:spPr>
          <a:xfrm>
            <a:off x="466560" y="205740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mic Sans MS"/>
              </a:rPr>
              <a:t>La durée totale est de 22 semaines</a:t>
            </a: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buClr>
                <a:srgbClr val="3366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6 semaines en fin de seconde,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buClr>
                <a:srgbClr val="3366ff"/>
              </a:buClr>
              <a:buSzPct val="80000"/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mic Sans MS"/>
              </a:rPr>
              <a:t>- Les 16 semaines restantes sont réparties en classes de première et terminale à l’initiative de l’établissement de formation</a:t>
            </a:r>
            <a:endParaRPr b="1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638B-9A3C-45DB-A08C-992B5BE820C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656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66"/>
                </a:solidFill>
                <a:latin typeface="Arial"/>
              </a:rPr>
              <a:t>Les situations de travail en entrepris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266760" y="685800"/>
            <a:ext cx="323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11 Interroger le client sur ses besoins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266760" y="1873080"/>
            <a:ext cx="339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14 Sélectionner la (les) fiche(s) qualité(s) correspondant aux travaux réalisés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266760" y="3489480"/>
            <a:ext cx="400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23 Modifier l’ordonnancement des activités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228600" y="4479840"/>
            <a:ext cx="441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25 Poser les conduits, supports et conducteurs, les appareils en appliquant les procédures, textes et règlement en vigueur 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28600" y="5562720"/>
            <a:ext cx="441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26 Connecter les différents types de conducteurs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5105520" y="68580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45 Transmettre à sa hiérarchie et/ou à son équipe, les informations utiles au bon déroulement de l’exécution des travaux.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5172120" y="259092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46 Rendre compte de façon exhaustive des modifications effectuées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5257800" y="432756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54 Définir la chronologie des activités confiées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228600" y="521028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C24 Implanter les constituants d’un ouvrage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304920" y="990720"/>
            <a:ext cx="3962160" cy="761760"/>
          </a:xfrm>
          <a:prstGeom prst="foldedCorner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’élève participe avec son tuteur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à la collecte d’informations auprès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u client sur une petite affair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AutoShape 16"/>
          <p:cNvSpPr/>
          <p:nvPr/>
        </p:nvSpPr>
        <p:spPr>
          <a:xfrm>
            <a:off x="304920" y="2390760"/>
            <a:ext cx="3962160" cy="976320"/>
          </a:xfrm>
          <a:prstGeom prst="foldedCorner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’élève identifie la démarche qualité 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utilisée dans l’entreprise si elle exist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Il utilise les procédures qualités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AutoShape 17"/>
          <p:cNvSpPr/>
          <p:nvPr/>
        </p:nvSpPr>
        <p:spPr>
          <a:xfrm>
            <a:off x="304920" y="3809880"/>
            <a:ext cx="3962160" cy="609840"/>
          </a:xfrm>
          <a:prstGeom prst="foldedCorner">
            <a:avLst>
              <a:gd name="adj" fmla="val 125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’élève participe à la modification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’un planning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AutoShape 18"/>
          <p:cNvSpPr/>
          <p:nvPr/>
        </p:nvSpPr>
        <p:spPr>
          <a:xfrm>
            <a:off x="457200" y="5943600"/>
            <a:ext cx="3809880" cy="609480"/>
          </a:xfrm>
          <a:prstGeom prst="foldedCorner">
            <a:avLst>
              <a:gd name="adj" fmla="val 1448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’élève réalise en autonomie partiell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ou totale tout ou partie d’un ouvrage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AutoShape 19"/>
          <p:cNvSpPr/>
          <p:nvPr/>
        </p:nvSpPr>
        <p:spPr>
          <a:xfrm>
            <a:off x="4991040" y="1492200"/>
            <a:ext cx="4000680" cy="762120"/>
          </a:xfrm>
          <a:prstGeom prst="foldedCorner">
            <a:avLst>
              <a:gd name="adj" fmla="val 1448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’élève est amené à participer à la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mmunication liée à l’exécution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u travail qui lui est confié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AutoShape 20"/>
          <p:cNvSpPr/>
          <p:nvPr/>
        </p:nvSpPr>
        <p:spPr>
          <a:xfrm>
            <a:off x="4991040" y="3276720"/>
            <a:ext cx="3952800" cy="761760"/>
          </a:xfrm>
          <a:prstGeom prst="foldedCorner">
            <a:avLst>
              <a:gd name="adj" fmla="val 1448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’élève donne les éléments de plans,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documents annotés, au tuteur qui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permettront le recollement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AutoShape 21"/>
          <p:cNvSpPr/>
          <p:nvPr/>
        </p:nvSpPr>
        <p:spPr>
          <a:xfrm>
            <a:off x="5038560" y="4829040"/>
            <a:ext cx="3953160" cy="762120"/>
          </a:xfrm>
          <a:prstGeom prst="foldedCorner">
            <a:avLst>
              <a:gd name="adj" fmla="val 14486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’élève participe avec son tuteur à 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l’organisation temporelle du chantier 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0780-2575-4B2E-8CD2-E75117FEE1F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6" name="Picture 2" descr="DOUTE"/>
          <p:cNvPicPr/>
          <p:nvPr/>
        </p:nvPicPr>
        <p:blipFill>
          <a:blip r:embed="rId1"/>
          <a:stretch/>
        </p:blipFill>
        <p:spPr>
          <a:xfrm>
            <a:off x="6381720" y="4800600"/>
            <a:ext cx="628560" cy="15238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cc66"/>
                </a:solidFill>
                <a:latin typeface="Arial"/>
              </a:rPr>
              <a:t>Validation des compéten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DA1B-6DB8-429D-A8B1-DF0B41F0D13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3352680" y="3429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600200" y="40384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80880" y="1300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Lucida Sans"/>
              </a:rPr>
              <a:t>Finalités de la sous épreuve E 3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914400" y="2562120"/>
            <a:ext cx="2743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Valider les compétences 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mises en oeuvre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lors de situations de travail effectuées par le candidat en entrepris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876920" y="256212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Vérifier sa capacité à argumenter et à justifier 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par écrit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et </a:t>
            </a:r>
            <a:r>
              <a:rPr b="1" lang="fr-FR" sz="2400" spc="-1" strike="noStrike">
                <a:solidFill>
                  <a:srgbClr val="ffff00"/>
                </a:solidFill>
                <a:latin typeface="Comic Sans MS"/>
              </a:rPr>
              <a:t>oralement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une résolution de problème rencontré lors de sa pratique du métier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94520" y="26820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Arial"/>
              </a:rPr>
              <a:t>SOUS EPREUVE E 31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8B6E-C55E-46E0-85C2-623F7110F85A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085400" y="952560"/>
            <a:ext cx="45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Lucida Sans"/>
              </a:rPr>
              <a:t>Que cherche-t-on à évaluer 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04920" y="22096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es compétences majoritairement acquises en entrepris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04920" y="388620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L’aptitude du candidat (les compétences) à analyser et à présenter oralement des situations professionnelles à partir d’un dossier de synthèse constitué et rédigé par lui mêm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304920" y="2666880"/>
            <a:ext cx="807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omic Sans MS"/>
              </a:rPr>
              <a:t>Mais ne nous interdisons pas cependant de réaliser par exemple du câblage en établissement de formation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8AE1-0795-4EF8-856C-81337DCB784C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954000" y="72396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Lucida Sans"/>
              </a:rPr>
              <a:t>Ce qui indui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609480" y="141912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Le rassemblement d’éléments à prendre en compte pour suivre et  évaluer le travail effectué par le candidat sur toute la durée des 22 semain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09480" y="25146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La constitution d’un dossier de synthèse par le candidat qui comprendra une réflexion professionnelle sur quatre situations particulièrement intéressantes et significatives du métier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388620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Le développement, sous forme d’étude de cas, d’une de ces quatre situations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609480" y="4906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Une présentation orale devant une commission d’évaluateu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8T06:53:59Z</dcterms:created>
  <dc:creator>C. Royer</dc:creator>
  <dc:description/>
  <dc:language>en-US</dc:language>
  <cp:lastModifiedBy>MICHEL</cp:lastModifiedBy>
  <dcterms:modified xsi:type="dcterms:W3CDTF">2009-06-29T22:42:02Z</dcterms:modified>
  <cp:revision>233</cp:revision>
  <dc:subject/>
  <dc:title>RENOVATION DU SECTEUR DE L’ELECTROTECHNIQUE</dc:title>
</cp:coreProperties>
</file>