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ECF7-D501-4CCF-8BEC-C2913A2335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équipe pédagogique accompagne le tuteur dans son choix d’activités proposées à l’apprenant. Celles-ci sont notées dans l’annexe pédagogique jointe à la convention réglementai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L’organisation des périodes de formation en entreprise fait l’objet d’une convention entre le chef d’entreprise accueillant les élèves et le chef d’établissement scolaire où ces derniers sont scolarisés.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Cette convention est établie conformément à la convention type définie par note de service n° 2008-176 du 24-12-2008 - BO n°2 du 8 janvier 2009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9B0-D28C-4E88-BDC2-F770C0AD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C459-D74F-4848-84B9-E05A4C7F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FF2-1E51-4F77-87D3-CC8FCFDFB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DE38-071D-4720-9AF1-A03BAD17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1F6AB-59DC-4721-A12B-33A2C29F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8525-48AB-4D12-A90F-B75D5E509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DC98-2F60-49DC-8915-CF763DE1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C0A11-2A31-4E4B-AF09-C459C65E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5DDD-D163-42A5-9227-0D6FEC6E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1DEF-4226-42BF-84F1-E7DA33F08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D487-259E-40A4-8331-0ABAEF1E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ACD9-BB25-4982-9505-8B7CB1C21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3BE5-1533-49EA-BC5B-E6B73C847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DB527-3888-40E7-9E5A-0D75E600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E81A-569E-4033-AFB8-740FF695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0DA8-91B4-4BF3-86D2-C8F4CE2D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19D3-CF11-43A4-828F-0AB3D0102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66B5-7F75-4924-9DFB-73CF0EB4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4FE5-9C99-47D9-8C1C-F85D6B6D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E44B-94FC-4580-8FC4-99DBAE93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BEE6-4577-46CC-A4E4-9E2CD73D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769-C0B5-45C3-BB14-AF4C650D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982-48EA-4DB6-BF8B-A04A8B20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58A0-7E4F-45F1-AE4A-D6C333373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D6CF-ADEB-4FE6-B830-A030A01FCD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B0BF-6971-4904-A02A-2D67744C991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42976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6a6a6"/>
                </a:solidFill>
                <a:latin typeface="Arial"/>
              </a:rPr>
              <a:t>La période de formation en milieu professionn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268280"/>
            <a:ext cx="777240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 durée réglementaire de la période de formation en milieu professionnel (P.F.M.P.) est de </a:t>
            </a:r>
            <a:r>
              <a:rPr b="1" lang="fr-FR" sz="2200" spc="-1" strike="noStrike">
                <a:solidFill>
                  <a:srgbClr val="ffff66"/>
                </a:solidFill>
                <a:latin typeface="Arial"/>
              </a:rPr>
              <a:t>6 semaines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, incluse dans </a:t>
            </a:r>
            <a:r>
              <a:rPr b="0" lang="fr-FR" sz="2200" spc="-1" strike="noStrike">
                <a:solidFill>
                  <a:srgbClr val="ffcc66"/>
                </a:solidFill>
                <a:latin typeface="Arial"/>
              </a:rPr>
              <a:t>les 22 semaines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de P.F.M.P. prévues pour le Baccalauréat Professionnel ELEEC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La répartition de ce temps dans le cursus de formation de l’élève est laissée à l’appréciation de l’équipe pédagogique.  L’organisation prendra en compte 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ffff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9900"/>
                </a:solidFill>
                <a:latin typeface="Arial"/>
              </a:rPr>
              <a:t>les contraintes matérielles des entreprises et des établissements scolaires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ffff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0000"/>
                </a:solidFill>
                <a:latin typeface="Arial"/>
              </a:rPr>
              <a:t>les objectifs pédagogiques spécifiques à ces périodes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 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550"/>
              </a:spcBef>
              <a:buClr>
                <a:srgbClr val="ffff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9ff99"/>
                </a:solidFill>
                <a:latin typeface="Arial"/>
              </a:rPr>
              <a:t>les cursus d’apprentissage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43A2E-6102-496C-A191-F3C908F391E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42976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6a6a6"/>
                </a:solidFill>
                <a:latin typeface="Arial"/>
              </a:rPr>
              <a:t>La période de formation en milieu professionn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907920"/>
            <a:ext cx="7772400" cy="50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</a:t>
            </a:r>
            <a:r>
              <a:rPr b="0" lang="fr-FR" sz="2400" spc="-1" strike="noStrike">
                <a:solidFill>
                  <a:srgbClr val="ffff66"/>
                </a:solidFill>
                <a:latin typeface="Arial"/>
              </a:rPr>
              <a:t>PFMP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oivent permettre au futur diplômé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550"/>
              </a:spcBef>
              <a:buClr>
                <a:srgbClr val="ffff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 participer à des activités afin de conforter et d’acquérir des savoirs et savoir-faire 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550"/>
              </a:spcBef>
              <a:buClr>
                <a:srgbClr val="ffff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’utiliser les matériels ou les outillages spécifiques 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550"/>
              </a:spcBef>
              <a:buClr>
                <a:srgbClr val="ffff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’appréhender par le concret les contraintes économiques, humaines, techniques de l’entreprise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550"/>
              </a:spcBef>
              <a:buClr>
                <a:srgbClr val="ffff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’appréhender les contraintes de sécurité et les méthodes de travail 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550"/>
              </a:spcBef>
              <a:buClr>
                <a:srgbClr val="ffff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’observer et d’analyser au travers de situations réelles les différents éléments d’une stratégie de qualité et de percevoir concrètement les coûts induits de la non qualité ;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 algn="just">
              <a:lnSpc>
                <a:spcPct val="100000"/>
              </a:lnSpc>
              <a:spcBef>
                <a:spcPts val="550"/>
              </a:spcBef>
              <a:buClr>
                <a:srgbClr val="ffff66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de prendre conscience de l’importance de la compétence de tous les acteurs et services dans une entrepris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3A78-1B67-4989-879C-288FA814F68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42976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6a6a6"/>
                </a:solidFill>
                <a:latin typeface="Arial"/>
              </a:rPr>
              <a:t>La période de formation en milieu professionn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687320"/>
            <a:ext cx="7772400" cy="29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550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 u="sng">
                <a:solidFill>
                  <a:srgbClr val="ffcc66"/>
                </a:solidFill>
                <a:uFillTx/>
                <a:latin typeface="Arial"/>
              </a:rPr>
              <a:t>Modalités</a:t>
            </a:r>
            <a:r>
              <a:rPr b="1" lang="fr-FR" sz="22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99ff99"/>
                </a:solidFill>
                <a:latin typeface="Arial"/>
              </a:rPr>
              <a:t>La recherche des entreprises d’accueil est assurée conjointement </a:t>
            </a:r>
            <a:r>
              <a:rPr b="1" lang="fr-FR" sz="2200" spc="-1" strike="noStrike">
                <a:solidFill>
                  <a:srgbClr val="ffff66"/>
                </a:solidFill>
                <a:latin typeface="Arial"/>
              </a:rPr>
              <a:t>par l’élève</a:t>
            </a:r>
            <a:r>
              <a:rPr b="1" lang="fr-FR" sz="2200" spc="-1" strike="noStrike">
                <a:solidFill>
                  <a:srgbClr val="99ff99"/>
                </a:solidFill>
                <a:latin typeface="Arial"/>
              </a:rPr>
              <a:t> en lien avec </a:t>
            </a:r>
            <a:r>
              <a:rPr b="1" lang="fr-FR" sz="2200" spc="-1" strike="noStrike">
                <a:solidFill>
                  <a:srgbClr val="ffff66"/>
                </a:solidFill>
                <a:latin typeface="Arial"/>
              </a:rPr>
              <a:t>l’équipe pédagogique</a:t>
            </a:r>
            <a:r>
              <a:rPr b="1" lang="fr-FR" sz="2200" spc="-1" strike="noStrike">
                <a:solidFill>
                  <a:srgbClr val="99ff99"/>
                </a:solidFill>
                <a:latin typeface="Arial"/>
              </a:rPr>
              <a:t>, sous la </a:t>
            </a:r>
            <a:r>
              <a:rPr b="1" lang="fr-FR" sz="2200" spc="-1" strike="noStrike">
                <a:solidFill>
                  <a:srgbClr val="ff9900"/>
                </a:solidFill>
                <a:latin typeface="Arial"/>
              </a:rPr>
              <a:t>responsabilité de l’établissement de formation</a:t>
            </a:r>
            <a:r>
              <a:rPr b="0" lang="fr-FR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F961-4EDE-45A0-8A52-FF1721280BA7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8:51:54Z</dcterms:created>
  <dc:creator>MICHEL</dc:creator>
  <dc:description/>
  <dc:language>en-US</dc:language>
  <cp:lastModifiedBy>MICHEL</cp:lastModifiedBy>
  <dcterms:modified xsi:type="dcterms:W3CDTF">2009-06-29T21:55:01Z</dcterms:modified>
  <cp:revision>6</cp:revision>
  <dc:subject/>
  <dc:title>Préambule</dc:title>
</cp:coreProperties>
</file>