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8C760-1E67-4DCA-B7B1-82720890C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69A13-8CB2-4212-A5CF-AE0F1713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224D13-C6A5-4B3D-A001-9E56079E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291753-4E70-4293-BFDC-22EA3164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30F7BA-3B5D-4BF2-BFF7-6F0118D0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16DE49-7C2A-4D14-9BA3-995C5CFF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504A3-2100-43AE-B97A-46D65A78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4CE992-0083-419F-86C3-CB9F18C4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ED074-4170-431A-95E2-A3A1DF67F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6E85D-5926-4EA8-8B4A-5C3BA6E6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99229B-60F3-4A1F-AF52-ED697F4E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B12D52-A110-4927-9557-0F9FC2DE8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F6CA-D00D-45DB-A75F-8AC610D765E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image" Target="../media/image3.png"/><Relationship Id="rId34" Type="http://schemas.openxmlformats.org/officeDocument/2006/relationships/image" Target="../media/image3.png"/><Relationship Id="rId35" Type="http://schemas.openxmlformats.org/officeDocument/2006/relationships/image" Target="../media/image3.png"/><Relationship Id="rId36" Type="http://schemas.openxmlformats.org/officeDocument/2006/relationships/image" Target="../media/image3.png"/><Relationship Id="rId37" Type="http://schemas.openxmlformats.org/officeDocument/2006/relationships/image" Target="../media/image4.png"/><Relationship Id="rId38" Type="http://schemas.openxmlformats.org/officeDocument/2006/relationships/image" Target="../media/image5.png"/><Relationship Id="rId3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58920" y="189000"/>
            <a:ext cx="6626160" cy="13683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3984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133720"/>
            <a:ext cx="2232000" cy="1871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app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E GENER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2271600"/>
            <a:ext cx="4897440" cy="170820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26880" y="2489040"/>
            <a:ext cx="42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xploiter à des fins pédagogiqu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les installations existantes prés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dans les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ZONE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réservé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u secteur Electrotechni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4508640"/>
            <a:ext cx="8209080" cy="1584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0200" y="4797360"/>
            <a:ext cx="73616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e en place d’une armoire de distribution et d’armoi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visionnaires communicantes, assurant l’alimentation partiel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 totale de certaines fonctions : éclairage, chauffage, alarme, systèmes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1000" y="3618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cc"/>
                </a:solidFill>
                <a:latin typeface="Arial Black"/>
              </a:rPr>
              <a:t>BAC  ELE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67040" y="857160"/>
            <a:ext cx="441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a déclinaison matériel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28600" y="152280"/>
            <a:ext cx="8763120" cy="64771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04920" y="1523880"/>
            <a:ext cx="8610480" cy="5029200"/>
            <a:chOff x="304920" y="1523880"/>
            <a:chExt cx="8610480" cy="5029200"/>
          </a:xfrm>
        </p:grpSpPr>
        <p:sp>
          <p:nvSpPr>
            <p:cNvPr id="97" name=""/>
            <p:cNvSpPr/>
            <p:nvPr/>
          </p:nvSpPr>
          <p:spPr>
            <a:xfrm>
              <a:off x="304920" y="1523880"/>
              <a:ext cx="8610480" cy="5029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96960" y="1676160"/>
              <a:ext cx="150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mic Sans MS"/>
                </a:rPr>
                <a:t>Espa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mic Sans MS"/>
                </a:rPr>
                <a:t>pédagogi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525680" y="2984400"/>
            <a:ext cx="2438280" cy="2590560"/>
            <a:chOff x="1525680" y="2984400"/>
            <a:chExt cx="2438280" cy="2590560"/>
          </a:xfrm>
        </p:grpSpPr>
        <p:sp>
          <p:nvSpPr>
            <p:cNvPr id="100" name=""/>
            <p:cNvSpPr/>
            <p:nvPr/>
          </p:nvSpPr>
          <p:spPr>
            <a:xfrm>
              <a:off x="1525680" y="2984400"/>
              <a:ext cx="2438280" cy="259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252520" y="4022280"/>
              <a:ext cx="83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lot : I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4268880" y="4444920"/>
            <a:ext cx="2146320" cy="1067040"/>
          </a:xfrm>
          <a:prstGeom prst="rect">
            <a:avLst/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moir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’éclai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93040" y="4444920"/>
            <a:ext cx="1066680" cy="1067040"/>
          </a:xfrm>
          <a:prstGeom prst="rect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mo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a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end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8640" y="4444920"/>
            <a:ext cx="990720" cy="1067040"/>
          </a:xfrm>
          <a:prstGeom prst="rect">
            <a:avLst/>
          </a:prstGeom>
          <a:solidFill>
            <a:srgbClr val="3333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moi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è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725720" y="2438280"/>
            <a:ext cx="672840" cy="2032200"/>
            <a:chOff x="4725720" y="2438280"/>
            <a:chExt cx="672840" cy="2032200"/>
          </a:xfrm>
        </p:grpSpPr>
        <p:sp>
          <p:nvSpPr>
            <p:cNvPr id="106" name=""/>
            <p:cNvSpPr/>
            <p:nvPr/>
          </p:nvSpPr>
          <p:spPr>
            <a:xfrm>
              <a:off x="4738680" y="2438280"/>
              <a:ext cx="0" cy="16448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4725720" y="4089240"/>
              <a:ext cx="6728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86320" y="4089240"/>
              <a:ext cx="0" cy="3812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04920" y="254160"/>
            <a:ext cx="8611560" cy="1143000"/>
            <a:chOff x="304920" y="254160"/>
            <a:chExt cx="8611560" cy="1143000"/>
          </a:xfrm>
        </p:grpSpPr>
        <p:sp>
          <p:nvSpPr>
            <p:cNvPr id="110" name=""/>
            <p:cNvSpPr/>
            <p:nvPr/>
          </p:nvSpPr>
          <p:spPr>
            <a:xfrm>
              <a:off x="304920" y="254160"/>
              <a:ext cx="8611560" cy="114300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89360" y="559080"/>
              <a:ext cx="317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mic Sans MS"/>
                </a:rPr>
                <a:t>Installation sous l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mic Sans MS"/>
                </a:rPr>
                <a:t>responsabilité de l ’établisse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58040" y="-32040"/>
            <a:ext cx="2533320" cy="2120040"/>
            <a:chOff x="158040" y="-32040"/>
            <a:chExt cx="2533320" cy="2120040"/>
          </a:xfrm>
        </p:grpSpPr>
        <p:sp>
          <p:nvSpPr>
            <p:cNvPr id="113" name=""/>
            <p:cNvSpPr/>
            <p:nvPr/>
          </p:nvSpPr>
          <p:spPr>
            <a:xfrm rot="19425000">
              <a:off x="154080" y="634680"/>
              <a:ext cx="2476440" cy="7621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9425000">
              <a:off x="111960" y="675720"/>
              <a:ext cx="262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Champ d’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NDUSTRI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278160" y="228600"/>
            <a:ext cx="2362320" cy="863640"/>
            <a:chOff x="3278160" y="228600"/>
            <a:chExt cx="2362320" cy="863640"/>
          </a:xfrm>
        </p:grpSpPr>
        <p:sp>
          <p:nvSpPr>
            <p:cNvPr id="116" name=""/>
            <p:cNvSpPr/>
            <p:nvPr/>
          </p:nvSpPr>
          <p:spPr>
            <a:xfrm>
              <a:off x="3278160" y="558720"/>
              <a:ext cx="2362320" cy="533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moire de distribu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1160" y="330120"/>
              <a:ext cx="76320" cy="2286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0033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99640" y="228600"/>
              <a:ext cx="8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imes New Roman"/>
                </a:rPr>
                <a:t>T.G.B.T</a:t>
              </a:r>
              <a:r>
                <a:rPr b="0" lang="en-US" sz="14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820960" y="4444920"/>
            <a:ext cx="106668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mo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è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(continuit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 servi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01640" y="4444920"/>
            <a:ext cx="1067040" cy="106704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mo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è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73360" y="3073320"/>
            <a:ext cx="2089080" cy="76212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moire chang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S.L.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11480" y="3835080"/>
            <a:ext cx="1143000" cy="609840"/>
            <a:chOff x="2211480" y="3835080"/>
            <a:chExt cx="1143000" cy="609840"/>
          </a:xfrm>
        </p:grpSpPr>
        <p:sp>
          <p:nvSpPr>
            <p:cNvPr id="123" name=""/>
            <p:cNvSpPr/>
            <p:nvPr/>
          </p:nvSpPr>
          <p:spPr>
            <a:xfrm>
              <a:off x="3354480" y="383544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2211480" y="3835080"/>
              <a:ext cx="0" cy="6094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384880" y="4781520"/>
            <a:ext cx="987480" cy="698400"/>
          </a:xfrm>
          <a:prstGeom prst="rect">
            <a:avLst/>
          </a:prstGeom>
          <a:solidFill>
            <a:srgbClr val="0099ff"/>
          </a:solidFill>
          <a:ln w="19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’éclai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sécurit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73840" y="4444920"/>
            <a:ext cx="990720" cy="10670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mo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u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820960" y="2463840"/>
            <a:ext cx="1447560" cy="609480"/>
            <a:chOff x="2820960" y="2463840"/>
            <a:chExt cx="1447560" cy="609480"/>
          </a:xfrm>
        </p:grpSpPr>
        <p:sp>
          <p:nvSpPr>
            <p:cNvPr id="128" name=""/>
            <p:cNvSpPr/>
            <p:nvPr/>
          </p:nvSpPr>
          <p:spPr>
            <a:xfrm>
              <a:off x="2820960" y="2921040"/>
              <a:ext cx="0" cy="1522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20960" y="2921040"/>
              <a:ext cx="14475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268520" y="2463840"/>
              <a:ext cx="0" cy="4572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068480" y="2463480"/>
            <a:ext cx="2743200" cy="1981440"/>
            <a:chOff x="1068480" y="2463480"/>
            <a:chExt cx="2743200" cy="1981440"/>
          </a:xfrm>
        </p:grpSpPr>
        <p:sp>
          <p:nvSpPr>
            <p:cNvPr id="132" name=""/>
            <p:cNvSpPr/>
            <p:nvPr/>
          </p:nvSpPr>
          <p:spPr>
            <a:xfrm flipH="1">
              <a:off x="1068480" y="2768760"/>
              <a:ext cx="27432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68480" y="2768760"/>
              <a:ext cx="0" cy="16761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811680" y="2463480"/>
              <a:ext cx="0" cy="304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2592000" y="2387520"/>
            <a:ext cx="762120" cy="762120"/>
            <a:chOff x="2592000" y="2387520"/>
            <a:chExt cx="762120" cy="762120"/>
          </a:xfrm>
        </p:grpSpPr>
        <p:sp>
          <p:nvSpPr>
            <p:cNvPr id="136" name=""/>
            <p:cNvSpPr/>
            <p:nvPr/>
          </p:nvSpPr>
          <p:spPr>
            <a:xfrm flipH="1">
              <a:off x="2592000" y="2387520"/>
              <a:ext cx="76212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2360" y="2387520"/>
              <a:ext cx="0" cy="7621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839520" y="2311560"/>
            <a:ext cx="2514600" cy="2133360"/>
            <a:chOff x="839520" y="2311560"/>
            <a:chExt cx="2514600" cy="2133360"/>
          </a:xfrm>
        </p:grpSpPr>
        <p:sp>
          <p:nvSpPr>
            <p:cNvPr id="139" name=""/>
            <p:cNvSpPr/>
            <p:nvPr/>
          </p:nvSpPr>
          <p:spPr>
            <a:xfrm flipH="1">
              <a:off x="839520" y="2311560"/>
              <a:ext cx="251460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9880" y="2311560"/>
              <a:ext cx="0" cy="2133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125880" y="383544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82880" y="383544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10080" y="2438280"/>
            <a:ext cx="0" cy="2019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35280" y="23104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Comic Sans MS"/>
              </a:rPr>
              <a:t>Commun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774040" y="24246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Comic Sans MS"/>
              </a:rPr>
              <a:t>Commun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3623400" y="35200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Comic Sans MS"/>
              </a:rPr>
              <a:t>Commun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354480" y="1092240"/>
            <a:ext cx="2286000" cy="1617480"/>
            <a:chOff x="3354480" y="1092240"/>
            <a:chExt cx="2286000" cy="1617480"/>
          </a:xfrm>
        </p:grpSpPr>
        <p:sp>
          <p:nvSpPr>
            <p:cNvPr id="148" name=""/>
            <p:cNvSpPr/>
            <p:nvPr/>
          </p:nvSpPr>
          <p:spPr>
            <a:xfrm>
              <a:off x="3354480" y="1658880"/>
              <a:ext cx="2286000" cy="1050840"/>
            </a:xfrm>
            <a:prstGeom prst="rect">
              <a:avLst/>
            </a:prstGeom>
            <a:solidFill>
              <a:srgbClr val="0000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1092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49760" y="109224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976560" y="1180080"/>
            <a:ext cx="4047120" cy="407520"/>
            <a:chOff x="3976560" y="1180080"/>
            <a:chExt cx="4047120" cy="407520"/>
          </a:xfrm>
        </p:grpSpPr>
        <p:sp>
          <p:nvSpPr>
            <p:cNvPr id="152" name=""/>
            <p:cNvSpPr/>
            <p:nvPr/>
          </p:nvSpPr>
          <p:spPr>
            <a:xfrm>
              <a:off x="3976560" y="1359000"/>
              <a:ext cx="1067040" cy="228600"/>
            </a:xfrm>
            <a:prstGeom prst="ellipse">
              <a:avLst/>
            </a:prstGeom>
            <a:noFill/>
            <a:ln w="28440">
              <a:solidFill>
                <a:srgbClr val="660066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70160" y="1180080"/>
              <a:ext cx="30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limentation normale et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cour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043600" y="1511280"/>
              <a:ext cx="259056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50840" y="5562360"/>
            <a:ext cx="1627200" cy="834840"/>
            <a:chOff x="150840" y="5562360"/>
            <a:chExt cx="1627200" cy="834840"/>
          </a:xfrm>
        </p:grpSpPr>
        <p:sp>
          <p:nvSpPr>
            <p:cNvPr id="156" name=""/>
            <p:cNvSpPr/>
            <p:nvPr/>
          </p:nvSpPr>
          <p:spPr>
            <a:xfrm>
              <a:off x="150840" y="5725080"/>
              <a:ext cx="162720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ystèmes illustra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s différen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ois de coupl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877680" y="5143320"/>
              <a:ext cx="152280" cy="9903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6643800" y="5587560"/>
            <a:ext cx="990360" cy="622080"/>
            <a:chOff x="6643800" y="5587560"/>
            <a:chExt cx="990360" cy="622080"/>
          </a:xfrm>
        </p:grpSpPr>
        <p:sp>
          <p:nvSpPr>
            <p:cNvPr id="159" name=""/>
            <p:cNvSpPr/>
            <p:nvPr/>
          </p:nvSpPr>
          <p:spPr>
            <a:xfrm>
              <a:off x="6718320" y="5750640"/>
              <a:ext cx="79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lai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7062840" y="5168520"/>
              <a:ext cx="152280" cy="9903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461920" y="5589360"/>
            <a:ext cx="1003680" cy="622080"/>
            <a:chOff x="5461920" y="5589360"/>
            <a:chExt cx="1003680" cy="622080"/>
          </a:xfrm>
        </p:grpSpPr>
        <p:sp>
          <p:nvSpPr>
            <p:cNvPr id="162" name=""/>
            <p:cNvSpPr/>
            <p:nvPr/>
          </p:nvSpPr>
          <p:spPr>
            <a:xfrm>
              <a:off x="5461920" y="5752440"/>
              <a:ext cx="99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utonom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16200000">
              <a:off x="5894280" y="5170320"/>
              <a:ext cx="152280" cy="9903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7773840" y="5587560"/>
            <a:ext cx="990360" cy="615600"/>
            <a:chOff x="7773840" y="5587560"/>
            <a:chExt cx="990360" cy="615600"/>
          </a:xfrm>
        </p:grpSpPr>
        <p:sp>
          <p:nvSpPr>
            <p:cNvPr id="165" name=""/>
            <p:cNvSpPr/>
            <p:nvPr/>
          </p:nvSpPr>
          <p:spPr>
            <a:xfrm>
              <a:off x="7924680" y="5744160"/>
              <a:ext cx="79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lai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8192880" y="5168520"/>
              <a:ext cx="152280" cy="9903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601640" y="5587560"/>
            <a:ext cx="2209680" cy="825120"/>
            <a:chOff x="1601640" y="5587560"/>
            <a:chExt cx="2209680" cy="825120"/>
          </a:xfrm>
        </p:grpSpPr>
        <p:sp>
          <p:nvSpPr>
            <p:cNvPr id="168" name=""/>
            <p:cNvSpPr/>
            <p:nvPr/>
          </p:nvSpPr>
          <p:spPr>
            <a:xfrm>
              <a:off x="1972080" y="5771160"/>
              <a:ext cx="1572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ystèmes 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 de produc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 chauffage indu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2630160" y="4558680"/>
              <a:ext cx="152280" cy="22096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57600 h 2209680"/>
                <a:gd name="textAreaBottom" fmla="*/ 215208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200480" y="5587560"/>
            <a:ext cx="1165320" cy="828360"/>
            <a:chOff x="4200480" y="5587560"/>
            <a:chExt cx="1165320" cy="828360"/>
          </a:xfrm>
        </p:grpSpPr>
        <p:sp>
          <p:nvSpPr>
            <p:cNvPr id="171" name=""/>
            <p:cNvSpPr/>
            <p:nvPr/>
          </p:nvSpPr>
          <p:spPr>
            <a:xfrm rot="16200000">
              <a:off x="4687920" y="516816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200480" y="5774400"/>
              <a:ext cx="1165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Zone Ateli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(Cana. Préfa.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Locau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6456600" y="21420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BAC  ELE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104320" y="1154880"/>
            <a:ext cx="0" cy="546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69280" y="1701720"/>
            <a:ext cx="1320840" cy="749520"/>
          </a:xfrm>
          <a:prstGeom prst="rect">
            <a:avLst/>
          </a:prstGeom>
          <a:solidFill>
            <a:srgbClr val="ff505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mo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Brass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7563240" y="2476440"/>
            <a:ext cx="1287000" cy="892440"/>
            <a:chOff x="7563240" y="2476440"/>
            <a:chExt cx="1287000" cy="892440"/>
          </a:xfrm>
        </p:grpSpPr>
        <p:sp>
          <p:nvSpPr>
            <p:cNvPr id="177" name=""/>
            <p:cNvSpPr/>
            <p:nvPr/>
          </p:nvSpPr>
          <p:spPr>
            <a:xfrm>
              <a:off x="7563240" y="2635560"/>
              <a:ext cx="1287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66"/>
                  </a:solidFill>
                  <a:latin typeface="Arial"/>
                </a:rPr>
                <a:t>Lign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66"/>
                  </a:solidFill>
                  <a:latin typeface="Arial"/>
                </a:rPr>
                <a:t>informati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66"/>
                  </a:solidFill>
                  <a:latin typeface="Arial"/>
                </a:rPr>
                <a:t>téléphoni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8078400" y="2057400"/>
              <a:ext cx="152640" cy="99036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5003640" y="4984920"/>
            <a:ext cx="317520" cy="28548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130360" y="2438280"/>
            <a:ext cx="1879920" cy="2057400"/>
            <a:chOff x="5130360" y="2438280"/>
            <a:chExt cx="1879920" cy="2057400"/>
          </a:xfrm>
        </p:grpSpPr>
        <p:sp>
          <p:nvSpPr>
            <p:cNvPr id="181" name=""/>
            <p:cNvSpPr/>
            <p:nvPr/>
          </p:nvSpPr>
          <p:spPr>
            <a:xfrm>
              <a:off x="5143680" y="2438280"/>
              <a:ext cx="0" cy="14623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5130360" y="3905280"/>
              <a:ext cx="18795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10280" y="3905280"/>
              <a:ext cx="0" cy="5904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5498640" y="2438280"/>
            <a:ext cx="2552760" cy="1994040"/>
            <a:chOff x="5498640" y="2438280"/>
            <a:chExt cx="2552760" cy="1994040"/>
          </a:xfrm>
        </p:grpSpPr>
        <p:sp>
          <p:nvSpPr>
            <p:cNvPr id="185" name=""/>
            <p:cNvSpPr/>
            <p:nvPr/>
          </p:nvSpPr>
          <p:spPr>
            <a:xfrm>
              <a:off x="5499000" y="2438280"/>
              <a:ext cx="0" cy="12542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5498640" y="3695760"/>
              <a:ext cx="25527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026560" y="3683160"/>
              <a:ext cx="0" cy="7491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638680" y="2209680"/>
            <a:ext cx="2675160" cy="2286000"/>
            <a:chOff x="5638680" y="2209680"/>
            <a:chExt cx="2675160" cy="2286000"/>
          </a:xfrm>
        </p:grpSpPr>
        <p:sp>
          <p:nvSpPr>
            <p:cNvPr id="189" name=""/>
            <p:cNvSpPr/>
            <p:nvPr/>
          </p:nvSpPr>
          <p:spPr>
            <a:xfrm>
              <a:off x="6515280" y="3435480"/>
              <a:ext cx="1798560" cy="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05920" y="3429000"/>
              <a:ext cx="0" cy="106668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638680" y="2209680"/>
              <a:ext cx="868320" cy="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507000" y="2209680"/>
              <a:ext cx="1800" cy="122580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5638680" y="2362320"/>
            <a:ext cx="1698840" cy="2085840"/>
            <a:chOff x="5638680" y="2362320"/>
            <a:chExt cx="1698840" cy="2085840"/>
          </a:xfrm>
        </p:grpSpPr>
        <p:sp>
          <p:nvSpPr>
            <p:cNvPr id="194" name=""/>
            <p:cNvSpPr/>
            <p:nvPr/>
          </p:nvSpPr>
          <p:spPr>
            <a:xfrm flipV="1">
              <a:off x="6095880" y="3562200"/>
              <a:ext cx="1231920" cy="648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4280" y="3578400"/>
              <a:ext cx="3240" cy="86976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638680" y="2362320"/>
              <a:ext cx="457200" cy="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5880" y="2362320"/>
              <a:ext cx="0" cy="120636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3238560" y="1650960"/>
            <a:ext cx="25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moire de distrib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.G.B.T Pédagogi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2209680"/>
            <a:ext cx="1917720" cy="444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stème de dialog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 commun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31000" y="1638360"/>
            <a:ext cx="1358640" cy="444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stè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 supervi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45160" y="2000160"/>
            <a:ext cx="2858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52280" y="152280"/>
            <a:ext cx="8763120" cy="63248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54160" y="1503360"/>
            <a:ext cx="8565840" cy="4890960"/>
            <a:chOff x="254160" y="1503360"/>
            <a:chExt cx="8565840" cy="4890960"/>
          </a:xfrm>
        </p:grpSpPr>
        <p:sp>
          <p:nvSpPr>
            <p:cNvPr id="204" name=""/>
            <p:cNvSpPr/>
            <p:nvPr/>
          </p:nvSpPr>
          <p:spPr>
            <a:xfrm>
              <a:off x="254160" y="1503360"/>
              <a:ext cx="8565840" cy="4890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4240" y="2025000"/>
              <a:ext cx="1503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mic Sans MS"/>
                </a:rPr>
                <a:t>Espac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mic Sans MS"/>
                </a:rPr>
                <a:t>pédagogiqu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114800" y="4419720"/>
            <a:ext cx="990720" cy="1066680"/>
          </a:xfrm>
          <a:prstGeom prst="rect">
            <a:avLst/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mo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lai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257800" y="4419720"/>
            <a:ext cx="1066680" cy="1066680"/>
          </a:xfrm>
          <a:prstGeom prst="rect">
            <a:avLst/>
          </a:prstGeom>
          <a:solidFill>
            <a:srgbClr val="00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mo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ar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endi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4419720"/>
            <a:ext cx="990360" cy="1066680"/>
          </a:xfrm>
          <a:prstGeom prst="rect">
            <a:avLst/>
          </a:prstGeom>
          <a:solidFill>
            <a:srgbClr val="3333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moir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ystèm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762080" y="2425680"/>
            <a:ext cx="902160" cy="1968480"/>
            <a:chOff x="4762080" y="2425680"/>
            <a:chExt cx="902160" cy="1968480"/>
          </a:xfrm>
        </p:grpSpPr>
        <p:sp>
          <p:nvSpPr>
            <p:cNvPr id="210" name=""/>
            <p:cNvSpPr/>
            <p:nvPr/>
          </p:nvSpPr>
          <p:spPr>
            <a:xfrm>
              <a:off x="4762440" y="2425680"/>
              <a:ext cx="0" cy="15746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762080" y="4012920"/>
              <a:ext cx="9018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664240" y="4000320"/>
              <a:ext cx="0" cy="3938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" y="228600"/>
            <a:ext cx="8534520" cy="1143000"/>
            <a:chOff x="228600" y="228600"/>
            <a:chExt cx="8534520" cy="1143000"/>
          </a:xfrm>
        </p:grpSpPr>
        <p:sp>
          <p:nvSpPr>
            <p:cNvPr id="214" name=""/>
            <p:cNvSpPr/>
            <p:nvPr/>
          </p:nvSpPr>
          <p:spPr>
            <a:xfrm>
              <a:off x="228600" y="228600"/>
              <a:ext cx="8534520" cy="1143000"/>
            </a:xfrm>
            <a:prstGeom prst="rect">
              <a:avLst/>
            </a:prstGeom>
            <a:solidFill>
              <a:srgbClr val="00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51480" y="533520"/>
              <a:ext cx="317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mic Sans MS"/>
                </a:rPr>
                <a:t>Installation sous l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mic Sans MS"/>
                </a:rPr>
                <a:t>responsabilité de l ’établisse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124080" y="228600"/>
            <a:ext cx="2362320" cy="838080"/>
            <a:chOff x="3124080" y="228600"/>
            <a:chExt cx="2362320" cy="838080"/>
          </a:xfrm>
        </p:grpSpPr>
        <p:sp>
          <p:nvSpPr>
            <p:cNvPr id="217" name=""/>
            <p:cNvSpPr/>
            <p:nvPr/>
          </p:nvSpPr>
          <p:spPr>
            <a:xfrm>
              <a:off x="3124080" y="533520"/>
              <a:ext cx="2362320" cy="533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moire de distribu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267080" y="304920"/>
              <a:ext cx="76320" cy="2286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0033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44120" y="228600"/>
              <a:ext cx="75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Times New Roman"/>
                </a:rPr>
                <a:t>T.G.B.T</a:t>
              </a: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6477120" y="4419720"/>
            <a:ext cx="990360" cy="1066680"/>
          </a:xfrm>
          <a:prstGeom prst="rect">
            <a:avLst/>
          </a:prstGeom>
          <a:solidFill>
            <a:srgbClr val="cc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mo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clair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sécurité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0120" y="4419720"/>
            <a:ext cx="990360" cy="106668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rmo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ru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ô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 ’accè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748800" y="2437920"/>
            <a:ext cx="2768760" cy="1981800"/>
            <a:chOff x="748800" y="2437920"/>
            <a:chExt cx="2768760" cy="1981800"/>
          </a:xfrm>
        </p:grpSpPr>
        <p:sp>
          <p:nvSpPr>
            <p:cNvPr id="223" name=""/>
            <p:cNvSpPr/>
            <p:nvPr/>
          </p:nvSpPr>
          <p:spPr>
            <a:xfrm flipH="1">
              <a:off x="748800" y="2743200"/>
              <a:ext cx="276876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9160" y="2743200"/>
              <a:ext cx="0" cy="16765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3492360" y="2437920"/>
              <a:ext cx="0" cy="30492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1717920" y="19594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Comic Sans MS"/>
              </a:rPr>
              <a:t>Commun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696280" y="314856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Comic Sans MS"/>
              </a:rPr>
              <a:t>Commun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200400" y="1066680"/>
            <a:ext cx="2374920" cy="1575000"/>
            <a:chOff x="3200400" y="1066680"/>
            <a:chExt cx="2374920" cy="1575000"/>
          </a:xfrm>
        </p:grpSpPr>
        <p:sp>
          <p:nvSpPr>
            <p:cNvPr id="229" name=""/>
            <p:cNvSpPr/>
            <p:nvPr/>
          </p:nvSpPr>
          <p:spPr>
            <a:xfrm>
              <a:off x="3200400" y="1612800"/>
              <a:ext cx="2374920" cy="1028880"/>
            </a:xfrm>
            <a:prstGeom prst="rect">
              <a:avLst/>
            </a:prstGeom>
            <a:solidFill>
              <a:srgbClr val="0000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91120" y="10666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495680" y="106668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48040" y="1021320"/>
            <a:ext cx="3819600" cy="502200"/>
            <a:chOff x="3848040" y="1021320"/>
            <a:chExt cx="3819600" cy="502200"/>
          </a:xfrm>
        </p:grpSpPr>
        <p:sp>
          <p:nvSpPr>
            <p:cNvPr id="233" name=""/>
            <p:cNvSpPr/>
            <p:nvPr/>
          </p:nvSpPr>
          <p:spPr>
            <a:xfrm>
              <a:off x="3848040" y="1295280"/>
              <a:ext cx="1066680" cy="228240"/>
            </a:xfrm>
            <a:prstGeom prst="ellipse">
              <a:avLst/>
            </a:prstGeom>
            <a:noFill/>
            <a:ln w="28440">
              <a:solidFill>
                <a:srgbClr val="660066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67360" y="1021320"/>
              <a:ext cx="2600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Alimentation normale et secouru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4914360" y="1447560"/>
              <a:ext cx="2590920" cy="0"/>
            </a:xfrm>
            <a:prstGeom prst="line">
              <a:avLst/>
            </a:prstGeom>
            <a:ln w="12600">
              <a:solidFill>
                <a:srgbClr val="66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79720" y="5562360"/>
            <a:ext cx="1015560" cy="839520"/>
            <a:chOff x="279720" y="5562360"/>
            <a:chExt cx="1015560" cy="839520"/>
          </a:xfrm>
        </p:grpSpPr>
        <p:sp>
          <p:nvSpPr>
            <p:cNvPr id="237" name=""/>
            <p:cNvSpPr/>
            <p:nvPr/>
          </p:nvSpPr>
          <p:spPr>
            <a:xfrm>
              <a:off x="279720" y="5729760"/>
              <a:ext cx="93960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Systèm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T= cs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et T= k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6200000">
              <a:off x="723960" y="5143320"/>
              <a:ext cx="152280" cy="9903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229000" y="5562360"/>
            <a:ext cx="1181880" cy="820440"/>
            <a:chOff x="5229000" y="5562360"/>
            <a:chExt cx="1181880" cy="820440"/>
          </a:xfrm>
        </p:grpSpPr>
        <p:sp>
          <p:nvSpPr>
            <p:cNvPr id="240" name=""/>
            <p:cNvSpPr/>
            <p:nvPr/>
          </p:nvSpPr>
          <p:spPr>
            <a:xfrm>
              <a:off x="5229000" y="5741280"/>
              <a:ext cx="1181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ressa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senfum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5753160" y="5143320"/>
              <a:ext cx="152280" cy="9903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6477120" y="5562360"/>
            <a:ext cx="990360" cy="641160"/>
            <a:chOff x="6477120" y="5562360"/>
            <a:chExt cx="990360" cy="641160"/>
          </a:xfrm>
        </p:grpSpPr>
        <p:sp>
          <p:nvSpPr>
            <p:cNvPr id="243" name=""/>
            <p:cNvSpPr/>
            <p:nvPr/>
          </p:nvSpPr>
          <p:spPr>
            <a:xfrm>
              <a:off x="6583320" y="5744520"/>
              <a:ext cx="792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6200000">
              <a:off x="6896160" y="5143320"/>
              <a:ext cx="152280" cy="9903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620120" y="5562360"/>
            <a:ext cx="990360" cy="807840"/>
            <a:chOff x="7620120" y="5562360"/>
            <a:chExt cx="990360" cy="807840"/>
          </a:xfrm>
        </p:grpSpPr>
        <p:sp>
          <p:nvSpPr>
            <p:cNvPr id="246" name=""/>
            <p:cNvSpPr/>
            <p:nvPr/>
          </p:nvSpPr>
          <p:spPr>
            <a:xfrm>
              <a:off x="7770960" y="5728680"/>
              <a:ext cx="7920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ra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à bus +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ad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6200000">
              <a:off x="8039160" y="5143320"/>
              <a:ext cx="152280" cy="9903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1600200" y="4432320"/>
            <a:ext cx="990720" cy="1066680"/>
          </a:xfrm>
          <a:prstGeom prst="rect">
            <a:avLst/>
          </a:prstGeom>
          <a:solidFill>
            <a:srgbClr val="9900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Armo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Climati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-s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933640" y="4444920"/>
            <a:ext cx="990720" cy="1067040"/>
          </a:xfrm>
          <a:prstGeom prst="rect">
            <a:avLst/>
          </a:prstGeom>
          <a:solidFill>
            <a:srgbClr val="99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mo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uff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Ventil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504960" y="2432160"/>
            <a:ext cx="647640" cy="2012760"/>
            <a:chOff x="3504960" y="2432160"/>
            <a:chExt cx="647640" cy="2012760"/>
          </a:xfrm>
        </p:grpSpPr>
        <p:sp>
          <p:nvSpPr>
            <p:cNvPr id="251" name=""/>
            <p:cNvSpPr/>
            <p:nvPr/>
          </p:nvSpPr>
          <p:spPr>
            <a:xfrm>
              <a:off x="4140360" y="2432160"/>
              <a:ext cx="0" cy="157788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3504960" y="3990960"/>
              <a:ext cx="647640" cy="126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06760" y="3990960"/>
              <a:ext cx="0" cy="4539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2043000" y="2440080"/>
            <a:ext cx="1787400" cy="1974240"/>
            <a:chOff x="2043000" y="2440080"/>
            <a:chExt cx="1787400" cy="1974240"/>
          </a:xfrm>
        </p:grpSpPr>
        <p:sp>
          <p:nvSpPr>
            <p:cNvPr id="255" name=""/>
            <p:cNvSpPr/>
            <p:nvPr/>
          </p:nvSpPr>
          <p:spPr>
            <a:xfrm flipV="1">
              <a:off x="2043000" y="3271680"/>
              <a:ext cx="0" cy="11426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43000" y="3268440"/>
              <a:ext cx="1787400" cy="122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3808440" y="2440080"/>
              <a:ext cx="0" cy="8409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600200" y="5562360"/>
            <a:ext cx="990720" cy="641160"/>
            <a:chOff x="1600200" y="5562360"/>
            <a:chExt cx="990720" cy="641160"/>
          </a:xfrm>
        </p:grpSpPr>
        <p:sp>
          <p:nvSpPr>
            <p:cNvPr id="259" name=""/>
            <p:cNvSpPr/>
            <p:nvPr/>
          </p:nvSpPr>
          <p:spPr>
            <a:xfrm rot="16200000">
              <a:off x="2019240" y="5142960"/>
              <a:ext cx="152280" cy="9907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74000" y="5744520"/>
              <a:ext cx="810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ystè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 = k n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2805480" y="5571720"/>
            <a:ext cx="1258200" cy="826920"/>
            <a:chOff x="2805480" y="5571720"/>
            <a:chExt cx="1258200" cy="826920"/>
          </a:xfrm>
        </p:grpSpPr>
        <p:sp>
          <p:nvSpPr>
            <p:cNvPr id="262" name=""/>
            <p:cNvSpPr/>
            <p:nvPr/>
          </p:nvSpPr>
          <p:spPr>
            <a:xfrm rot="16200000">
              <a:off x="3362400" y="5152680"/>
              <a:ext cx="152280" cy="9903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05480" y="5757120"/>
              <a:ext cx="1258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érother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diateur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mmunicant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052880" y="5574960"/>
            <a:ext cx="1165320" cy="841320"/>
            <a:chOff x="4052880" y="5574960"/>
            <a:chExt cx="1165320" cy="841320"/>
          </a:xfrm>
        </p:grpSpPr>
        <p:sp>
          <p:nvSpPr>
            <p:cNvPr id="265" name=""/>
            <p:cNvSpPr/>
            <p:nvPr/>
          </p:nvSpPr>
          <p:spPr>
            <a:xfrm>
              <a:off x="4052880" y="5774760"/>
              <a:ext cx="1165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Zone Ateli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(Cana. Préfa.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Locau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4559400" y="5155920"/>
              <a:ext cx="152280" cy="99036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7251840" y="1701720"/>
            <a:ext cx="1320840" cy="749520"/>
          </a:xfrm>
          <a:prstGeom prst="rect">
            <a:avLst/>
          </a:prstGeom>
          <a:solidFill>
            <a:srgbClr val="ff505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rmoi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 Brass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86880" y="1154880"/>
            <a:ext cx="0" cy="546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7345800" y="2476440"/>
            <a:ext cx="1287000" cy="892440"/>
            <a:chOff x="7345800" y="2476440"/>
            <a:chExt cx="1287000" cy="892440"/>
          </a:xfrm>
        </p:grpSpPr>
        <p:sp>
          <p:nvSpPr>
            <p:cNvPr id="270" name=""/>
            <p:cNvSpPr/>
            <p:nvPr/>
          </p:nvSpPr>
          <p:spPr>
            <a:xfrm>
              <a:off x="7345800" y="2635560"/>
              <a:ext cx="1287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66"/>
                  </a:solidFill>
                  <a:latin typeface="Arial"/>
                </a:rPr>
                <a:t>Lign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66"/>
                  </a:solidFill>
                  <a:latin typeface="Arial"/>
                </a:rPr>
                <a:t>informati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66"/>
                  </a:solidFill>
                  <a:latin typeface="Arial"/>
                </a:rPr>
                <a:t>téléphoniqu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7860960" y="2057400"/>
              <a:ext cx="152640" cy="99036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067360" y="2413080"/>
            <a:ext cx="1625400" cy="2028600"/>
            <a:chOff x="5067360" y="2413080"/>
            <a:chExt cx="1625400" cy="2028600"/>
          </a:xfrm>
        </p:grpSpPr>
        <p:sp>
          <p:nvSpPr>
            <p:cNvPr id="273" name=""/>
            <p:cNvSpPr/>
            <p:nvPr/>
          </p:nvSpPr>
          <p:spPr>
            <a:xfrm>
              <a:off x="6689880" y="3798720"/>
              <a:ext cx="0" cy="6429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5079960" y="3801960"/>
              <a:ext cx="161280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5067360" y="2413080"/>
              <a:ext cx="0" cy="140184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6805800" y="18900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BAC  ELE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520" y="-57600"/>
            <a:ext cx="2533320" cy="2120040"/>
            <a:chOff x="2520" y="-57600"/>
            <a:chExt cx="2533320" cy="2120040"/>
          </a:xfrm>
        </p:grpSpPr>
        <p:sp>
          <p:nvSpPr>
            <p:cNvPr id="278" name=""/>
            <p:cNvSpPr/>
            <p:nvPr/>
          </p:nvSpPr>
          <p:spPr>
            <a:xfrm rot="19425000">
              <a:off x="0" y="609120"/>
              <a:ext cx="2476440" cy="7621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9425000">
              <a:off x="-43200" y="650160"/>
              <a:ext cx="262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Champ d’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ERTIAIR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470480" y="2451240"/>
            <a:ext cx="0" cy="198108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372280" y="2387520"/>
            <a:ext cx="2577960" cy="2054160"/>
            <a:chOff x="5372280" y="2387520"/>
            <a:chExt cx="2577960" cy="2054160"/>
          </a:xfrm>
        </p:grpSpPr>
        <p:sp>
          <p:nvSpPr>
            <p:cNvPr id="282" name=""/>
            <p:cNvSpPr/>
            <p:nvPr/>
          </p:nvSpPr>
          <p:spPr>
            <a:xfrm>
              <a:off x="7945560" y="3583080"/>
              <a:ext cx="0" cy="8586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5392800" y="3584520"/>
              <a:ext cx="255744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5372280" y="2387520"/>
              <a:ext cx="0" cy="12081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5483160" y="2184480"/>
            <a:ext cx="2652480" cy="2286000"/>
            <a:chOff x="5483160" y="2184480"/>
            <a:chExt cx="2652480" cy="2286000"/>
          </a:xfrm>
        </p:grpSpPr>
        <p:sp>
          <p:nvSpPr>
            <p:cNvPr id="286" name=""/>
            <p:cNvSpPr/>
            <p:nvPr/>
          </p:nvSpPr>
          <p:spPr>
            <a:xfrm>
              <a:off x="5706000" y="3409920"/>
              <a:ext cx="2429640" cy="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24840" y="3403440"/>
              <a:ext cx="0" cy="106704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5483160" y="2184480"/>
              <a:ext cx="211680" cy="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694840" y="2184480"/>
              <a:ext cx="1080" cy="122544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5981760" y="3416400"/>
            <a:ext cx="0" cy="1003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913120" y="2260440"/>
            <a:ext cx="1806480" cy="2184480"/>
            <a:chOff x="2913120" y="2260440"/>
            <a:chExt cx="1806480" cy="2184480"/>
          </a:xfrm>
        </p:grpSpPr>
        <p:sp>
          <p:nvSpPr>
            <p:cNvPr id="292" name=""/>
            <p:cNvSpPr/>
            <p:nvPr/>
          </p:nvSpPr>
          <p:spPr>
            <a:xfrm>
              <a:off x="2921040" y="4184640"/>
              <a:ext cx="1798560" cy="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11680" y="4178160"/>
              <a:ext cx="0" cy="26676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13120" y="2260440"/>
              <a:ext cx="1440" cy="193680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4191120"/>
            <a:ext cx="0" cy="2538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69840" y="2233080"/>
            <a:ext cx="2274480" cy="2221200"/>
            <a:chOff x="969840" y="2233080"/>
            <a:chExt cx="2274480" cy="2221200"/>
          </a:xfrm>
        </p:grpSpPr>
        <p:sp>
          <p:nvSpPr>
            <p:cNvPr id="297" name=""/>
            <p:cNvSpPr/>
            <p:nvPr/>
          </p:nvSpPr>
          <p:spPr>
            <a:xfrm flipV="1">
              <a:off x="2342880" y="2233080"/>
              <a:ext cx="0" cy="159732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38200" y="2250360"/>
              <a:ext cx="906120" cy="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69840" y="3864600"/>
              <a:ext cx="1440" cy="58968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982440" y="3846240"/>
              <a:ext cx="1361520" cy="2880"/>
            </a:xfrm>
            <a:prstGeom prst="line">
              <a:avLst/>
            </a:prstGeom>
            <a:ln cap="sq"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2336760" y="3846600"/>
            <a:ext cx="0" cy="5950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441600" y="2165400"/>
            <a:ext cx="2019240" cy="444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stème de dialog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 communi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65760" y="1778040"/>
            <a:ext cx="1359000" cy="44460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stè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 supervi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124080" y="1612800"/>
            <a:ext cx="250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moire de distrib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.G.B.T Pédagogi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568840" y="2063880"/>
            <a:ext cx="20952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33520" y="228600"/>
            <a:ext cx="8381880" cy="64771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62320" y="380880"/>
            <a:ext cx="5562360" cy="5943600"/>
            <a:chOff x="2362320" y="380880"/>
            <a:chExt cx="5562360" cy="5943600"/>
          </a:xfrm>
        </p:grpSpPr>
        <p:sp>
          <p:nvSpPr>
            <p:cNvPr id="308" name=""/>
            <p:cNvSpPr/>
            <p:nvPr/>
          </p:nvSpPr>
          <p:spPr>
            <a:xfrm>
              <a:off x="2362320" y="380880"/>
              <a:ext cx="5562360" cy="5943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536440" y="396000"/>
              <a:ext cx="1782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one d’Interven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t Travaux : S = 300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2123640" y="291960"/>
            <a:ext cx="5867640" cy="6248520"/>
            <a:chOff x="2123640" y="291960"/>
            <a:chExt cx="5867640" cy="6248520"/>
          </a:xfrm>
        </p:grpSpPr>
        <p:sp>
          <p:nvSpPr>
            <p:cNvPr id="311" name=""/>
            <p:cNvSpPr/>
            <p:nvPr/>
          </p:nvSpPr>
          <p:spPr>
            <a:xfrm flipH="1" flipV="1">
              <a:off x="2123640" y="478728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76280" y="291960"/>
              <a:ext cx="5638680" cy="763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914960" y="291960"/>
              <a:ext cx="76320" cy="6095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53000" y="6311880"/>
              <a:ext cx="2438280" cy="75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05080" y="6311880"/>
              <a:ext cx="1066680" cy="75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419280" y="6311880"/>
              <a:ext cx="304920" cy="7596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76280" y="6311880"/>
              <a:ext cx="838080" cy="759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276280" y="5168880"/>
              <a:ext cx="76320" cy="12952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76280" y="3797280"/>
              <a:ext cx="76320" cy="8380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76280" y="291960"/>
              <a:ext cx="76320" cy="5335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19480" y="5930640"/>
              <a:ext cx="76320" cy="38124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190320" y="638784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876120" y="638784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5247720" y="6387840"/>
              <a:ext cx="30492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 flipV="1">
              <a:off x="3114360" y="6234480"/>
              <a:ext cx="1519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3724200" y="6234480"/>
              <a:ext cx="30384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171760" y="6234480"/>
              <a:ext cx="1519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124000" y="4635360"/>
              <a:ext cx="30384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2165040" y="327960"/>
            <a:ext cx="2057760" cy="1097640"/>
            <a:chOff x="2165040" y="327960"/>
            <a:chExt cx="2057760" cy="1097640"/>
          </a:xfrm>
        </p:grpSpPr>
        <p:sp>
          <p:nvSpPr>
            <p:cNvPr id="330" name=""/>
            <p:cNvSpPr/>
            <p:nvPr/>
          </p:nvSpPr>
          <p:spPr>
            <a:xfrm>
              <a:off x="2387520" y="358920"/>
              <a:ext cx="1524240" cy="9903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17680" y="1349280"/>
              <a:ext cx="1676520" cy="7632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17880" y="1273320"/>
              <a:ext cx="76320" cy="1522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17680" y="1273320"/>
              <a:ext cx="76320" cy="7596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17880" y="358920"/>
              <a:ext cx="76320" cy="6094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165040" y="81612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994200" y="96840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2165400" y="1119960"/>
              <a:ext cx="30384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765960" y="1119960"/>
              <a:ext cx="4564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359800" y="327960"/>
              <a:ext cx="16498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cal d ’accès réservé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x électrici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317680" y="5028840"/>
            <a:ext cx="1339920" cy="1295640"/>
            <a:chOff x="2317680" y="5028840"/>
            <a:chExt cx="1339920" cy="1295640"/>
          </a:xfrm>
        </p:grpSpPr>
        <p:sp>
          <p:nvSpPr>
            <p:cNvPr id="341" name=""/>
            <p:cNvSpPr/>
            <p:nvPr/>
          </p:nvSpPr>
          <p:spPr>
            <a:xfrm>
              <a:off x="2361960" y="5257800"/>
              <a:ext cx="609840" cy="7596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29000" y="5257800"/>
              <a:ext cx="152280" cy="7596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581280" y="5105160"/>
              <a:ext cx="76320" cy="12193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 flipV="1">
              <a:off x="3123720" y="5028840"/>
              <a:ext cx="3049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2971800" y="5029200"/>
              <a:ext cx="303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361960" y="5333760"/>
              <a:ext cx="1219320" cy="990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17680" y="5363280"/>
              <a:ext cx="67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cuei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664080" y="5029200"/>
            <a:ext cx="1295280" cy="1295280"/>
            <a:chOff x="3664080" y="5029200"/>
            <a:chExt cx="1295280" cy="1295280"/>
          </a:xfrm>
        </p:grpSpPr>
        <p:sp>
          <p:nvSpPr>
            <p:cNvPr id="349" name=""/>
            <p:cNvSpPr/>
            <p:nvPr/>
          </p:nvSpPr>
          <p:spPr>
            <a:xfrm>
              <a:off x="3664080" y="5029200"/>
              <a:ext cx="1295280" cy="12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40760" y="5439600"/>
              <a:ext cx="111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pace étu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445360" y="5029200"/>
            <a:ext cx="2476440" cy="1294920"/>
            <a:chOff x="5445360" y="5029200"/>
            <a:chExt cx="2476440" cy="1294920"/>
          </a:xfrm>
        </p:grpSpPr>
        <p:sp>
          <p:nvSpPr>
            <p:cNvPr id="352" name=""/>
            <p:cNvSpPr/>
            <p:nvPr/>
          </p:nvSpPr>
          <p:spPr>
            <a:xfrm>
              <a:off x="5712120" y="5029200"/>
              <a:ext cx="2209680" cy="7596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12120" y="5105160"/>
              <a:ext cx="75960" cy="38052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12120" y="5943240"/>
              <a:ext cx="75960" cy="3808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5559480" y="5562000"/>
              <a:ext cx="152640" cy="38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5559480" y="5486040"/>
              <a:ext cx="304560" cy="151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788080" y="5105160"/>
              <a:ext cx="2133720" cy="1218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445360" y="5531760"/>
              <a:ext cx="139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lot IT 20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648320" y="3733920"/>
            <a:ext cx="1447560" cy="838080"/>
            <a:chOff x="4648320" y="3733920"/>
            <a:chExt cx="1447560" cy="838080"/>
          </a:xfrm>
        </p:grpSpPr>
        <p:sp>
          <p:nvSpPr>
            <p:cNvPr id="360" name=""/>
            <p:cNvSpPr/>
            <p:nvPr/>
          </p:nvSpPr>
          <p:spPr>
            <a:xfrm>
              <a:off x="4648320" y="3733920"/>
              <a:ext cx="1447560" cy="83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03200" y="3915720"/>
              <a:ext cx="930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è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°1 : 10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6477120" y="3733920"/>
            <a:ext cx="1371600" cy="838080"/>
            <a:chOff x="6477120" y="3733920"/>
            <a:chExt cx="1371600" cy="838080"/>
          </a:xfrm>
        </p:grpSpPr>
        <p:sp>
          <p:nvSpPr>
            <p:cNvPr id="363" name=""/>
            <p:cNvSpPr/>
            <p:nvPr/>
          </p:nvSpPr>
          <p:spPr>
            <a:xfrm>
              <a:off x="6477120" y="3733920"/>
              <a:ext cx="1371600" cy="838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04120" y="3839040"/>
              <a:ext cx="930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è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°2 : 10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6553080" y="2362320"/>
            <a:ext cx="1295640" cy="1066680"/>
            <a:chOff x="6553080" y="2362320"/>
            <a:chExt cx="1295640" cy="1066680"/>
          </a:xfrm>
        </p:grpSpPr>
        <p:sp>
          <p:nvSpPr>
            <p:cNvPr id="366" name=""/>
            <p:cNvSpPr/>
            <p:nvPr/>
          </p:nvSpPr>
          <p:spPr>
            <a:xfrm>
              <a:off x="6553080" y="2362320"/>
              <a:ext cx="1295640" cy="1066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56400" y="2620080"/>
              <a:ext cx="930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è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°3 : 11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6629400" y="1066680"/>
            <a:ext cx="1219320" cy="1143000"/>
            <a:chOff x="6629400" y="1066680"/>
            <a:chExt cx="1219320" cy="1143000"/>
          </a:xfrm>
        </p:grpSpPr>
        <p:sp>
          <p:nvSpPr>
            <p:cNvPr id="369" name=""/>
            <p:cNvSpPr/>
            <p:nvPr/>
          </p:nvSpPr>
          <p:spPr>
            <a:xfrm>
              <a:off x="6629400" y="1066680"/>
              <a:ext cx="1219320" cy="11430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656400" y="1401120"/>
              <a:ext cx="930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è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°4 : 12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419720" y="1066680"/>
            <a:ext cx="1828800" cy="2514600"/>
            <a:chOff x="4419720" y="1066680"/>
            <a:chExt cx="1828800" cy="2514600"/>
          </a:xfrm>
        </p:grpSpPr>
        <p:sp>
          <p:nvSpPr>
            <p:cNvPr id="372" name=""/>
            <p:cNvSpPr/>
            <p:nvPr/>
          </p:nvSpPr>
          <p:spPr>
            <a:xfrm>
              <a:off x="4419720" y="1066680"/>
              <a:ext cx="1828800" cy="25146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86280" y="2177280"/>
              <a:ext cx="971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one 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épa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5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2362320" y="1752480"/>
            <a:ext cx="1752480" cy="1828800"/>
            <a:chOff x="2362320" y="1752480"/>
            <a:chExt cx="1752480" cy="1828800"/>
          </a:xfrm>
        </p:grpSpPr>
        <p:sp>
          <p:nvSpPr>
            <p:cNvPr id="375" name=""/>
            <p:cNvSpPr/>
            <p:nvPr/>
          </p:nvSpPr>
          <p:spPr>
            <a:xfrm>
              <a:off x="2362320" y="1752480"/>
              <a:ext cx="1752480" cy="182880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68320" y="2329560"/>
              <a:ext cx="12171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o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s systèm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895480" y="532080"/>
            <a:ext cx="2636280" cy="534600"/>
            <a:chOff x="2895480" y="532080"/>
            <a:chExt cx="2636280" cy="534600"/>
          </a:xfrm>
        </p:grpSpPr>
        <p:sp>
          <p:nvSpPr>
            <p:cNvPr id="378" name=""/>
            <p:cNvSpPr/>
            <p:nvPr/>
          </p:nvSpPr>
          <p:spPr>
            <a:xfrm>
              <a:off x="2895480" y="838080"/>
              <a:ext cx="609480" cy="228600"/>
            </a:xfrm>
            <a:prstGeom prst="rect">
              <a:avLst/>
            </a:prstGeom>
            <a:solidFill>
              <a:srgbClr val="0000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61880" y="532080"/>
              <a:ext cx="146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Armoire Secteu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Bac. Pro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3580920" y="838080"/>
              <a:ext cx="609480" cy="763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866920" y="1523880"/>
            <a:ext cx="1905120" cy="2666880"/>
            <a:chOff x="5866920" y="1523880"/>
            <a:chExt cx="1905120" cy="2666880"/>
          </a:xfrm>
        </p:grpSpPr>
        <p:sp>
          <p:nvSpPr>
            <p:cNvPr id="382" name=""/>
            <p:cNvSpPr/>
            <p:nvPr/>
          </p:nvSpPr>
          <p:spPr>
            <a:xfrm rot="10800000">
              <a:off x="7619400" y="1523880"/>
              <a:ext cx="152280" cy="45720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0800000">
              <a:off x="5866920" y="3733560"/>
              <a:ext cx="152280" cy="45720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19760" y="3733560"/>
              <a:ext cx="152280" cy="45720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19760" y="2743200"/>
              <a:ext cx="152280" cy="45720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696080" y="5211000"/>
            <a:ext cx="1131120" cy="732600"/>
            <a:chOff x="7696080" y="5211000"/>
            <a:chExt cx="1131120" cy="732600"/>
          </a:xfrm>
        </p:grpSpPr>
        <p:sp>
          <p:nvSpPr>
            <p:cNvPr id="387" name=""/>
            <p:cNvSpPr/>
            <p:nvPr/>
          </p:nvSpPr>
          <p:spPr>
            <a:xfrm>
              <a:off x="7696080" y="5410080"/>
              <a:ext cx="228600" cy="533520"/>
            </a:xfrm>
            <a:prstGeom prst="rect">
              <a:avLst/>
            </a:prstGeom>
            <a:solidFill>
              <a:srgbClr val="3333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12960" y="5211000"/>
              <a:ext cx="71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Armoi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Ilot : I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8000640" y="5638680"/>
              <a:ext cx="762120" cy="0"/>
            </a:xfrm>
            <a:prstGeom prst="line">
              <a:avLst/>
            </a:prstGeom>
            <a:ln w="64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-26280" y="-48600"/>
            <a:ext cx="2533320" cy="2120040"/>
            <a:chOff x="-26280" y="-48600"/>
            <a:chExt cx="2533320" cy="2120040"/>
          </a:xfrm>
        </p:grpSpPr>
        <p:sp>
          <p:nvSpPr>
            <p:cNvPr id="391" name=""/>
            <p:cNvSpPr/>
            <p:nvPr/>
          </p:nvSpPr>
          <p:spPr>
            <a:xfrm rot="19425000">
              <a:off x="41040" y="596520"/>
              <a:ext cx="2397240" cy="7621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9425000">
              <a:off x="-72000" y="659160"/>
              <a:ext cx="2625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Champ d’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INDUSTRI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3429000" y="380880"/>
            <a:ext cx="4419720" cy="5029200"/>
            <a:chOff x="3429000" y="380880"/>
            <a:chExt cx="4419720" cy="5029200"/>
          </a:xfrm>
        </p:grpSpPr>
        <p:sp>
          <p:nvSpPr>
            <p:cNvPr id="394" name=""/>
            <p:cNvSpPr/>
            <p:nvPr/>
          </p:nvSpPr>
          <p:spPr>
            <a:xfrm>
              <a:off x="3429000" y="91440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4038480" y="380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38480" y="380880"/>
              <a:ext cx="3810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48720" y="380880"/>
              <a:ext cx="0" cy="502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3429000" y="457200"/>
            <a:ext cx="4267080" cy="3352680"/>
            <a:chOff x="3429000" y="457200"/>
            <a:chExt cx="4267080" cy="3352680"/>
          </a:xfrm>
        </p:grpSpPr>
        <p:sp>
          <p:nvSpPr>
            <p:cNvPr id="399" name=""/>
            <p:cNvSpPr/>
            <p:nvPr/>
          </p:nvSpPr>
          <p:spPr>
            <a:xfrm>
              <a:off x="3429000" y="99072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4114800" y="457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114800" y="457200"/>
              <a:ext cx="358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96080" y="457200"/>
              <a:ext cx="0" cy="3352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5943600" y="38098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1071360" y="5911200"/>
            <a:ext cx="1900440" cy="641520"/>
            <a:chOff x="1071360" y="5911200"/>
            <a:chExt cx="1900440" cy="641520"/>
          </a:xfrm>
        </p:grpSpPr>
        <p:sp>
          <p:nvSpPr>
            <p:cNvPr id="405" name=""/>
            <p:cNvSpPr/>
            <p:nvPr/>
          </p:nvSpPr>
          <p:spPr>
            <a:xfrm>
              <a:off x="2514600" y="6172200"/>
              <a:ext cx="457200" cy="1522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071360" y="5911200"/>
              <a:ext cx="810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Arial"/>
                </a:rPr>
                <a:t>Armoi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990000"/>
                  </a:solidFill>
                  <a:latin typeface="Arial"/>
                </a:rPr>
                <a:t>Intrus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5120" y="6248520"/>
              <a:ext cx="609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883800" y="5420520"/>
            <a:ext cx="2697480" cy="732600"/>
            <a:chOff x="883800" y="5420520"/>
            <a:chExt cx="2697480" cy="732600"/>
          </a:xfrm>
        </p:grpSpPr>
        <p:sp>
          <p:nvSpPr>
            <p:cNvPr id="409" name=""/>
            <p:cNvSpPr/>
            <p:nvPr/>
          </p:nvSpPr>
          <p:spPr>
            <a:xfrm rot="16200000">
              <a:off x="3276360" y="5848200"/>
              <a:ext cx="457200" cy="152280"/>
            </a:xfrm>
            <a:prstGeom prst="rect">
              <a:avLst/>
            </a:prstGeom>
            <a:solidFill>
              <a:srgbClr val="3366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83800" y="5420520"/>
              <a:ext cx="1285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Armoi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Arial"/>
                </a:rPr>
                <a:t>Alarme Incend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33720" y="5695920"/>
              <a:ext cx="1371600" cy="304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1185480" y="4642560"/>
            <a:ext cx="1684440" cy="824040"/>
            <a:chOff x="1185480" y="4642560"/>
            <a:chExt cx="1684440" cy="824040"/>
          </a:xfrm>
        </p:grpSpPr>
        <p:sp>
          <p:nvSpPr>
            <p:cNvPr id="413" name=""/>
            <p:cNvSpPr/>
            <p:nvPr/>
          </p:nvSpPr>
          <p:spPr>
            <a:xfrm>
              <a:off x="2412720" y="5099040"/>
              <a:ext cx="457200" cy="152280"/>
            </a:xfrm>
            <a:prstGeom prst="rect">
              <a:avLst/>
            </a:prstGeom>
            <a:solidFill>
              <a:srgbClr val="00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85480" y="4642560"/>
              <a:ext cx="10310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"/>
                </a:rPr>
                <a:t>Armoi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"/>
                </a:rPr>
                <a:t>Eclairage e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"/>
                </a:rPr>
                <a:t>Eclairage 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"/>
                </a:rPr>
                <a:t>sécurité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31840" y="5099040"/>
              <a:ext cx="380880" cy="75960"/>
            </a:xfrm>
            <a:prstGeom prst="line">
              <a:avLst/>
            </a:prstGeom>
            <a:ln w="64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2638440" y="3594960"/>
            <a:ext cx="1924200" cy="977040"/>
            <a:chOff x="2638440" y="3594960"/>
            <a:chExt cx="1924200" cy="977040"/>
          </a:xfrm>
        </p:grpSpPr>
        <p:sp>
          <p:nvSpPr>
            <p:cNvPr id="417" name=""/>
            <p:cNvSpPr/>
            <p:nvPr/>
          </p:nvSpPr>
          <p:spPr>
            <a:xfrm>
              <a:off x="2638440" y="3594960"/>
              <a:ext cx="1924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"/>
                </a:rPr>
                <a:t>Canalisation préfabriqué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2819520" y="3886200"/>
              <a:ext cx="1523880" cy="685800"/>
              <a:chOff x="2819520" y="3886200"/>
              <a:chExt cx="1523880" cy="685800"/>
            </a:xfrm>
          </p:grpSpPr>
          <p:sp>
            <p:nvSpPr>
              <p:cNvPr id="419" name=""/>
              <p:cNvSpPr/>
              <p:nvPr/>
            </p:nvSpPr>
            <p:spPr>
              <a:xfrm>
                <a:off x="2819520" y="3886200"/>
                <a:ext cx="1523880" cy="0"/>
              </a:xfrm>
              <a:prstGeom prst="line">
                <a:avLst/>
              </a:prstGeom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343400" y="3886200"/>
                <a:ext cx="0" cy="685800"/>
              </a:xfrm>
              <a:prstGeom prst="line">
                <a:avLst/>
              </a:prstGeom>
              <a:ln w="1260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"/>
          <p:cNvGrpSpPr/>
          <p:nvPr/>
        </p:nvGrpSpPr>
        <p:grpSpPr>
          <a:xfrm>
            <a:off x="5791320" y="5105160"/>
            <a:ext cx="1447560" cy="381240"/>
            <a:chOff x="5791320" y="5105160"/>
            <a:chExt cx="1447560" cy="381240"/>
          </a:xfrm>
        </p:grpSpPr>
        <p:grpSp>
          <p:nvGrpSpPr>
            <p:cNvPr id="422" name=""/>
            <p:cNvGrpSpPr/>
            <p:nvPr/>
          </p:nvGrpSpPr>
          <p:grpSpPr>
            <a:xfrm>
              <a:off x="5791320" y="5105160"/>
              <a:ext cx="1447560" cy="381240"/>
              <a:chOff x="5791320" y="5105160"/>
              <a:chExt cx="1447560" cy="381240"/>
            </a:xfrm>
          </p:grpSpPr>
          <p:sp>
            <p:nvSpPr>
              <p:cNvPr id="423" name=""/>
              <p:cNvSpPr/>
              <p:nvPr/>
            </p:nvSpPr>
            <p:spPr>
              <a:xfrm>
                <a:off x="5791320" y="5105520"/>
                <a:ext cx="1447560" cy="380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rot="16200000">
                <a:off x="6400800" y="4952520"/>
                <a:ext cx="152280" cy="457200"/>
              </a:xfrm>
              <a:prstGeom prst="rect">
                <a:avLst/>
              </a:prstGeom>
              <a:solidFill>
                <a:srgbClr val="3333ff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5" name=""/>
            <p:cNvSpPr/>
            <p:nvPr/>
          </p:nvSpPr>
          <p:spPr>
            <a:xfrm>
              <a:off x="6102720" y="5195160"/>
              <a:ext cx="7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è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864040" y="5713920"/>
            <a:ext cx="1684800" cy="610560"/>
            <a:chOff x="5864040" y="5713920"/>
            <a:chExt cx="1684800" cy="610560"/>
          </a:xfrm>
        </p:grpSpPr>
        <p:sp>
          <p:nvSpPr>
            <p:cNvPr id="427" name=""/>
            <p:cNvSpPr/>
            <p:nvPr/>
          </p:nvSpPr>
          <p:spPr>
            <a:xfrm>
              <a:off x="5867280" y="5791320"/>
              <a:ext cx="1676520" cy="5331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6629400" y="6019200"/>
              <a:ext cx="152280" cy="457200"/>
            </a:xfrm>
            <a:prstGeom prst="rect">
              <a:avLst/>
            </a:prstGeom>
            <a:solidFill>
              <a:srgbClr val="3333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64040" y="5713920"/>
              <a:ext cx="168480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è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continuité de servic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6705720" y="5181480"/>
            <a:ext cx="1066680" cy="304920"/>
            <a:chOff x="6705720" y="5181480"/>
            <a:chExt cx="1066680" cy="304920"/>
          </a:xfrm>
        </p:grpSpPr>
        <p:sp>
          <p:nvSpPr>
            <p:cNvPr id="431" name=""/>
            <p:cNvSpPr/>
            <p:nvPr/>
          </p:nvSpPr>
          <p:spPr>
            <a:xfrm>
              <a:off x="6705720" y="51814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772400" y="51814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6933960" y="5867280"/>
            <a:ext cx="838080" cy="381240"/>
            <a:chOff x="6933960" y="5867280"/>
            <a:chExt cx="838080" cy="381240"/>
          </a:xfrm>
        </p:grpSpPr>
        <p:sp>
          <p:nvSpPr>
            <p:cNvPr id="434" name=""/>
            <p:cNvSpPr/>
            <p:nvPr/>
          </p:nvSpPr>
          <p:spPr>
            <a:xfrm>
              <a:off x="7772040" y="58672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6933960" y="6248520"/>
              <a:ext cx="83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7314840" y="4204440"/>
            <a:ext cx="1569960" cy="596160"/>
            <a:chOff x="7314840" y="4204440"/>
            <a:chExt cx="1569960" cy="596160"/>
          </a:xfrm>
        </p:grpSpPr>
        <p:sp>
          <p:nvSpPr>
            <p:cNvPr id="437" name=""/>
            <p:cNvSpPr/>
            <p:nvPr/>
          </p:nvSpPr>
          <p:spPr>
            <a:xfrm>
              <a:off x="7957440" y="4204440"/>
              <a:ext cx="927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"/>
                </a:rPr>
                <a:t>Luminair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7314840" y="4343040"/>
              <a:ext cx="1524240" cy="457560"/>
              <a:chOff x="7314840" y="4343040"/>
              <a:chExt cx="1524240" cy="457560"/>
            </a:xfrm>
          </p:grpSpPr>
          <p:sp>
            <p:nvSpPr>
              <p:cNvPr id="439" name=""/>
              <p:cNvSpPr/>
              <p:nvPr/>
            </p:nvSpPr>
            <p:spPr>
              <a:xfrm flipH="1" flipV="1">
                <a:off x="7314840" y="4343040"/>
                <a:ext cx="609480" cy="152280"/>
              </a:xfrm>
              <a:prstGeom prst="line">
                <a:avLst/>
              </a:prstGeom>
              <a:ln w="1260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7543800" y="4495680"/>
                <a:ext cx="380880" cy="304920"/>
              </a:xfrm>
              <a:prstGeom prst="line">
                <a:avLst/>
              </a:prstGeom>
              <a:ln w="1260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924680" y="4495680"/>
                <a:ext cx="914400" cy="0"/>
              </a:xfrm>
              <a:prstGeom prst="line">
                <a:avLst/>
              </a:prstGeom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"/>
          <p:cNvGrpSpPr/>
          <p:nvPr/>
        </p:nvGrpSpPr>
        <p:grpSpPr>
          <a:xfrm>
            <a:off x="2590920" y="3962520"/>
            <a:ext cx="1676160" cy="1066680"/>
            <a:chOff x="2590920" y="3962520"/>
            <a:chExt cx="1676160" cy="1066680"/>
          </a:xfrm>
        </p:grpSpPr>
        <p:sp>
          <p:nvSpPr>
            <p:cNvPr id="443" name=""/>
            <p:cNvSpPr/>
            <p:nvPr/>
          </p:nvSpPr>
          <p:spPr>
            <a:xfrm>
              <a:off x="2590920" y="3962520"/>
              <a:ext cx="1676160" cy="1066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76320" y="3975840"/>
              <a:ext cx="1328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one Réalis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78000" y="4509360"/>
              <a:ext cx="535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5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158760" y="256536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Arial Black"/>
              </a:rPr>
              <a:t>BAC  ELE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657600" y="5638680"/>
            <a:ext cx="1917720" cy="1038240"/>
            <a:chOff x="3657600" y="5638680"/>
            <a:chExt cx="1917720" cy="1038240"/>
          </a:xfrm>
        </p:grpSpPr>
        <p:sp>
          <p:nvSpPr>
            <p:cNvPr id="448" name=""/>
            <p:cNvSpPr/>
            <p:nvPr/>
          </p:nvSpPr>
          <p:spPr>
            <a:xfrm>
              <a:off x="3657600" y="5638680"/>
              <a:ext cx="154080" cy="458640"/>
            </a:xfrm>
            <a:prstGeom prst="rect">
              <a:avLst/>
            </a:prstGeom>
            <a:solidFill>
              <a:srgbClr val="ff505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62520" y="6400800"/>
              <a:ext cx="16128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50000" y="6462720"/>
              <a:ext cx="1436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5050"/>
                  </a:solidFill>
                  <a:latin typeface="Arial"/>
                </a:rPr>
                <a:t>Armoire de Brass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3886200" y="5943600"/>
              <a:ext cx="609120" cy="532800"/>
              <a:chOff x="3886200" y="5943600"/>
              <a:chExt cx="609120" cy="532800"/>
            </a:xfrm>
          </p:grpSpPr>
          <p:sp>
            <p:nvSpPr>
              <p:cNvPr id="452" name=""/>
              <p:cNvSpPr/>
              <p:nvPr/>
            </p:nvSpPr>
            <p:spPr>
              <a:xfrm flipH="1" flipV="1">
                <a:off x="3957120" y="6005160"/>
                <a:ext cx="538200" cy="47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886200" y="5943600"/>
                <a:ext cx="108000" cy="101520"/>
              </a:xfrm>
              <a:custGeom>
                <a:avLst/>
                <a:gdLst/>
                <a:ahLst/>
                <a:rect l="l" t="t" r="r" b="b"/>
                <a:pathLst>
                  <a:path w="68" h="64">
                    <a:moveTo>
                      <a:pt x="68" y="17"/>
                    </a:moveTo>
                    <a:lnTo>
                      <a:pt x="0" y="0"/>
                    </a:lnTo>
                    <a:lnTo>
                      <a:pt x="26" y="64"/>
                    </a:lnTo>
                    <a:lnTo>
                      <a:pt x="6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"/>
          <p:cNvGrpSpPr/>
          <p:nvPr/>
        </p:nvGrpSpPr>
        <p:grpSpPr>
          <a:xfrm>
            <a:off x="2590920" y="4343400"/>
            <a:ext cx="4876560" cy="837720"/>
            <a:chOff x="2590920" y="4343400"/>
            <a:chExt cx="4876560" cy="837720"/>
          </a:xfrm>
        </p:grpSpPr>
        <p:sp>
          <p:nvSpPr>
            <p:cNvPr id="455" name=""/>
            <p:cNvSpPr/>
            <p:nvPr/>
          </p:nvSpPr>
          <p:spPr>
            <a:xfrm flipV="1">
              <a:off x="2590920" y="457164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590920" y="4572000"/>
              <a:ext cx="487656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67480" y="43434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553080" y="43434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638680" y="43434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724280" y="43434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09880" y="43434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71800" y="434340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666880" y="4267080"/>
            <a:ext cx="5029200" cy="609480"/>
            <a:chOff x="2666880" y="4267080"/>
            <a:chExt cx="5029200" cy="609480"/>
          </a:xfrm>
        </p:grpSpPr>
        <p:sp>
          <p:nvSpPr>
            <p:cNvPr id="464" name=""/>
            <p:cNvSpPr/>
            <p:nvPr/>
          </p:nvSpPr>
          <p:spPr>
            <a:xfrm>
              <a:off x="7162920" y="4267080"/>
              <a:ext cx="533160" cy="763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48520" y="4267080"/>
              <a:ext cx="533160" cy="7632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62920" y="4800600"/>
              <a:ext cx="533160" cy="7596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248520" y="4800600"/>
              <a:ext cx="533160" cy="7596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2666880" y="4267080"/>
              <a:ext cx="1371600" cy="609480"/>
              <a:chOff x="2666880" y="4267080"/>
              <a:chExt cx="1371600" cy="609480"/>
            </a:xfrm>
          </p:grpSpPr>
          <p:sp>
            <p:nvSpPr>
              <p:cNvPr id="469" name=""/>
              <p:cNvSpPr/>
              <p:nvPr/>
            </p:nvSpPr>
            <p:spPr>
              <a:xfrm>
                <a:off x="3504960" y="4267080"/>
                <a:ext cx="533520" cy="76320"/>
              </a:xfrm>
              <a:prstGeom prst="rect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666880" y="4267080"/>
                <a:ext cx="533160" cy="76320"/>
              </a:xfrm>
              <a:prstGeom prst="rect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4960" y="4800600"/>
                <a:ext cx="533520" cy="75960"/>
              </a:xfrm>
              <a:prstGeom prst="rect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666880" y="4800600"/>
                <a:ext cx="533160" cy="75960"/>
              </a:xfrm>
              <a:prstGeom prst="rect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5334120" y="4267080"/>
              <a:ext cx="533160" cy="7632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19720" y="4267080"/>
              <a:ext cx="533160" cy="7632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34120" y="4800600"/>
              <a:ext cx="533160" cy="7596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419720" y="4800600"/>
              <a:ext cx="533160" cy="7596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64920" y="1449360"/>
            <a:ext cx="5486400" cy="3863880"/>
            <a:chOff x="664920" y="1449360"/>
            <a:chExt cx="5486400" cy="3863880"/>
          </a:xfrm>
        </p:grpSpPr>
        <p:sp>
          <p:nvSpPr>
            <p:cNvPr id="478" name=""/>
            <p:cNvSpPr/>
            <p:nvPr/>
          </p:nvSpPr>
          <p:spPr>
            <a:xfrm>
              <a:off x="664920" y="1768320"/>
              <a:ext cx="1683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Cloisons amovib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transparentes à parti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Times New Roman"/>
                </a:rPr>
                <a:t>de 1,1 mètre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2290680" y="1449360"/>
              <a:ext cx="711000" cy="495360"/>
            </a:xfrm>
            <a:prstGeom prst="line">
              <a:avLst/>
            </a:prstGeom>
            <a:ln w="12600">
              <a:solidFill>
                <a:srgbClr val="a50021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300040" y="2087640"/>
              <a:ext cx="1270080" cy="3225600"/>
            </a:xfrm>
            <a:prstGeom prst="line">
              <a:avLst/>
            </a:prstGeom>
            <a:ln cap="sq" w="12600">
              <a:solidFill>
                <a:srgbClr val="a50021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90680" y="2009880"/>
              <a:ext cx="3860640" cy="3022560"/>
            </a:xfrm>
            <a:prstGeom prst="line">
              <a:avLst/>
            </a:prstGeom>
            <a:ln cap="sq" w="12600">
              <a:solidFill>
                <a:srgbClr val="a50021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500"/>
                            </p:stCondLst>
                            <p:childTnLst>
                              <p:par>
                                <p:cTn id="5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762120" y="152280"/>
            <a:ext cx="8305560" cy="65534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362320" y="304920"/>
            <a:ext cx="5638680" cy="5943600"/>
            <a:chOff x="2362320" y="304920"/>
            <a:chExt cx="5638680" cy="5943600"/>
          </a:xfrm>
        </p:grpSpPr>
        <p:sp>
          <p:nvSpPr>
            <p:cNvPr id="484" name=""/>
            <p:cNvSpPr/>
            <p:nvPr/>
          </p:nvSpPr>
          <p:spPr>
            <a:xfrm>
              <a:off x="2362320" y="304920"/>
              <a:ext cx="5638680" cy="5943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4320" y="563040"/>
              <a:ext cx="93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S = 300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4267080" y="3962520"/>
            <a:ext cx="1676520" cy="1066680"/>
            <a:chOff x="4267080" y="3962520"/>
            <a:chExt cx="1676520" cy="1066680"/>
          </a:xfrm>
        </p:grpSpPr>
        <p:sp>
          <p:nvSpPr>
            <p:cNvPr id="487" name=""/>
            <p:cNvSpPr/>
            <p:nvPr/>
          </p:nvSpPr>
          <p:spPr>
            <a:xfrm>
              <a:off x="4267080" y="3962520"/>
              <a:ext cx="1676520" cy="1066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53200" y="3975840"/>
              <a:ext cx="13284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one Réalis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737960" y="4509360"/>
              <a:ext cx="5709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2452680" y="3733920"/>
            <a:ext cx="1299960" cy="1523520"/>
            <a:chOff x="2452680" y="3733920"/>
            <a:chExt cx="1299960" cy="1523520"/>
          </a:xfrm>
        </p:grpSpPr>
        <p:sp>
          <p:nvSpPr>
            <p:cNvPr id="491" name=""/>
            <p:cNvSpPr/>
            <p:nvPr/>
          </p:nvSpPr>
          <p:spPr>
            <a:xfrm>
              <a:off x="2452680" y="3733920"/>
              <a:ext cx="1233360" cy="93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671640" y="3733920"/>
              <a:ext cx="81000" cy="4014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452680" y="3828960"/>
              <a:ext cx="1214280" cy="1428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608200" y="4099320"/>
              <a:ext cx="895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o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uff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ntil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2398680" y="4949640"/>
            <a:ext cx="1339920" cy="1295640"/>
            <a:chOff x="2398680" y="4949640"/>
            <a:chExt cx="1339920" cy="1295640"/>
          </a:xfrm>
        </p:grpSpPr>
        <p:sp>
          <p:nvSpPr>
            <p:cNvPr id="496" name=""/>
            <p:cNvSpPr/>
            <p:nvPr/>
          </p:nvSpPr>
          <p:spPr>
            <a:xfrm>
              <a:off x="2443320" y="5178600"/>
              <a:ext cx="609480" cy="759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510000" y="5178600"/>
              <a:ext cx="152280" cy="75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62280" y="5025960"/>
              <a:ext cx="76320" cy="12193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 flipV="1">
              <a:off x="3204720" y="4949640"/>
              <a:ext cx="3049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>
              <a:off x="3052800" y="4950000"/>
              <a:ext cx="303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43320" y="5254560"/>
              <a:ext cx="1218960" cy="990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98680" y="5284080"/>
              <a:ext cx="672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cuei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209320" y="228600"/>
            <a:ext cx="5868000" cy="6400800"/>
            <a:chOff x="2209320" y="228600"/>
            <a:chExt cx="5868000" cy="6400800"/>
          </a:xfrm>
        </p:grpSpPr>
        <p:sp>
          <p:nvSpPr>
            <p:cNvPr id="504" name=""/>
            <p:cNvSpPr/>
            <p:nvPr/>
          </p:nvSpPr>
          <p:spPr>
            <a:xfrm flipH="1" flipV="1">
              <a:off x="2209320" y="4723920"/>
              <a:ext cx="22860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62320" y="3733920"/>
              <a:ext cx="75960" cy="8380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2209680" y="4572000"/>
              <a:ext cx="304560" cy="304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362320" y="228600"/>
              <a:ext cx="5638680" cy="763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001000" y="228600"/>
              <a:ext cx="76320" cy="60958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638680" y="6248520"/>
              <a:ext cx="1676520" cy="7596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91120" y="6248520"/>
              <a:ext cx="1066680" cy="759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505320" y="6248520"/>
              <a:ext cx="304560" cy="7596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362320" y="6248520"/>
              <a:ext cx="838080" cy="7596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362320" y="5105520"/>
              <a:ext cx="75960" cy="121896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362320" y="228600"/>
              <a:ext cx="75960" cy="5335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276360" y="632448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3962160" y="632448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5334120" y="6324480"/>
              <a:ext cx="30456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 flipV="1">
              <a:off x="3200400" y="6171120"/>
              <a:ext cx="1519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3809880" y="6171120"/>
              <a:ext cx="30456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 flipV="1">
              <a:off x="5257800" y="6171120"/>
              <a:ext cx="15192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48720" y="6248520"/>
              <a:ext cx="152280" cy="7596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7391520" y="6324480"/>
              <a:ext cx="45720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flipV="1">
              <a:off x="7315200" y="6018840"/>
              <a:ext cx="151920" cy="60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3740040" y="4874760"/>
            <a:ext cx="1523880" cy="1371960"/>
            <a:chOff x="3740040" y="4874760"/>
            <a:chExt cx="1523880" cy="1371960"/>
          </a:xfrm>
        </p:grpSpPr>
        <p:sp>
          <p:nvSpPr>
            <p:cNvPr id="525" name=""/>
            <p:cNvSpPr/>
            <p:nvPr/>
          </p:nvSpPr>
          <p:spPr>
            <a:xfrm>
              <a:off x="4730400" y="5103720"/>
              <a:ext cx="76320" cy="11430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349520" y="5027400"/>
              <a:ext cx="914400" cy="7632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740040" y="5027400"/>
              <a:ext cx="152280" cy="7632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flipV="1">
              <a:off x="4044240" y="4874760"/>
              <a:ext cx="3049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3892320" y="4875120"/>
              <a:ext cx="3038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40040" y="5103720"/>
              <a:ext cx="990360" cy="1143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25000" y="5117040"/>
              <a:ext cx="819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ock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à risqu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818240" y="4800240"/>
            <a:ext cx="1143000" cy="1447920"/>
            <a:chOff x="4818240" y="4800240"/>
            <a:chExt cx="1143000" cy="1447920"/>
          </a:xfrm>
        </p:grpSpPr>
        <p:sp>
          <p:nvSpPr>
            <p:cNvPr id="533" name=""/>
            <p:cNvSpPr/>
            <p:nvPr/>
          </p:nvSpPr>
          <p:spPr>
            <a:xfrm>
              <a:off x="5885280" y="5029200"/>
              <a:ext cx="75960" cy="121896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32640" y="5029200"/>
              <a:ext cx="152640" cy="7596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5428080" y="4800240"/>
              <a:ext cx="30456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275440" y="4800600"/>
              <a:ext cx="30456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818240" y="5105160"/>
              <a:ext cx="1067040" cy="1143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76000" y="5347440"/>
              <a:ext cx="807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c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limatisé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5981760" y="5099040"/>
            <a:ext cx="1295280" cy="1143000"/>
            <a:chOff x="5981760" y="5099040"/>
            <a:chExt cx="1295280" cy="1143000"/>
          </a:xfrm>
        </p:grpSpPr>
        <p:sp>
          <p:nvSpPr>
            <p:cNvPr id="540" name=""/>
            <p:cNvSpPr/>
            <p:nvPr/>
          </p:nvSpPr>
          <p:spPr>
            <a:xfrm>
              <a:off x="5981760" y="5099040"/>
              <a:ext cx="1295280" cy="1143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136200" y="5433120"/>
              <a:ext cx="1118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pace étu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2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2349360" y="1612800"/>
            <a:ext cx="1904760" cy="1752480"/>
            <a:chOff x="2349360" y="1612800"/>
            <a:chExt cx="1904760" cy="1752480"/>
          </a:xfrm>
        </p:grpSpPr>
        <p:sp>
          <p:nvSpPr>
            <p:cNvPr id="543" name=""/>
            <p:cNvSpPr/>
            <p:nvPr/>
          </p:nvSpPr>
          <p:spPr>
            <a:xfrm>
              <a:off x="2349360" y="1612800"/>
              <a:ext cx="1904760" cy="17524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530800" y="2113560"/>
              <a:ext cx="11912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on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us systèm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724280" y="914400"/>
            <a:ext cx="1676160" cy="2666880"/>
            <a:chOff x="4724280" y="914400"/>
            <a:chExt cx="1676160" cy="2666880"/>
          </a:xfrm>
        </p:grpSpPr>
        <p:sp>
          <p:nvSpPr>
            <p:cNvPr id="546" name=""/>
            <p:cNvSpPr/>
            <p:nvPr/>
          </p:nvSpPr>
          <p:spPr>
            <a:xfrm>
              <a:off x="4724280" y="914400"/>
              <a:ext cx="1676160" cy="26668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113080" y="1948320"/>
              <a:ext cx="97164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Zone d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épar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5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6629400" y="3581280"/>
            <a:ext cx="1295280" cy="1067040"/>
            <a:chOff x="6629400" y="3581280"/>
            <a:chExt cx="1295280" cy="1067040"/>
          </a:xfrm>
        </p:grpSpPr>
        <p:sp>
          <p:nvSpPr>
            <p:cNvPr id="549" name=""/>
            <p:cNvSpPr/>
            <p:nvPr/>
          </p:nvSpPr>
          <p:spPr>
            <a:xfrm>
              <a:off x="6629400" y="3581280"/>
              <a:ext cx="1295280" cy="10670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712560" y="3823560"/>
              <a:ext cx="77508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è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°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6858000" y="2133720"/>
            <a:ext cx="1066680" cy="1218960"/>
            <a:chOff x="6858000" y="2133720"/>
            <a:chExt cx="1066680" cy="1218960"/>
          </a:xfrm>
        </p:grpSpPr>
        <p:sp>
          <p:nvSpPr>
            <p:cNvPr id="552" name=""/>
            <p:cNvSpPr/>
            <p:nvPr/>
          </p:nvSpPr>
          <p:spPr>
            <a:xfrm>
              <a:off x="6858000" y="2133720"/>
              <a:ext cx="1066680" cy="12189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864840" y="2375640"/>
              <a:ext cx="77508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ystè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°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6858000" y="914400"/>
            <a:ext cx="1066680" cy="1066680"/>
            <a:chOff x="6858000" y="914400"/>
            <a:chExt cx="1066680" cy="1066680"/>
          </a:xfrm>
        </p:grpSpPr>
        <p:sp>
          <p:nvSpPr>
            <p:cNvPr id="555" name=""/>
            <p:cNvSpPr/>
            <p:nvPr/>
          </p:nvSpPr>
          <p:spPr>
            <a:xfrm>
              <a:off x="6858000" y="914400"/>
              <a:ext cx="1066680" cy="10666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885720" y="1109880"/>
              <a:ext cx="86940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ponibl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9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222280" y="249840"/>
            <a:ext cx="2057760" cy="1128240"/>
            <a:chOff x="2222280" y="249840"/>
            <a:chExt cx="2057760" cy="1128240"/>
          </a:xfrm>
        </p:grpSpPr>
        <p:sp>
          <p:nvSpPr>
            <p:cNvPr id="558" name=""/>
            <p:cNvSpPr/>
            <p:nvPr/>
          </p:nvSpPr>
          <p:spPr>
            <a:xfrm>
              <a:off x="2451240" y="311400"/>
              <a:ext cx="1524240" cy="990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75280" y="1302120"/>
              <a:ext cx="1676160" cy="7596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975480" y="1225800"/>
              <a:ext cx="75960" cy="15228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375280" y="1225800"/>
              <a:ext cx="75960" cy="7632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975480" y="311400"/>
              <a:ext cx="75960" cy="60948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2222280" y="7686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51440" y="920880"/>
              <a:ext cx="2286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 flipV="1">
              <a:off x="2222640" y="1072440"/>
              <a:ext cx="30456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3823200" y="1072440"/>
              <a:ext cx="45648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20200" y="249840"/>
              <a:ext cx="16941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ocal d ’accès réservé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x électrici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846160" y="1010520"/>
              <a:ext cx="570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 m²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-14400" y="97920"/>
            <a:ext cx="2585880" cy="2158560"/>
            <a:chOff x="-14400" y="97920"/>
            <a:chExt cx="2585880" cy="2158560"/>
          </a:xfrm>
        </p:grpSpPr>
        <p:sp>
          <p:nvSpPr>
            <p:cNvPr id="570" name=""/>
            <p:cNvSpPr/>
            <p:nvPr/>
          </p:nvSpPr>
          <p:spPr>
            <a:xfrm rot="19425000">
              <a:off x="34200" y="762120"/>
              <a:ext cx="2487600" cy="762120"/>
            </a:xfrm>
            <a:prstGeom prst="roundRect">
              <a:avLst>
                <a:gd name="adj" fmla="val 16667"/>
              </a:avLst>
            </a:prstGeom>
            <a:solidFill>
              <a:srgbClr val="ccec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19425000">
              <a:off x="-66600" y="825120"/>
              <a:ext cx="269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Champ d’ 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TERTIAIR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971800" y="532800"/>
            <a:ext cx="2542320" cy="504000"/>
            <a:chOff x="2971800" y="532800"/>
            <a:chExt cx="2542320" cy="504000"/>
          </a:xfrm>
        </p:grpSpPr>
        <p:sp>
          <p:nvSpPr>
            <p:cNvPr id="573" name=""/>
            <p:cNvSpPr/>
            <p:nvPr/>
          </p:nvSpPr>
          <p:spPr>
            <a:xfrm>
              <a:off x="2971800" y="808200"/>
              <a:ext cx="609480" cy="228600"/>
            </a:xfrm>
            <a:prstGeom prst="rect">
              <a:avLst/>
            </a:prstGeom>
            <a:solidFill>
              <a:srgbClr val="0000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30000" y="532800"/>
              <a:ext cx="1284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Armoire Secteu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99"/>
                  </a:solidFill>
                  <a:latin typeface="Arial"/>
                </a:rPr>
                <a:t>Bac. Pr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3657240" y="808200"/>
              <a:ext cx="609480" cy="7632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7696080" y="2590920"/>
            <a:ext cx="152640" cy="1752480"/>
            <a:chOff x="7696080" y="2590920"/>
            <a:chExt cx="152640" cy="1752480"/>
          </a:xfrm>
        </p:grpSpPr>
        <p:sp>
          <p:nvSpPr>
            <p:cNvPr id="577" name=""/>
            <p:cNvSpPr/>
            <p:nvPr/>
          </p:nvSpPr>
          <p:spPr>
            <a:xfrm>
              <a:off x="7696080" y="2590920"/>
              <a:ext cx="152640" cy="45720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10800000">
              <a:off x="7696080" y="3886200"/>
              <a:ext cx="152640" cy="45720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3581280" y="380880"/>
            <a:ext cx="4191120" cy="3886200"/>
            <a:chOff x="3581280" y="380880"/>
            <a:chExt cx="4191120" cy="3886200"/>
          </a:xfrm>
        </p:grpSpPr>
        <p:sp>
          <p:nvSpPr>
            <p:cNvPr id="580" name=""/>
            <p:cNvSpPr/>
            <p:nvPr/>
          </p:nvSpPr>
          <p:spPr>
            <a:xfrm>
              <a:off x="3581280" y="9144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4267080" y="380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67080" y="380880"/>
              <a:ext cx="350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772400" y="380880"/>
              <a:ext cx="0" cy="388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2285640" y="914400"/>
            <a:ext cx="2591280" cy="4419720"/>
            <a:chOff x="2285640" y="914400"/>
            <a:chExt cx="2591280" cy="4419720"/>
          </a:xfrm>
        </p:grpSpPr>
        <p:sp>
          <p:nvSpPr>
            <p:cNvPr id="585" name=""/>
            <p:cNvSpPr/>
            <p:nvPr/>
          </p:nvSpPr>
          <p:spPr>
            <a:xfrm flipH="1">
              <a:off x="2285640" y="9144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286000" y="914400"/>
              <a:ext cx="0" cy="4419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286000" y="5334120"/>
              <a:ext cx="2590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872640" y="5834880"/>
            <a:ext cx="2175480" cy="641520"/>
            <a:chOff x="872640" y="5834880"/>
            <a:chExt cx="2175480" cy="641520"/>
          </a:xfrm>
        </p:grpSpPr>
        <p:sp>
          <p:nvSpPr>
            <p:cNvPr id="589" name=""/>
            <p:cNvSpPr/>
            <p:nvPr/>
          </p:nvSpPr>
          <p:spPr>
            <a:xfrm>
              <a:off x="2590920" y="6095880"/>
              <a:ext cx="457200" cy="15228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72640" y="5834880"/>
              <a:ext cx="13618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6600"/>
                  </a:solidFill>
                  <a:latin typeface="Arial"/>
                </a:rPr>
                <a:t>Armoi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cc6600"/>
                  </a:solidFill>
                  <a:latin typeface="Arial"/>
                </a:rPr>
                <a:t>Intrus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6600"/>
                  </a:solidFill>
                  <a:latin typeface="Arial"/>
                </a:rPr>
                <a:t>Contrôle d ’accè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981440" y="6172200"/>
              <a:ext cx="6094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112400" y="5363280"/>
            <a:ext cx="2548440" cy="580320"/>
            <a:chOff x="1112400" y="5363280"/>
            <a:chExt cx="2548440" cy="580320"/>
          </a:xfrm>
        </p:grpSpPr>
        <p:sp>
          <p:nvSpPr>
            <p:cNvPr id="593" name=""/>
            <p:cNvSpPr/>
            <p:nvPr/>
          </p:nvSpPr>
          <p:spPr>
            <a:xfrm rot="16200000">
              <a:off x="3355920" y="5638680"/>
              <a:ext cx="457200" cy="152640"/>
            </a:xfrm>
            <a:prstGeom prst="rect">
              <a:avLst/>
            </a:prstGeom>
            <a:solidFill>
              <a:srgbClr val="3366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112400" y="5363280"/>
              <a:ext cx="1285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Armoi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Alarme Incendi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89240" y="5638680"/>
              <a:ext cx="1295280" cy="1526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6858000" y="4724280"/>
            <a:ext cx="1142640" cy="685440"/>
            <a:chOff x="6858000" y="4724280"/>
            <a:chExt cx="1142640" cy="685440"/>
          </a:xfrm>
        </p:grpSpPr>
        <p:sp>
          <p:nvSpPr>
            <p:cNvPr id="597" name=""/>
            <p:cNvSpPr/>
            <p:nvPr/>
          </p:nvSpPr>
          <p:spPr>
            <a:xfrm>
              <a:off x="6858000" y="4768200"/>
              <a:ext cx="950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</a:rPr>
                <a:t>Armoire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</a:rPr>
                <a:t>Eclai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0000"/>
                  </a:solidFill>
                  <a:latin typeface="Arial"/>
                </a:rPr>
                <a:t>de sécurité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8" name=""/>
            <p:cNvGrpSpPr/>
            <p:nvPr/>
          </p:nvGrpSpPr>
          <p:grpSpPr>
            <a:xfrm>
              <a:off x="7467480" y="4724280"/>
              <a:ext cx="533160" cy="457200"/>
              <a:chOff x="7467480" y="4724280"/>
              <a:chExt cx="533160" cy="457200"/>
            </a:xfrm>
          </p:grpSpPr>
          <p:sp>
            <p:nvSpPr>
              <p:cNvPr id="599" name=""/>
              <p:cNvSpPr/>
              <p:nvPr/>
            </p:nvSpPr>
            <p:spPr>
              <a:xfrm rot="5400000">
                <a:off x="7695720" y="4876560"/>
                <a:ext cx="457200" cy="152280"/>
              </a:xfrm>
              <a:prstGeom prst="rect">
                <a:avLst/>
              </a:prstGeom>
              <a:solidFill>
                <a:srgbClr val="cc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7467480" y="4952880"/>
                <a:ext cx="381240" cy="76320"/>
              </a:xfrm>
              <a:prstGeom prst="line">
                <a:avLst/>
              </a:prstGeom>
              <a:ln w="648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4572000" y="4876920"/>
            <a:ext cx="2283840" cy="488160"/>
            <a:chOff x="4572000" y="4876920"/>
            <a:chExt cx="2283840" cy="488160"/>
          </a:xfrm>
        </p:grpSpPr>
        <p:sp>
          <p:nvSpPr>
            <p:cNvPr id="602" name=""/>
            <p:cNvSpPr/>
            <p:nvPr/>
          </p:nvSpPr>
          <p:spPr>
            <a:xfrm>
              <a:off x="4572000" y="4876920"/>
              <a:ext cx="457200" cy="152280"/>
            </a:xfrm>
            <a:prstGeom prst="rect">
              <a:avLst/>
            </a:prstGeom>
            <a:solidFill>
              <a:srgbClr val="00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37920" y="4906080"/>
              <a:ext cx="817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"/>
                </a:rPr>
                <a:t>Armoi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"/>
                </a:rPr>
                <a:t>Eclair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5028840" y="4952880"/>
              <a:ext cx="1143000" cy="152640"/>
            </a:xfrm>
            <a:prstGeom prst="line">
              <a:avLst/>
            </a:prstGeom>
            <a:ln w="648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666880" y="4191120"/>
            <a:ext cx="5029200" cy="609480"/>
            <a:chOff x="2666880" y="4191120"/>
            <a:chExt cx="5029200" cy="609480"/>
          </a:xfrm>
        </p:grpSpPr>
        <p:sp>
          <p:nvSpPr>
            <p:cNvPr id="606" name=""/>
            <p:cNvSpPr/>
            <p:nvPr/>
          </p:nvSpPr>
          <p:spPr>
            <a:xfrm>
              <a:off x="7162920" y="4191120"/>
              <a:ext cx="533160" cy="7632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248520" y="4191120"/>
              <a:ext cx="533160" cy="7632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162920" y="4724640"/>
              <a:ext cx="533160" cy="7596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248520" y="4724640"/>
              <a:ext cx="533160" cy="7596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2666880" y="4191120"/>
              <a:ext cx="1371600" cy="609480"/>
              <a:chOff x="2666880" y="4191120"/>
              <a:chExt cx="1371600" cy="609480"/>
            </a:xfrm>
          </p:grpSpPr>
          <p:sp>
            <p:nvSpPr>
              <p:cNvPr id="611" name=""/>
              <p:cNvSpPr/>
              <p:nvPr/>
            </p:nvSpPr>
            <p:spPr>
              <a:xfrm>
                <a:off x="3504960" y="4191120"/>
                <a:ext cx="533520" cy="76320"/>
              </a:xfrm>
              <a:prstGeom prst="rect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666880" y="4191120"/>
                <a:ext cx="533160" cy="76320"/>
              </a:xfrm>
              <a:prstGeom prst="rect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3504960" y="4724640"/>
                <a:ext cx="533520" cy="75960"/>
              </a:xfrm>
              <a:prstGeom prst="rect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666880" y="4724640"/>
                <a:ext cx="533160" cy="75960"/>
              </a:xfrm>
              <a:prstGeom prst="rect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5334120" y="4191120"/>
              <a:ext cx="533160" cy="7632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419720" y="4191120"/>
              <a:ext cx="533160" cy="7632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34120" y="4724640"/>
              <a:ext cx="533160" cy="7596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419720" y="4724640"/>
              <a:ext cx="533160" cy="7596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2987640" y="4292640"/>
            <a:ext cx="4495680" cy="685800"/>
            <a:chOff x="2987640" y="4292640"/>
            <a:chExt cx="4495680" cy="685800"/>
          </a:xfrm>
        </p:grpSpPr>
        <p:sp>
          <p:nvSpPr>
            <p:cNvPr id="620" name=""/>
            <p:cNvSpPr/>
            <p:nvPr/>
          </p:nvSpPr>
          <p:spPr>
            <a:xfrm flipV="1">
              <a:off x="4816080" y="45212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987640" y="4521240"/>
              <a:ext cx="4495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483320" y="4292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568920" y="4292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654520" y="4292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740120" y="4292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25720" y="4292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987640" y="429264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314600" y="3594600"/>
            <a:ext cx="1924560" cy="900720"/>
            <a:chOff x="4314600" y="3594600"/>
            <a:chExt cx="1924560" cy="900720"/>
          </a:xfrm>
        </p:grpSpPr>
        <p:sp>
          <p:nvSpPr>
            <p:cNvPr id="629" name=""/>
            <p:cNvSpPr/>
            <p:nvPr/>
          </p:nvSpPr>
          <p:spPr>
            <a:xfrm>
              <a:off x="4314600" y="3594600"/>
              <a:ext cx="192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33cc"/>
                  </a:solidFill>
                  <a:latin typeface="Arial"/>
                </a:rPr>
                <a:t>Canalisation</a:t>
              </a: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33cc"/>
                  </a:solidFill>
                  <a:latin typeface="Arial"/>
                </a:rPr>
                <a:t>préfabriqué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4648320" y="3885840"/>
              <a:ext cx="1523880" cy="609480"/>
              <a:chOff x="4648320" y="3885840"/>
              <a:chExt cx="1523880" cy="609480"/>
            </a:xfrm>
          </p:grpSpPr>
          <p:sp>
            <p:nvSpPr>
              <p:cNvPr id="631" name=""/>
              <p:cNvSpPr/>
              <p:nvPr/>
            </p:nvSpPr>
            <p:spPr>
              <a:xfrm>
                <a:off x="4648320" y="3885840"/>
                <a:ext cx="1523880" cy="0"/>
              </a:xfrm>
              <a:prstGeom prst="line">
                <a:avLst/>
              </a:prstGeom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172200" y="3885840"/>
                <a:ext cx="0" cy="609480"/>
              </a:xfrm>
              <a:prstGeom prst="line">
                <a:avLst/>
              </a:prstGeom>
              <a:ln w="1260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33" name=""/>
          <p:cNvGrpSpPr/>
          <p:nvPr/>
        </p:nvGrpSpPr>
        <p:grpSpPr>
          <a:xfrm>
            <a:off x="1187640" y="4539600"/>
            <a:ext cx="1784160" cy="641880"/>
            <a:chOff x="1187640" y="4539600"/>
            <a:chExt cx="1784160" cy="641880"/>
          </a:xfrm>
        </p:grpSpPr>
        <p:sp>
          <p:nvSpPr>
            <p:cNvPr id="634" name=""/>
            <p:cNvSpPr/>
            <p:nvPr/>
          </p:nvSpPr>
          <p:spPr>
            <a:xfrm>
              <a:off x="2514600" y="5029200"/>
              <a:ext cx="457200" cy="152280"/>
            </a:xfrm>
            <a:prstGeom prst="rect">
              <a:avLst/>
            </a:prstGeom>
            <a:solidFill>
              <a:srgbClr val="9933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057400" y="4876920"/>
              <a:ext cx="457200" cy="228600"/>
            </a:xfrm>
            <a:prstGeom prst="line">
              <a:avLst/>
            </a:prstGeom>
            <a:ln w="648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187640" y="4539600"/>
              <a:ext cx="8953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Arial"/>
                </a:rPr>
                <a:t>Armoi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Arial"/>
                </a:rPr>
                <a:t>Chauff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3300"/>
                  </a:solidFill>
                  <a:latin typeface="Arial"/>
                </a:rPr>
                <a:t>Ventil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2540880" y="3809880"/>
            <a:ext cx="979200" cy="304920"/>
            <a:chOff x="2540880" y="3809880"/>
            <a:chExt cx="979200" cy="304920"/>
          </a:xfrm>
        </p:grpSpPr>
        <p:sp>
          <p:nvSpPr>
            <p:cNvPr id="638" name=""/>
            <p:cNvSpPr/>
            <p:nvPr/>
          </p:nvSpPr>
          <p:spPr>
            <a:xfrm>
              <a:off x="2819520" y="3809880"/>
              <a:ext cx="457200" cy="30492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3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540880" y="3823560"/>
              <a:ext cx="97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érotherm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3426480" y="5943600"/>
            <a:ext cx="1532520" cy="671040"/>
            <a:chOff x="3426480" y="5943600"/>
            <a:chExt cx="1532520" cy="671040"/>
          </a:xfrm>
        </p:grpSpPr>
        <p:sp>
          <p:nvSpPr>
            <p:cNvPr id="641" name=""/>
            <p:cNvSpPr/>
            <p:nvPr/>
          </p:nvSpPr>
          <p:spPr>
            <a:xfrm>
              <a:off x="4287600" y="5943600"/>
              <a:ext cx="457200" cy="30492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3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426480" y="633816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00"/>
                  </a:solidFill>
                  <a:latin typeface="Arial"/>
                </a:rPr>
                <a:t>Trappe d ’extrac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7391160" y="4113720"/>
            <a:ext cx="1577520" cy="610560"/>
            <a:chOff x="7391160" y="4113720"/>
            <a:chExt cx="1577520" cy="610560"/>
          </a:xfrm>
        </p:grpSpPr>
        <p:sp>
          <p:nvSpPr>
            <p:cNvPr id="644" name=""/>
            <p:cNvSpPr/>
            <p:nvPr/>
          </p:nvSpPr>
          <p:spPr>
            <a:xfrm>
              <a:off x="8027640" y="4113720"/>
              <a:ext cx="94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33cc"/>
                  </a:solidFill>
                  <a:latin typeface="Arial"/>
                </a:rPr>
                <a:t>L</a:t>
              </a:r>
              <a:r>
                <a:rPr b="0" lang="en-US" sz="1200" spc="-1" strike="noStrike">
                  <a:solidFill>
                    <a:srgbClr val="0033cc"/>
                  </a:solidFill>
                  <a:latin typeface="Arial"/>
                </a:rPr>
                <a:t>uminair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5" name=""/>
            <p:cNvGrpSpPr/>
            <p:nvPr/>
          </p:nvGrpSpPr>
          <p:grpSpPr>
            <a:xfrm>
              <a:off x="7391160" y="4266720"/>
              <a:ext cx="1524240" cy="457560"/>
              <a:chOff x="7391160" y="4266720"/>
              <a:chExt cx="1524240" cy="457560"/>
            </a:xfrm>
          </p:grpSpPr>
          <p:sp>
            <p:nvSpPr>
              <p:cNvPr id="646" name=""/>
              <p:cNvSpPr/>
              <p:nvPr/>
            </p:nvSpPr>
            <p:spPr>
              <a:xfrm flipH="1" flipV="1">
                <a:off x="7391160" y="4266720"/>
                <a:ext cx="609480" cy="152280"/>
              </a:xfrm>
              <a:prstGeom prst="line">
                <a:avLst/>
              </a:prstGeom>
              <a:ln w="1260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7620120" y="4419360"/>
                <a:ext cx="380880" cy="304920"/>
              </a:xfrm>
              <a:prstGeom prst="line">
                <a:avLst/>
              </a:prstGeom>
              <a:ln w="12600">
                <a:solidFill>
                  <a:srgbClr val="00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001000" y="4419360"/>
                <a:ext cx="914400" cy="0"/>
              </a:xfrm>
              <a:prstGeom prst="line">
                <a:avLst/>
              </a:prstGeom>
              <a:ln w="1260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9" name=""/>
          <p:cNvGrpSpPr/>
          <p:nvPr/>
        </p:nvGrpSpPr>
        <p:grpSpPr>
          <a:xfrm>
            <a:off x="4800240" y="5105520"/>
            <a:ext cx="3142800" cy="1024920"/>
            <a:chOff x="4800240" y="5105520"/>
            <a:chExt cx="3142800" cy="1024920"/>
          </a:xfrm>
        </p:grpSpPr>
        <p:sp>
          <p:nvSpPr>
            <p:cNvPr id="650" name=""/>
            <p:cNvSpPr/>
            <p:nvPr/>
          </p:nvSpPr>
          <p:spPr>
            <a:xfrm rot="10800000">
              <a:off x="4800240" y="5105520"/>
              <a:ext cx="152280" cy="457200"/>
            </a:xfrm>
            <a:prstGeom prst="rect">
              <a:avLst/>
            </a:prstGeom>
            <a:solidFill>
              <a:srgbClr val="9900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88960" y="5671440"/>
              <a:ext cx="1054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99"/>
                  </a:solidFill>
                  <a:latin typeface="Arial"/>
                </a:rPr>
                <a:t>Armoi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0099"/>
                  </a:solidFill>
                  <a:latin typeface="Arial"/>
                </a:rPr>
                <a:t>Climatis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flipV="1">
              <a:off x="5016240" y="5320800"/>
              <a:ext cx="1981080" cy="546120"/>
            </a:xfrm>
            <a:prstGeom prst="line">
              <a:avLst/>
            </a:prstGeom>
            <a:ln w="12600">
              <a:solidFill>
                <a:srgbClr val="99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158760" y="246708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ff"/>
                </a:solidFill>
                <a:latin typeface="Arial Black"/>
              </a:rPr>
              <a:t>BAC  ELE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962680" y="5568840"/>
            <a:ext cx="1917720" cy="1038240"/>
            <a:chOff x="5962680" y="5568840"/>
            <a:chExt cx="1917720" cy="1038240"/>
          </a:xfrm>
        </p:grpSpPr>
        <p:sp>
          <p:nvSpPr>
            <p:cNvPr id="655" name=""/>
            <p:cNvSpPr/>
            <p:nvPr/>
          </p:nvSpPr>
          <p:spPr>
            <a:xfrm>
              <a:off x="5962680" y="5568840"/>
              <a:ext cx="154080" cy="458640"/>
            </a:xfrm>
            <a:prstGeom prst="rect">
              <a:avLst/>
            </a:prstGeom>
            <a:solidFill>
              <a:srgbClr val="ff505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267600" y="6330960"/>
              <a:ext cx="161280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55080" y="6392880"/>
              <a:ext cx="1436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5050"/>
                  </a:solidFill>
                  <a:latin typeface="Arial"/>
                </a:rPr>
                <a:t>Armoire de Brassag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6191280" y="5873760"/>
              <a:ext cx="609480" cy="532800"/>
              <a:chOff x="6191280" y="5873760"/>
              <a:chExt cx="609480" cy="532800"/>
            </a:xfrm>
          </p:grpSpPr>
          <p:sp>
            <p:nvSpPr>
              <p:cNvPr id="659" name=""/>
              <p:cNvSpPr/>
              <p:nvPr/>
            </p:nvSpPr>
            <p:spPr>
              <a:xfrm flipH="1" flipV="1">
                <a:off x="6262560" y="5935320"/>
                <a:ext cx="538200" cy="47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91280" y="5873760"/>
                <a:ext cx="108000" cy="101520"/>
              </a:xfrm>
              <a:custGeom>
                <a:avLst/>
                <a:gdLst/>
                <a:ahLst/>
                <a:rect l="l" t="t" r="r" b="b"/>
                <a:pathLst>
                  <a:path w="68" h="64">
                    <a:moveTo>
                      <a:pt x="68" y="17"/>
                    </a:moveTo>
                    <a:lnTo>
                      <a:pt x="0" y="0"/>
                    </a:lnTo>
                    <a:lnTo>
                      <a:pt x="26" y="64"/>
                    </a:lnTo>
                    <a:lnTo>
                      <a:pt x="68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1" name=""/>
          <p:cNvSpPr/>
          <p:nvPr/>
        </p:nvSpPr>
        <p:spPr>
          <a:xfrm>
            <a:off x="5448240" y="449280"/>
            <a:ext cx="189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one d’Inter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 Travaux : S = 300 m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08:33:38Z</dcterms:created>
  <dc:creator>Auvray Jean-Paul</dc:creator>
  <dc:description/>
  <dc:language>en-US</dc:language>
  <cp:lastModifiedBy>Techniciens ED</cp:lastModifiedBy>
  <dcterms:modified xsi:type="dcterms:W3CDTF">2009-06-01T14:49:56Z</dcterms:modified>
  <cp:revision>196</cp:revision>
  <dc:subject/>
  <dc:title>Diapositive 1</dc:title>
</cp:coreProperties>
</file>