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9D02-F165-4249-81A5-CCE71B26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DF19-B5D7-4E5C-8020-DE06DDF9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9E5A-B38B-42A5-85AA-7A0CC6E20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5901-49EC-4DB7-8803-29D1ADD68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6D20-9BFF-49A2-A12B-31B13BD0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4AEF-D371-4ABB-A535-D4D54BBE1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1802-6B6A-4EAB-BFD7-CC1A6660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47792-24E5-4EA5-95BD-5E109E23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53304-09DA-4ED8-966B-64884B69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2FFA-6281-4975-A3FD-1F9A47F5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CDEF-5A70-45AC-8299-39A80957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A2B-0E1B-44B8-B5D9-759A8E74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B810-A5C7-4D84-B075-3072208A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FF44-20B0-4ADA-8AA5-4A46A37B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9CD5-1146-4227-96C1-A5815DC0A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9AC6-EEA6-4B24-88C9-591AF7DC7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8218-6CAB-4F55-83E6-C0C3E309E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4505-A242-419D-BFFF-68058E27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5A6-EA38-4576-A57F-FEF6F778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8322-2F72-4132-9B0A-AA55E672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375-D7A0-4983-A7F6-368B85229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BD90-C945-48E3-AB0C-BA762D4B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671-66A9-4B00-806E-E6608279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C22F-05FC-403E-8917-F4E1D438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>
                <a:gd name="textAreaLeft" fmla="*/ 0 w 8410680"/>
                <a:gd name="textAreaRight" fmla="*/ 8411040 w 8410680"/>
                <a:gd name="textAreaTop" fmla="*/ 0 h 6845400"/>
                <a:gd name="textAreaBottom" fmla="*/ 6845760 h 68454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3165-9227-4D1A-AB6D-B5D29089F63E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>
                <a:gd name="textAreaLeft" fmla="*/ 0 w 5872320"/>
                <a:gd name="textAreaRight" fmla="*/ 5872680 w 5872320"/>
                <a:gd name="textAreaTop" fmla="*/ 0 h 4148280"/>
                <a:gd name="textAreaBottom" fmla="*/ 4148640 h 4148280"/>
              </a:gdLst>
              <a:ahLst/>
              <a:rect l="textAreaLeft" t="textAreaTop" r="textAreaRight" b="textAreaBottom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>
                <a:gd name="textAreaLeft" fmla="*/ 0 w 6726240"/>
                <a:gd name="textAreaRight" fmla="*/ 6726600 w 6726240"/>
                <a:gd name="textAreaTop" fmla="*/ 0 h 5305320"/>
                <a:gd name="textAreaBottom" fmla="*/ 5305680 h 5305320"/>
              </a:gdLst>
              <a:ahLst/>
              <a:rect l="textAreaLeft" t="textAreaTop" r="textAreaRight" b="textAreaBottom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A262-5AD7-4A62-A151-58B7A93CE577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Arial"/>
              </a:rPr>
              <a:t>Evaluation de l’ora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Journée d'information I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88C23-BE00-4F13-8277-8F82980C7B6F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00200" y="40384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117"/>
          <p:cNvSpPr/>
          <p:nvPr/>
        </p:nvSpPr>
        <p:spPr>
          <a:xfrm>
            <a:off x="374760" y="1587600"/>
            <a:ext cx="7003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posé et entretien sur les travaux réalisés (coefficient 0,5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ation et observations des examinateu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r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118"/>
          <p:cNvSpPr/>
          <p:nvPr/>
        </p:nvSpPr>
        <p:spPr>
          <a:xfrm>
            <a:off x="317520" y="1587600"/>
            <a:ext cx="7118280" cy="7030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Rectangle 120"/>
          <p:cNvSpPr/>
          <p:nvPr/>
        </p:nvSpPr>
        <p:spPr>
          <a:xfrm>
            <a:off x="7493040" y="1587600"/>
            <a:ext cx="1365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Rectangle 121"/>
          <p:cNvSpPr/>
          <p:nvPr/>
        </p:nvSpPr>
        <p:spPr>
          <a:xfrm>
            <a:off x="7435800" y="1587600"/>
            <a:ext cx="1479600" cy="7030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123"/>
          <p:cNvSpPr/>
          <p:nvPr/>
        </p:nvSpPr>
        <p:spPr>
          <a:xfrm>
            <a:off x="374760" y="229068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ritères d’évalu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124"/>
          <p:cNvSpPr/>
          <p:nvPr/>
        </p:nvSpPr>
        <p:spPr>
          <a:xfrm>
            <a:off x="317520" y="2290680"/>
            <a:ext cx="4146480" cy="70344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126"/>
          <p:cNvSpPr/>
          <p:nvPr/>
        </p:nvSpPr>
        <p:spPr>
          <a:xfrm>
            <a:off x="4521240" y="2290680"/>
            <a:ext cx="85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ès bi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Rectangle 127"/>
          <p:cNvSpPr/>
          <p:nvPr/>
        </p:nvSpPr>
        <p:spPr>
          <a:xfrm>
            <a:off x="4464000" y="2290680"/>
            <a:ext cx="969840" cy="70344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129"/>
          <p:cNvSpPr/>
          <p:nvPr/>
        </p:nvSpPr>
        <p:spPr>
          <a:xfrm>
            <a:off x="5491080" y="2290680"/>
            <a:ext cx="82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130"/>
          <p:cNvSpPr/>
          <p:nvPr/>
        </p:nvSpPr>
        <p:spPr>
          <a:xfrm>
            <a:off x="5433840" y="2290680"/>
            <a:ext cx="936720" cy="70344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132"/>
          <p:cNvSpPr/>
          <p:nvPr/>
        </p:nvSpPr>
        <p:spPr>
          <a:xfrm>
            <a:off x="6427800" y="2290680"/>
            <a:ext cx="95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uffisa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133"/>
          <p:cNvSpPr/>
          <p:nvPr/>
        </p:nvSpPr>
        <p:spPr>
          <a:xfrm>
            <a:off x="6370560" y="2290680"/>
            <a:ext cx="1065240" cy="70344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35"/>
          <p:cNvSpPr/>
          <p:nvPr/>
        </p:nvSpPr>
        <p:spPr>
          <a:xfrm>
            <a:off x="7493040" y="2290680"/>
            <a:ext cx="13651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136"/>
          <p:cNvSpPr/>
          <p:nvPr/>
        </p:nvSpPr>
        <p:spPr>
          <a:xfrm>
            <a:off x="7435800" y="2290680"/>
            <a:ext cx="1479600" cy="33624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38"/>
          <p:cNvSpPr/>
          <p:nvPr/>
        </p:nvSpPr>
        <p:spPr>
          <a:xfrm>
            <a:off x="374760" y="2994120"/>
            <a:ext cx="40320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ésentation orale synthétique des quatre situations significatives de travail réalisées,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39"/>
          <p:cNvSpPr/>
          <p:nvPr/>
        </p:nvSpPr>
        <p:spPr>
          <a:xfrm>
            <a:off x="317520" y="2994120"/>
            <a:ext cx="4146480" cy="7048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41"/>
          <p:cNvSpPr/>
          <p:nvPr/>
        </p:nvSpPr>
        <p:spPr>
          <a:xfrm>
            <a:off x="4521240" y="2994120"/>
            <a:ext cx="855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Rectangle 142"/>
          <p:cNvSpPr/>
          <p:nvPr/>
        </p:nvSpPr>
        <p:spPr>
          <a:xfrm>
            <a:off x="4464000" y="2994120"/>
            <a:ext cx="969840" cy="7048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144"/>
          <p:cNvSpPr/>
          <p:nvPr/>
        </p:nvSpPr>
        <p:spPr>
          <a:xfrm>
            <a:off x="5491080" y="2994120"/>
            <a:ext cx="82224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Rectangle 145"/>
          <p:cNvSpPr/>
          <p:nvPr/>
        </p:nvSpPr>
        <p:spPr>
          <a:xfrm>
            <a:off x="5433840" y="2994120"/>
            <a:ext cx="936720" cy="7048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147"/>
          <p:cNvSpPr/>
          <p:nvPr/>
        </p:nvSpPr>
        <p:spPr>
          <a:xfrm>
            <a:off x="6427800" y="2994120"/>
            <a:ext cx="95076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148"/>
          <p:cNvSpPr/>
          <p:nvPr/>
        </p:nvSpPr>
        <p:spPr>
          <a:xfrm>
            <a:off x="6370560" y="2994120"/>
            <a:ext cx="1065240" cy="70488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Rectangle 150"/>
          <p:cNvSpPr/>
          <p:nvPr/>
        </p:nvSpPr>
        <p:spPr>
          <a:xfrm>
            <a:off x="374760" y="3794040"/>
            <a:ext cx="403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rgumentation pour résoudre le problème technique, les résultats obtenus, la pertinence de la solution choisie parmi plusieurs possib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Rectangle 151"/>
          <p:cNvSpPr/>
          <p:nvPr/>
        </p:nvSpPr>
        <p:spPr>
          <a:xfrm>
            <a:off x="317520" y="3699000"/>
            <a:ext cx="4146480" cy="8586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153"/>
          <p:cNvSpPr/>
          <p:nvPr/>
        </p:nvSpPr>
        <p:spPr>
          <a:xfrm>
            <a:off x="4521240" y="3699000"/>
            <a:ext cx="85572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Rectangle 154"/>
          <p:cNvSpPr/>
          <p:nvPr/>
        </p:nvSpPr>
        <p:spPr>
          <a:xfrm>
            <a:off x="4464000" y="3699000"/>
            <a:ext cx="969840" cy="8586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Rectangle 156"/>
          <p:cNvSpPr/>
          <p:nvPr/>
        </p:nvSpPr>
        <p:spPr>
          <a:xfrm>
            <a:off x="5491080" y="3699000"/>
            <a:ext cx="8222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57"/>
          <p:cNvSpPr/>
          <p:nvPr/>
        </p:nvSpPr>
        <p:spPr>
          <a:xfrm>
            <a:off x="5433840" y="3699000"/>
            <a:ext cx="936720" cy="8586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59"/>
          <p:cNvSpPr/>
          <p:nvPr/>
        </p:nvSpPr>
        <p:spPr>
          <a:xfrm>
            <a:off x="6427800" y="3699000"/>
            <a:ext cx="9507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60"/>
          <p:cNvSpPr/>
          <p:nvPr/>
        </p:nvSpPr>
        <p:spPr>
          <a:xfrm>
            <a:off x="6370560" y="3699000"/>
            <a:ext cx="1065240" cy="85860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62"/>
          <p:cNvSpPr/>
          <p:nvPr/>
        </p:nvSpPr>
        <p:spPr>
          <a:xfrm>
            <a:off x="374760" y="4557600"/>
            <a:ext cx="4032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qualité de l’expression du candid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63"/>
          <p:cNvSpPr/>
          <p:nvPr/>
        </p:nvSpPr>
        <p:spPr>
          <a:xfrm>
            <a:off x="317520" y="4557600"/>
            <a:ext cx="4146480" cy="5479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165"/>
          <p:cNvSpPr/>
          <p:nvPr/>
        </p:nvSpPr>
        <p:spPr>
          <a:xfrm>
            <a:off x="4521240" y="4557600"/>
            <a:ext cx="855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166"/>
          <p:cNvSpPr/>
          <p:nvPr/>
        </p:nvSpPr>
        <p:spPr>
          <a:xfrm>
            <a:off x="4464000" y="4557600"/>
            <a:ext cx="969840" cy="5479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168"/>
          <p:cNvSpPr/>
          <p:nvPr/>
        </p:nvSpPr>
        <p:spPr>
          <a:xfrm>
            <a:off x="5491080" y="4557600"/>
            <a:ext cx="8222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169"/>
          <p:cNvSpPr/>
          <p:nvPr/>
        </p:nvSpPr>
        <p:spPr>
          <a:xfrm>
            <a:off x="5433840" y="4557600"/>
            <a:ext cx="936720" cy="5479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171"/>
          <p:cNvSpPr/>
          <p:nvPr/>
        </p:nvSpPr>
        <p:spPr>
          <a:xfrm>
            <a:off x="6427800" y="4557600"/>
            <a:ext cx="9507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172"/>
          <p:cNvSpPr/>
          <p:nvPr/>
        </p:nvSpPr>
        <p:spPr>
          <a:xfrm>
            <a:off x="6370560" y="4557600"/>
            <a:ext cx="1065240" cy="54792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174"/>
          <p:cNvSpPr/>
          <p:nvPr/>
        </p:nvSpPr>
        <p:spPr>
          <a:xfrm>
            <a:off x="374760" y="5105520"/>
            <a:ext cx="40320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99ff"/>
                </a:solidFill>
                <a:latin typeface="Times New Roman"/>
                <a:ea typeface="Times New Roman"/>
              </a:rPr>
              <a:t>aptitude au dialog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175"/>
          <p:cNvSpPr/>
          <p:nvPr/>
        </p:nvSpPr>
        <p:spPr>
          <a:xfrm>
            <a:off x="317520" y="5105520"/>
            <a:ext cx="4146480" cy="5475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177"/>
          <p:cNvSpPr/>
          <p:nvPr/>
        </p:nvSpPr>
        <p:spPr>
          <a:xfrm>
            <a:off x="4521240" y="5105520"/>
            <a:ext cx="85572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178"/>
          <p:cNvSpPr/>
          <p:nvPr/>
        </p:nvSpPr>
        <p:spPr>
          <a:xfrm>
            <a:off x="4464000" y="5105520"/>
            <a:ext cx="969840" cy="5475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80"/>
          <p:cNvSpPr/>
          <p:nvPr/>
        </p:nvSpPr>
        <p:spPr>
          <a:xfrm>
            <a:off x="5491080" y="5105520"/>
            <a:ext cx="8222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181"/>
          <p:cNvSpPr/>
          <p:nvPr/>
        </p:nvSpPr>
        <p:spPr>
          <a:xfrm>
            <a:off x="5433840" y="5105520"/>
            <a:ext cx="936720" cy="5475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183"/>
          <p:cNvSpPr/>
          <p:nvPr/>
        </p:nvSpPr>
        <p:spPr>
          <a:xfrm>
            <a:off x="6427800" y="5105520"/>
            <a:ext cx="9507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184"/>
          <p:cNvSpPr/>
          <p:nvPr/>
        </p:nvSpPr>
        <p:spPr>
          <a:xfrm>
            <a:off x="6370560" y="5105520"/>
            <a:ext cx="1065240" cy="547560"/>
          </a:xfrm>
          <a:prstGeom prst="rect">
            <a:avLst/>
          </a:prstGeom>
          <a:noFill/>
          <a:ln w="0">
            <a:solidFill>
              <a:srgbClr val="a0a0a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185"/>
          <p:cNvSpPr/>
          <p:nvPr/>
        </p:nvSpPr>
        <p:spPr>
          <a:xfrm>
            <a:off x="311040" y="1582560"/>
            <a:ext cx="8610840" cy="4075200"/>
          </a:xfrm>
          <a:prstGeom prst="rect">
            <a:avLst/>
          </a:prstGeom>
          <a:noFill/>
          <a:ln w="9360">
            <a:solidFill>
              <a:srgbClr val="a0a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9T22:37:00Z</dcterms:created>
  <dc:creator>MICHEL</dc:creator>
  <dc:description/>
  <dc:language>en-US</dc:language>
  <cp:lastModifiedBy>MICHEL</cp:lastModifiedBy>
  <dcterms:modified xsi:type="dcterms:W3CDTF">2009-06-29T22:38:23Z</dcterms:modified>
  <cp:revision>1</cp:revision>
  <dc:subject/>
  <dc:title>Evaluation de l’oral</dc:title>
</cp:coreProperties>
</file>