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A20D-35DD-4FB2-B434-E3C2BBCB1EA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’ouvrage électrique qui sert de support à l’évaluation de l’unité U32 du BAC PRO ELEEC peut aussi être partiellement exploité pour évaluer la deuxième situation de EP2 du BEP ELEEC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9433-FE9D-44E5-82D4-D92861DF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BAA3-E3BE-44B5-A4F7-32BB0130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959C-F5AC-4F98-B70E-1ABF9870D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00B8-6817-45D7-AF5A-6781E6F12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C413-C988-465C-9BD4-6EBE57EA8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D27-4176-4FF1-B400-75721037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C2FB4-D81D-45C9-95DE-81C3FB29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FA41-7229-45F6-A047-7AABD083A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CEAE-A6A4-4B8C-8307-D4D8F7A2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5354-3A44-448F-99D1-C98A3927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666F-034F-46E6-B866-D7126F47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DF4B-B812-4CFA-8993-7840407C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72190-D8DF-4006-A42D-D69FF3E0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8FED-A2B3-46A9-B218-BB831D8C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B094-A360-4273-8CC1-9B052DD4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9366-B22D-46C3-967B-EB7675AD5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F952-C7D6-42ED-9334-38F700698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5E1-FB30-4C54-830A-9AAC5748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3E95-F28A-460D-BA37-C25022D1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757F-FB12-4FD1-8E10-54559AFB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3712-3520-4E7D-8D57-20EC0DA2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C8CE-B699-4CBE-8C98-A7CA054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C14-0058-4F75-B297-03647E89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CBE-35AC-4AC0-A59E-309F7BBF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8833-992F-4C51-B2B0-78E62A069A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3E3A-00F5-408A-A0F4-CABCD16447F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6a6a6"/>
                </a:solidFill>
                <a:latin typeface="Arial"/>
              </a:rPr>
              <a:t>Schématisation de la certification intermédiair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865-9824-4543-BE30-756BE0058D5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ZoneTexte 30"/>
          <p:cNvSpPr/>
          <p:nvPr/>
        </p:nvSpPr>
        <p:spPr>
          <a:xfrm>
            <a:off x="3124080" y="639720"/>
            <a:ext cx="5357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la certification intermédiaire (« prise au passage au fil de l’eau») : Le BEP ELE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oneTexte 31"/>
          <p:cNvSpPr/>
          <p:nvPr/>
        </p:nvSpPr>
        <p:spPr>
          <a:xfrm>
            <a:off x="1882800" y="1481040"/>
            <a:ext cx="659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34 : Réglage, paramétrage, contrôle, modification liés au champ d'application (4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ZoneTexte 32"/>
          <p:cNvSpPr/>
          <p:nvPr/>
        </p:nvSpPr>
        <p:spPr>
          <a:xfrm>
            <a:off x="1882800" y="2081160"/>
            <a:ext cx="51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33 : maintenance d'un ouvrage (3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ZoneTexte 33"/>
          <p:cNvSpPr/>
          <p:nvPr/>
        </p:nvSpPr>
        <p:spPr>
          <a:xfrm>
            <a:off x="1882800" y="3243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32 : mise en service d'un ouvrage (3h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ZoneTexte 34"/>
          <p:cNvSpPr/>
          <p:nvPr/>
        </p:nvSpPr>
        <p:spPr>
          <a:xfrm>
            <a:off x="2741760" y="3591000"/>
            <a:ext cx="6027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ff9900"/>
                </a:solidFill>
                <a:uFillTx/>
                <a:latin typeface="Arial"/>
              </a:rPr>
              <a:t>UP2</a:t>
            </a: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 : Réalisation et Mise en service d’une installation électrique 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ffe0a3"/>
                </a:solidFill>
                <a:uFillTx/>
                <a:latin typeface="Arial"/>
              </a:rPr>
              <a:t>Situation 2 (8h) en centre de formation 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Réalisation et vérification du fonctionnement d’une installation du domaine habitat/tertiaire ou du domaine industrielle de manière complémentaire au domaine certifié en période en entrepri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ffe0a3"/>
                </a:solidFill>
                <a:uFillTx/>
                <a:latin typeface="Arial"/>
              </a:rPr>
              <a:t>Situation 1 en entrepris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Réalisation d’une installation habitat/tertiaire ou industriel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u="sng">
                <a:solidFill>
                  <a:srgbClr val="ffff66"/>
                </a:solidFill>
                <a:uFillTx/>
                <a:latin typeface="Arial"/>
              </a:rPr>
              <a:t>UP1</a:t>
            </a:r>
            <a:r>
              <a:rPr b="0" i="1" lang="fr-FR" sz="1200" spc="-1" strike="noStrike">
                <a:solidFill>
                  <a:srgbClr val="ffe0a3"/>
                </a:solidFill>
                <a:latin typeface="Arial"/>
              </a:rPr>
              <a:t> : (3h) Préparation de la réalisation d’une installation électriq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Line 4"/>
          <p:cNvSpPr/>
          <p:nvPr/>
        </p:nvSpPr>
        <p:spPr>
          <a:xfrm flipH="1" flipV="1">
            <a:off x="1928880" y="3850920"/>
            <a:ext cx="1195200" cy="22716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Line 5"/>
          <p:cNvSpPr/>
          <p:nvPr/>
        </p:nvSpPr>
        <p:spPr>
          <a:xfrm flipH="1" flipV="1">
            <a:off x="1714320" y="4819320"/>
            <a:ext cx="1409400" cy="18108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Line 6"/>
          <p:cNvSpPr/>
          <p:nvPr/>
        </p:nvSpPr>
        <p:spPr>
          <a:xfrm flipH="1" flipV="1">
            <a:off x="1928880" y="3929040"/>
            <a:ext cx="830160" cy="1697040"/>
          </a:xfrm>
          <a:prstGeom prst="line">
            <a:avLst/>
          </a:prstGeom>
          <a:ln w="25560">
            <a:solidFill>
              <a:srgbClr val="ff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AutoShape 22"/>
          <p:cNvSpPr/>
          <p:nvPr/>
        </p:nvSpPr>
        <p:spPr>
          <a:xfrm>
            <a:off x="1677960" y="3103560"/>
            <a:ext cx="204840" cy="1436760"/>
          </a:xfrm>
          <a:custGeom>
            <a:avLst/>
            <a:gdLst>
              <a:gd name="textAreaLeft" fmla="*/ 0 w 204840"/>
              <a:gd name="textAreaRight" fmla="*/ 73800 w 204840"/>
              <a:gd name="textAreaTop" fmla="*/ 37440 h 1436760"/>
              <a:gd name="textAreaBottom" fmla="*/ 1399320 h 143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ZoneTexte 29"/>
          <p:cNvSpPr/>
          <p:nvPr/>
        </p:nvSpPr>
        <p:spPr>
          <a:xfrm>
            <a:off x="857160" y="639720"/>
            <a:ext cx="190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Formation sur 3 ans : Le BAC PRO ELEE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et sa certif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Groupe 37"/>
          <p:cNvGrpSpPr/>
          <p:nvPr/>
        </p:nvGrpSpPr>
        <p:grpSpPr>
          <a:xfrm>
            <a:off x="857160" y="1455840"/>
            <a:ext cx="820800" cy="4657680"/>
            <a:chOff x="857160" y="1455840"/>
            <a:chExt cx="820800" cy="4657680"/>
          </a:xfrm>
        </p:grpSpPr>
        <p:grpSp>
          <p:nvGrpSpPr>
            <p:cNvPr id="109" name="Group 7"/>
            <p:cNvGrpSpPr/>
            <p:nvPr/>
          </p:nvGrpSpPr>
          <p:grpSpPr>
            <a:xfrm>
              <a:off x="1190520" y="1455840"/>
              <a:ext cx="487440" cy="1461960"/>
              <a:chOff x="1190520" y="1455840"/>
              <a:chExt cx="487440" cy="1461960"/>
            </a:xfrm>
          </p:grpSpPr>
          <p:sp>
            <p:nvSpPr>
              <p:cNvPr id="110" name="Rectangle 8"/>
              <p:cNvSpPr/>
              <p:nvPr/>
            </p:nvSpPr>
            <p:spPr>
              <a:xfrm>
                <a:off x="1190520" y="145584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1190520" y="194292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1190520" y="2430360"/>
                <a:ext cx="487440" cy="48744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190520" y="1455840"/>
                <a:ext cx="487440" cy="1461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12"/>
            <p:cNvGrpSpPr/>
            <p:nvPr/>
          </p:nvGrpSpPr>
          <p:grpSpPr>
            <a:xfrm>
              <a:off x="1190520" y="3104280"/>
              <a:ext cx="487440" cy="1461600"/>
              <a:chOff x="1190520" y="3104280"/>
              <a:chExt cx="487440" cy="1461600"/>
            </a:xfrm>
          </p:grpSpPr>
          <p:sp>
            <p:nvSpPr>
              <p:cNvPr id="115" name="Rectangle 13"/>
              <p:cNvSpPr/>
              <p:nvPr/>
            </p:nvSpPr>
            <p:spPr>
              <a:xfrm>
                <a:off x="1190520" y="310428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190520" y="359136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190520" y="407844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190520" y="3104640"/>
                <a:ext cx="487440" cy="146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Group 17"/>
            <p:cNvGrpSpPr/>
            <p:nvPr/>
          </p:nvGrpSpPr>
          <p:grpSpPr>
            <a:xfrm>
              <a:off x="1190520" y="4651560"/>
              <a:ext cx="487440" cy="1461960"/>
              <a:chOff x="1190520" y="4651560"/>
              <a:chExt cx="487440" cy="1461960"/>
            </a:xfrm>
          </p:grpSpPr>
          <p:sp>
            <p:nvSpPr>
              <p:cNvPr id="120" name="Rectangle 18"/>
              <p:cNvSpPr/>
              <p:nvPr/>
            </p:nvSpPr>
            <p:spPr>
              <a:xfrm>
                <a:off x="1190520" y="465156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1190520" y="5138640"/>
                <a:ext cx="487440" cy="48708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1190520" y="5626080"/>
                <a:ext cx="487440" cy="487440"/>
              </a:xfrm>
              <a:prstGeom prst="rect">
                <a:avLst/>
              </a:prstGeom>
              <a:gradFill rotWithShape="0">
                <a:gsLst>
                  <a:gs pos="0">
                    <a:srgbClr val="ffc000"/>
                  </a:gs>
                  <a:gs pos="100000">
                    <a:srgbClr val="daffff"/>
                  </a:gs>
                </a:gsLst>
                <a:lin ang="5400000"/>
              </a:gradFill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1190520" y="4651560"/>
                <a:ext cx="487440" cy="1461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Rectangle 24"/>
            <p:cNvSpPr/>
            <p:nvPr/>
          </p:nvSpPr>
          <p:spPr>
            <a:xfrm rot="16200000">
              <a:off x="410040" y="5266440"/>
              <a:ext cx="11318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a6a6a6"/>
                  </a:solidFill>
                  <a:latin typeface="Arial"/>
                </a:rPr>
                <a:t>Second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Rectangle 26"/>
            <p:cNvSpPr/>
            <p:nvPr/>
          </p:nvSpPr>
          <p:spPr>
            <a:xfrm rot="16200000">
              <a:off x="411120" y="3731760"/>
              <a:ext cx="11300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a6a6a6"/>
                  </a:solidFill>
                  <a:latin typeface="Arial"/>
                </a:rPr>
                <a:t>Première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Rectangle 25"/>
            <p:cNvSpPr/>
            <p:nvPr/>
          </p:nvSpPr>
          <p:spPr>
            <a:xfrm rot="16200000">
              <a:off x="411120" y="2118960"/>
              <a:ext cx="113004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a6a6a6"/>
                  </a:solidFill>
                  <a:latin typeface="Arial"/>
                </a:rPr>
                <a:t>Terminale 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6a6a6"/>
                </a:solidFill>
                <a:latin typeface="Arial"/>
              </a:rPr>
              <a:t>Schématisation de la certification intermédiair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615680"/>
            <a:ext cx="7772400" cy="39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certification intermédiaire de niveau V et celle du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BAC PRO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s’inscrivent dans une continuité sans remettre en cause la définition et les modalités de certification  des unités du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BAC PRO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réalisation de tout ou partie de l’ouvrage électrique tout comme la vérification de son fonctionnement correspondent à la certification de UP2-2 ; la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mise en service normativ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 l’ouvrage correspond à la certification de E32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C849-B6F7-4313-9D5F-5A463DB036C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a6a6a6"/>
                </a:solidFill>
                <a:latin typeface="Arial"/>
              </a:rPr>
              <a:t>Schématisation de la certification intermédiaire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94FE-2C1D-4398-A33C-97B46E6EF16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116000" y="1228680"/>
            <a:ext cx="1508040" cy="982800"/>
          </a:xfrm>
          <a:prstGeom prst="rect">
            <a:avLst/>
          </a:prstGeom>
          <a:solidFill>
            <a:srgbClr val="ccffcc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GB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116000" y="2604960"/>
            <a:ext cx="1508040" cy="117972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tection comma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116000" y="4178160"/>
            <a:ext cx="1508040" cy="1179720"/>
          </a:xfrm>
          <a:prstGeom prst="rect">
            <a:avLst/>
          </a:prstGeom>
          <a:solidFill>
            <a:srgbClr val="99cc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rmi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Oval 6"/>
          <p:cNvSpPr/>
          <p:nvPr/>
        </p:nvSpPr>
        <p:spPr>
          <a:xfrm>
            <a:off x="939960" y="2571840"/>
            <a:ext cx="1838160" cy="2752560"/>
          </a:xfrm>
          <a:prstGeom prst="ellipse">
            <a:avLst/>
          </a:prstGeom>
          <a:noFill/>
          <a:ln w="28440">
            <a:solidFill>
              <a:srgbClr val="c4c4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785880" y="1031760"/>
            <a:ext cx="2144520" cy="4523040"/>
          </a:xfrm>
          <a:prstGeom prst="ellipse">
            <a:avLst/>
          </a:prstGeom>
          <a:noFill/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1857240" y="2228760"/>
            <a:ext cx="180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1859040" y="3800520"/>
            <a:ext cx="1440" cy="36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6302520" y="2014560"/>
            <a:ext cx="1992240" cy="787320"/>
          </a:xfrm>
          <a:prstGeom prst="rect">
            <a:avLst/>
          </a:prstGeom>
          <a:noFill/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Certification de </a:t>
            </a:r>
            <a:r>
              <a:rPr b="0" lang="fr-FR" sz="1800" spc="-1" strike="noStrike">
                <a:solidFill>
                  <a:srgbClr val="ff9900"/>
                </a:solidFill>
                <a:latin typeface="Calibri"/>
              </a:rPr>
              <a:t>U32</a:t>
            </a: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 (BAC PRO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6149880" y="4178160"/>
            <a:ext cx="1990800" cy="785880"/>
          </a:xfrm>
          <a:prstGeom prst="rect">
            <a:avLst/>
          </a:prstGeom>
          <a:noFill/>
          <a:ln w="2844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Certification de </a:t>
            </a:r>
            <a:br>
              <a:rPr sz="1800"/>
            </a:br>
            <a:r>
              <a:rPr b="0" lang="en-GB" sz="1800" spc="-1" strike="noStrike">
                <a:solidFill>
                  <a:srgbClr val="ffcc66"/>
                </a:solidFill>
                <a:latin typeface="Calibri"/>
              </a:rPr>
              <a:t>UP2-2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  (</a:t>
            </a:r>
            <a:r>
              <a:rPr b="0" lang="en-GB" sz="1800" spc="-1" strike="noStrike">
                <a:solidFill>
                  <a:srgbClr val="ffff66"/>
                </a:solidFill>
                <a:latin typeface="Calibri"/>
              </a:rPr>
              <a:t>BEP</a:t>
            </a: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12"/>
          <p:cNvSpPr/>
          <p:nvPr/>
        </p:nvSpPr>
        <p:spPr>
          <a:xfrm>
            <a:off x="2624040" y="3981600"/>
            <a:ext cx="3372120" cy="1376280"/>
          </a:xfrm>
          <a:prstGeom prst="leftArrow">
            <a:avLst>
              <a:gd name="adj1" fmla="val 100000"/>
              <a:gd name="adj2" fmla="val 55957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ctivités de réalisation et de vérification du fonctionn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ctivité d’exécutant (BEP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AutoShape 13"/>
          <p:cNvSpPr/>
          <p:nvPr/>
        </p:nvSpPr>
        <p:spPr>
          <a:xfrm>
            <a:off x="2778120" y="1622520"/>
            <a:ext cx="3371760" cy="1376280"/>
          </a:xfrm>
          <a:prstGeom prst="leftArrow">
            <a:avLst>
              <a:gd name="adj1" fmla="val 100000"/>
              <a:gd name="adj2" fmla="val 55951"/>
            </a:avLst>
          </a:prstGeom>
          <a:noFill/>
          <a:ln w="2844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ctivités de mise en service norma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=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Activité de technicien (BAC PRO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8:51:54Z</dcterms:created>
  <dc:creator>MICHEL</dc:creator>
  <dc:description/>
  <dc:language>en-US</dc:language>
  <cp:lastModifiedBy>MICHEL</cp:lastModifiedBy>
  <dcterms:modified xsi:type="dcterms:W3CDTF">2009-06-29T21:54:07Z</dcterms:modified>
  <cp:revision>3</cp:revision>
  <dc:subject/>
  <dc:title>Préambule</dc:title>
</cp:coreProperties>
</file>