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758-C78C-40D4-A770-9B7293890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8C3-877C-4A56-A64F-A0099B2AC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A8BC-1BFD-4450-992A-FFCC23126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A196-9BBF-4F7E-8B11-75CF4CB85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4CCF-774C-4379-89BC-3DB11A7EF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7269-C5AA-4E37-9FEC-EAA41E63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D29AB-2E60-43E1-8EDD-DBB06DB7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2584C-B6AE-4A10-8ED1-572F56D3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3BA1-DFA9-411D-8D24-D537791A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3CAE-AD86-4AFE-9BCB-A35BB8C4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31EA-823A-476F-B77E-77068669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4888-8CFC-40CA-A40B-CCD4466E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D2A7-72A2-4DEC-9F19-62D98AFA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DABB-A1CC-44B7-8777-0E2DEF58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462C-1EB0-48ED-A7C5-FC797E69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CCBC-5BFE-4DBB-A9A0-71AD4B16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A686-25E7-4F8B-A69D-C80A73E75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682F-FC22-405A-97CC-FEB46E5C9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199-15DB-468A-87AF-256C0FED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6DF6-74FD-41D4-A1DF-6A6568E4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5A9-2398-45C1-B943-A23E9E37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AD1-E156-4277-A7DE-1983F642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F9E6-44F9-4392-AB8D-36EFFA87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422C-E824-4A17-A29E-6206A5BB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7887-F290-4645-9182-CCB032864E0D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18FD-C84D-4BB3-B44B-FB086708025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Evaluation du dossier de synthèse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266A-1FF2-40A5-9019-C83A17F0CE1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352680" y="3429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00200" y="40384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905120" y="1371600"/>
            <a:ext cx="5029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53880" y="685800"/>
            <a:ext cx="6921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sier de synthèse (coefficient 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tion et observation des examinateu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298440" y="685800"/>
            <a:ext cx="703260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7386480" y="685800"/>
            <a:ext cx="1301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4"/>
          <p:cNvSpPr/>
          <p:nvPr/>
        </p:nvSpPr>
        <p:spPr>
          <a:xfrm>
            <a:off x="7331040" y="685800"/>
            <a:ext cx="141300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353880" y="1344600"/>
            <a:ext cx="39578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ritères d’évalu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298440" y="1344600"/>
            <a:ext cx="4068720" cy="6573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4422600" y="1344600"/>
            <a:ext cx="879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ès bi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4367160" y="1344600"/>
            <a:ext cx="990720" cy="6573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5413320" y="1344600"/>
            <a:ext cx="8161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5357880" y="1344600"/>
            <a:ext cx="927000" cy="6573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6340320" y="1344600"/>
            <a:ext cx="9352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fis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26"/>
          <p:cNvSpPr/>
          <p:nvPr/>
        </p:nvSpPr>
        <p:spPr>
          <a:xfrm>
            <a:off x="6284880" y="1344600"/>
            <a:ext cx="1046160" cy="6573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7386480" y="1344600"/>
            <a:ext cx="1301760" cy="48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7331040" y="1344600"/>
            <a:ext cx="1413000" cy="48261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31"/>
          <p:cNvSpPr/>
          <p:nvPr/>
        </p:nvSpPr>
        <p:spPr>
          <a:xfrm>
            <a:off x="353880" y="2001960"/>
            <a:ext cx="3957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scription du cadre général de l’entreprise, son organisation et son stat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32"/>
          <p:cNvSpPr/>
          <p:nvPr/>
        </p:nvSpPr>
        <p:spPr>
          <a:xfrm>
            <a:off x="298440" y="2001960"/>
            <a:ext cx="406872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34"/>
          <p:cNvSpPr/>
          <p:nvPr/>
        </p:nvSpPr>
        <p:spPr>
          <a:xfrm>
            <a:off x="4422600" y="2001960"/>
            <a:ext cx="879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35"/>
          <p:cNvSpPr/>
          <p:nvPr/>
        </p:nvSpPr>
        <p:spPr>
          <a:xfrm>
            <a:off x="4367160" y="2001960"/>
            <a:ext cx="99072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37"/>
          <p:cNvSpPr/>
          <p:nvPr/>
        </p:nvSpPr>
        <p:spPr>
          <a:xfrm>
            <a:off x="5413320" y="2001960"/>
            <a:ext cx="816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38"/>
          <p:cNvSpPr/>
          <p:nvPr/>
        </p:nvSpPr>
        <p:spPr>
          <a:xfrm>
            <a:off x="5357880" y="2001960"/>
            <a:ext cx="92700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40"/>
          <p:cNvSpPr/>
          <p:nvPr/>
        </p:nvSpPr>
        <p:spPr>
          <a:xfrm>
            <a:off x="6340320" y="2001960"/>
            <a:ext cx="935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41"/>
          <p:cNvSpPr/>
          <p:nvPr/>
        </p:nvSpPr>
        <p:spPr>
          <a:xfrm>
            <a:off x="6284880" y="2001960"/>
            <a:ext cx="104616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353880" y="2660760"/>
            <a:ext cx="3957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choix et pertinence de l’étude de c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44"/>
          <p:cNvSpPr/>
          <p:nvPr/>
        </p:nvSpPr>
        <p:spPr>
          <a:xfrm>
            <a:off x="298440" y="2660760"/>
            <a:ext cx="4068720" cy="5112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46"/>
          <p:cNvSpPr/>
          <p:nvPr/>
        </p:nvSpPr>
        <p:spPr>
          <a:xfrm>
            <a:off x="4422600" y="2660760"/>
            <a:ext cx="879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47"/>
          <p:cNvSpPr/>
          <p:nvPr/>
        </p:nvSpPr>
        <p:spPr>
          <a:xfrm>
            <a:off x="4367160" y="2660760"/>
            <a:ext cx="990720" cy="5112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9"/>
          <p:cNvSpPr/>
          <p:nvPr/>
        </p:nvSpPr>
        <p:spPr>
          <a:xfrm>
            <a:off x="5413320" y="2660760"/>
            <a:ext cx="816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50"/>
          <p:cNvSpPr/>
          <p:nvPr/>
        </p:nvSpPr>
        <p:spPr>
          <a:xfrm>
            <a:off x="5357880" y="2660760"/>
            <a:ext cx="927000" cy="5112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2"/>
          <p:cNvSpPr/>
          <p:nvPr/>
        </p:nvSpPr>
        <p:spPr>
          <a:xfrm>
            <a:off x="6340320" y="2660760"/>
            <a:ext cx="935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53"/>
          <p:cNvSpPr/>
          <p:nvPr/>
        </p:nvSpPr>
        <p:spPr>
          <a:xfrm>
            <a:off x="6284880" y="2660760"/>
            <a:ext cx="1046160" cy="5112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55"/>
          <p:cNvSpPr/>
          <p:nvPr/>
        </p:nvSpPr>
        <p:spPr>
          <a:xfrm>
            <a:off x="353880" y="3171960"/>
            <a:ext cx="3957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nalyse technique de la problématique à résoud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56"/>
          <p:cNvSpPr/>
          <p:nvPr/>
        </p:nvSpPr>
        <p:spPr>
          <a:xfrm>
            <a:off x="298440" y="3171960"/>
            <a:ext cx="406872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58"/>
          <p:cNvSpPr/>
          <p:nvPr/>
        </p:nvSpPr>
        <p:spPr>
          <a:xfrm>
            <a:off x="4422600" y="3171960"/>
            <a:ext cx="879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9"/>
          <p:cNvSpPr/>
          <p:nvPr/>
        </p:nvSpPr>
        <p:spPr>
          <a:xfrm>
            <a:off x="4367160" y="3171960"/>
            <a:ext cx="99072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61"/>
          <p:cNvSpPr/>
          <p:nvPr/>
        </p:nvSpPr>
        <p:spPr>
          <a:xfrm>
            <a:off x="5413320" y="3171960"/>
            <a:ext cx="816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62"/>
          <p:cNvSpPr/>
          <p:nvPr/>
        </p:nvSpPr>
        <p:spPr>
          <a:xfrm>
            <a:off x="5357880" y="3171960"/>
            <a:ext cx="92700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64"/>
          <p:cNvSpPr/>
          <p:nvPr/>
        </p:nvSpPr>
        <p:spPr>
          <a:xfrm>
            <a:off x="6340320" y="3171960"/>
            <a:ext cx="935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65"/>
          <p:cNvSpPr/>
          <p:nvPr/>
        </p:nvSpPr>
        <p:spPr>
          <a:xfrm>
            <a:off x="6284880" y="3171960"/>
            <a:ext cx="104616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67"/>
          <p:cNvSpPr/>
          <p:nvPr/>
        </p:nvSpPr>
        <p:spPr>
          <a:xfrm>
            <a:off x="353880" y="3830760"/>
            <a:ext cx="39578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description des quatre situations de trava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68"/>
          <p:cNvSpPr/>
          <p:nvPr/>
        </p:nvSpPr>
        <p:spPr>
          <a:xfrm>
            <a:off x="298440" y="3830760"/>
            <a:ext cx="4068720" cy="5112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4422600" y="3830760"/>
            <a:ext cx="8794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71"/>
          <p:cNvSpPr/>
          <p:nvPr/>
        </p:nvSpPr>
        <p:spPr>
          <a:xfrm>
            <a:off x="4367160" y="3830760"/>
            <a:ext cx="990720" cy="5112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73"/>
          <p:cNvSpPr/>
          <p:nvPr/>
        </p:nvSpPr>
        <p:spPr>
          <a:xfrm>
            <a:off x="5413320" y="3830760"/>
            <a:ext cx="8161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74"/>
          <p:cNvSpPr/>
          <p:nvPr/>
        </p:nvSpPr>
        <p:spPr>
          <a:xfrm>
            <a:off x="5357880" y="3830760"/>
            <a:ext cx="927000" cy="5112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76"/>
          <p:cNvSpPr/>
          <p:nvPr/>
        </p:nvSpPr>
        <p:spPr>
          <a:xfrm>
            <a:off x="6340320" y="3830760"/>
            <a:ext cx="9352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77"/>
          <p:cNvSpPr/>
          <p:nvPr/>
        </p:nvSpPr>
        <p:spPr>
          <a:xfrm>
            <a:off x="6284880" y="3830760"/>
            <a:ext cx="1046160" cy="5112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79"/>
          <p:cNvSpPr/>
          <p:nvPr/>
        </p:nvSpPr>
        <p:spPr>
          <a:xfrm>
            <a:off x="353880" y="4341960"/>
            <a:ext cx="3957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aspects relatifs à l’organisation du travail, l’animation d’équipe, la relation commerci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80"/>
          <p:cNvSpPr/>
          <p:nvPr/>
        </p:nvSpPr>
        <p:spPr>
          <a:xfrm>
            <a:off x="298440" y="4341960"/>
            <a:ext cx="406872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Rectangle 82"/>
          <p:cNvSpPr/>
          <p:nvPr/>
        </p:nvSpPr>
        <p:spPr>
          <a:xfrm>
            <a:off x="4422600" y="4341960"/>
            <a:ext cx="879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83"/>
          <p:cNvSpPr/>
          <p:nvPr/>
        </p:nvSpPr>
        <p:spPr>
          <a:xfrm>
            <a:off x="4367160" y="4341960"/>
            <a:ext cx="99072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Rectangle 85"/>
          <p:cNvSpPr/>
          <p:nvPr/>
        </p:nvSpPr>
        <p:spPr>
          <a:xfrm>
            <a:off x="5413320" y="4341960"/>
            <a:ext cx="8161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86"/>
          <p:cNvSpPr/>
          <p:nvPr/>
        </p:nvSpPr>
        <p:spPr>
          <a:xfrm>
            <a:off x="5357880" y="4341960"/>
            <a:ext cx="92700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88"/>
          <p:cNvSpPr/>
          <p:nvPr/>
        </p:nvSpPr>
        <p:spPr>
          <a:xfrm>
            <a:off x="6340320" y="4341960"/>
            <a:ext cx="935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89"/>
          <p:cNvSpPr/>
          <p:nvPr/>
        </p:nvSpPr>
        <p:spPr>
          <a:xfrm>
            <a:off x="6284880" y="4341960"/>
            <a:ext cx="1046160" cy="6588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Rectangle 91"/>
          <p:cNvSpPr/>
          <p:nvPr/>
        </p:nvSpPr>
        <p:spPr>
          <a:xfrm>
            <a:off x="353880" y="5000760"/>
            <a:ext cx="395784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aspects technologiques, normatifs et réglementaires, sécuritai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92"/>
          <p:cNvSpPr/>
          <p:nvPr/>
        </p:nvSpPr>
        <p:spPr>
          <a:xfrm>
            <a:off x="298440" y="5000760"/>
            <a:ext cx="4068720" cy="6570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94"/>
          <p:cNvSpPr/>
          <p:nvPr/>
        </p:nvSpPr>
        <p:spPr>
          <a:xfrm>
            <a:off x="4422600" y="5000760"/>
            <a:ext cx="879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95"/>
          <p:cNvSpPr/>
          <p:nvPr/>
        </p:nvSpPr>
        <p:spPr>
          <a:xfrm>
            <a:off x="4367160" y="5000760"/>
            <a:ext cx="990720" cy="6570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97"/>
          <p:cNvSpPr/>
          <p:nvPr/>
        </p:nvSpPr>
        <p:spPr>
          <a:xfrm>
            <a:off x="5413320" y="5000760"/>
            <a:ext cx="816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8"/>
          <p:cNvSpPr/>
          <p:nvPr/>
        </p:nvSpPr>
        <p:spPr>
          <a:xfrm>
            <a:off x="5357880" y="5000760"/>
            <a:ext cx="927000" cy="6570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00"/>
          <p:cNvSpPr/>
          <p:nvPr/>
        </p:nvSpPr>
        <p:spPr>
          <a:xfrm>
            <a:off x="6340320" y="5000760"/>
            <a:ext cx="9352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01"/>
          <p:cNvSpPr/>
          <p:nvPr/>
        </p:nvSpPr>
        <p:spPr>
          <a:xfrm>
            <a:off x="6284880" y="5000760"/>
            <a:ext cx="1046160" cy="6570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03"/>
          <p:cNvSpPr/>
          <p:nvPr/>
        </p:nvSpPr>
        <p:spPr>
          <a:xfrm>
            <a:off x="353880" y="5657760"/>
            <a:ext cx="39578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lité de la rédaction du dossier et sa lisibilité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04"/>
          <p:cNvSpPr/>
          <p:nvPr/>
        </p:nvSpPr>
        <p:spPr>
          <a:xfrm>
            <a:off x="298440" y="5657760"/>
            <a:ext cx="4068720" cy="5130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06"/>
          <p:cNvSpPr/>
          <p:nvPr/>
        </p:nvSpPr>
        <p:spPr>
          <a:xfrm>
            <a:off x="4422600" y="5657760"/>
            <a:ext cx="8794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07"/>
          <p:cNvSpPr/>
          <p:nvPr/>
        </p:nvSpPr>
        <p:spPr>
          <a:xfrm>
            <a:off x="4367160" y="5657760"/>
            <a:ext cx="990720" cy="5130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109"/>
          <p:cNvSpPr/>
          <p:nvPr/>
        </p:nvSpPr>
        <p:spPr>
          <a:xfrm>
            <a:off x="5413320" y="5657760"/>
            <a:ext cx="81612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110"/>
          <p:cNvSpPr/>
          <p:nvPr/>
        </p:nvSpPr>
        <p:spPr>
          <a:xfrm>
            <a:off x="5357880" y="5657760"/>
            <a:ext cx="927000" cy="5130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112"/>
          <p:cNvSpPr/>
          <p:nvPr/>
        </p:nvSpPr>
        <p:spPr>
          <a:xfrm>
            <a:off x="6340320" y="5657760"/>
            <a:ext cx="93528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809640"/>
                <a:tab algn="l" pos="1981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113"/>
          <p:cNvSpPr/>
          <p:nvPr/>
        </p:nvSpPr>
        <p:spPr>
          <a:xfrm>
            <a:off x="6284880" y="5657760"/>
            <a:ext cx="1046160" cy="5130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114"/>
          <p:cNvSpPr/>
          <p:nvPr/>
        </p:nvSpPr>
        <p:spPr>
          <a:xfrm>
            <a:off x="291960" y="682560"/>
            <a:ext cx="8458200" cy="549108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2:38:40Z</dcterms:created>
  <dc:creator>MICHEL</dc:creator>
  <dc:description/>
  <dc:language>en-US</dc:language>
  <cp:lastModifiedBy>MICHEL</cp:lastModifiedBy>
  <dcterms:modified xsi:type="dcterms:W3CDTF">2009-06-29T22:39:18Z</dcterms:modified>
  <cp:revision>1</cp:revision>
  <dc:subject/>
  <dc:title>Evaluation du dossier de synthèse</dc:title>
</cp:coreProperties>
</file>