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9728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75F1-0A7D-4540-9B1C-CB80B9D38D2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CDC = cahier des cha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1152-4593-40B3-A609-0FF4FF61C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932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279440" y="3826080"/>
            <a:ext cx="932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A67-8330-4D94-8188-57E8E5E7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7944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5952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84FD-D299-4F97-8AA8-CFC622B1A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433400" y="167652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587360" y="167652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279440" y="382608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433400" y="382608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587360" y="382608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5BE4-45AB-420F-870F-467A5447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E9725-AF09-4AA6-A53F-48DFE4F25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79440" y="1676520"/>
            <a:ext cx="9328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3695-29AC-4C25-8B65-7305B081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932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3A12D-7FE1-4CA3-AB77-FBE1BADE2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73B5-9613-40F6-99AE-3EA44C25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885D-0024-45B4-8027-039632F5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79440" y="304560"/>
            <a:ext cx="932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273B-B372-4A5E-9B58-CD46D7E6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7944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B703-49FA-4C61-94EB-C91BDAB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279440" y="1676520"/>
            <a:ext cx="93283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B3CE-96AE-46F9-89DD-23B77A11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952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1479-AA57-425A-AEF6-C1458187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79440" y="3826080"/>
            <a:ext cx="932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231F-239A-4CA0-AAB6-799C1CBB0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932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79440" y="3826080"/>
            <a:ext cx="932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6F19-7BA0-4265-8114-DFEDF09B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7944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05952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17B1-1C7F-4EB7-9E41-5AE11D53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33400" y="167652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587360" y="167652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79440" y="382608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4433400" y="382608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7587360" y="3826080"/>
            <a:ext cx="3003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4C0C-8286-4039-87C8-42E8D2209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932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39F6-7323-47D7-A487-8639F009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2C8D-705C-4D99-BD68-E154D9E9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1B5-4F3B-4E57-9217-8D586388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279440" y="304560"/>
            <a:ext cx="932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E9C1-B1ED-47DA-B285-B5C234CA2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7944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9A8B-AF63-4F82-9AFB-F33B4893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59520" y="382608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F6B1-E2C1-4452-B4C7-0C40503D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7944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59520" y="1676520"/>
            <a:ext cx="4552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79440" y="3826080"/>
            <a:ext cx="9328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851B-AA04-4446-A21E-B8B2EEDA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2600" y="1836720"/>
            <a:ext cx="272088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0320" y="15840"/>
            <a:ext cx="100476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30280" y="353880"/>
            <a:ext cx="272088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38400" y="1270080"/>
            <a:ext cx="440388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410220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92800" y="4425840"/>
            <a:ext cx="271620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775560" y="487440"/>
            <a:ext cx="351468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2556000"/>
            <a:ext cx="240984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965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79440" y="30456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279440" y="1676520"/>
            <a:ext cx="932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7944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206960" y="6324480"/>
            <a:ext cx="3473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32176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90CE-B120-4415-A506-E293FD3218C7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2600" y="1836720"/>
            <a:ext cx="272088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0320" y="15840"/>
            <a:ext cx="100476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30280" y="353880"/>
            <a:ext cx="272088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8400" y="1270080"/>
            <a:ext cx="440388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410220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2800" y="4425840"/>
            <a:ext cx="271620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75560" y="487440"/>
            <a:ext cx="351468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575560" y="2556000"/>
            <a:ext cx="240984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4945680" y="-1196280"/>
            <a:ext cx="1722600" cy="41148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965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932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4296960" y="6248520"/>
            <a:ext cx="347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84121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9A23-0E6C-4CD8-A214-06F878A7744A}" type="slidenum">
              <a:rPr b="0" lang="fr-FR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548640" y="1604520"/>
            <a:ext cx="98751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99ccff"/>
                </a:solidFill>
                <a:latin typeface="Comic Sans MS"/>
              </a:rPr>
              <a:t>Électrotechnique Énergie Équipements C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1828800"/>
            <a:ext cx="6629400" cy="13716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38880" y="2209680"/>
            <a:ext cx="61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 Narrow"/>
              </a:rPr>
              <a:t>TOUT LE METIER DE L’ELECTRICI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3581280"/>
            <a:ext cx="3200400" cy="15242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267080"/>
            <a:ext cx="4038840" cy="18288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9720" y="373392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depuis</a:t>
            </a:r>
            <a:r>
              <a:rPr b="1" lang="en-US" sz="2400" spc="-1" strike="noStrike">
                <a:solidFill>
                  <a:srgbClr val="000054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 Narrow"/>
              </a:rPr>
              <a:t>le point de livrais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54"/>
                </a:solidFill>
                <a:latin typeface="Arial Narrow"/>
              </a:rPr>
              <a:t>de l’Energi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95800" y="4724280"/>
            <a:ext cx="340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applications termi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de conversion de l’énergi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648320"/>
            <a:ext cx="1662120" cy="1552320"/>
          </a:xfrm>
          <a:prstGeom prst="rightArrow">
            <a:avLst>
              <a:gd name="adj1" fmla="val 50000"/>
              <a:gd name="adj2" fmla="val 26768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9280" y="51814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b0309"/>
                </a:solidFill>
                <a:latin typeface="Arial Narrow"/>
              </a:rPr>
              <a:t>Jusqu’aux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C5DD-C01A-42AF-9F2A-9178F623C05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304920"/>
            <a:ext cx="3352680" cy="16761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4880" y="609480"/>
            <a:ext cx="22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Mise en œuv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Matériel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2320" y="2514600"/>
            <a:ext cx="7467480" cy="3505320"/>
          </a:xfrm>
          <a:prstGeom prst="foldedCorner">
            <a:avLst>
              <a:gd name="adj" fmla="val 21180"/>
            </a:avLst>
          </a:prstGeom>
          <a:solidFill>
            <a:srgbClr val="c775c1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2666880"/>
            <a:ext cx="678168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Imaginer, à partir de CDC, des scénarios les plus authentiques possibles pour mobiliser  des compétences et des savoirs au trave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de l’exploitation des applications terminal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liées au champ d’application retenu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4ECE-F827-4312-8024-7B565D70CF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2438280"/>
            <a:ext cx="3352680" cy="388620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33920" y="2057400"/>
            <a:ext cx="6858000" cy="4495680"/>
          </a:xfrm>
          <a:prstGeom prst="verticalScroll">
            <a:avLst>
              <a:gd name="adj" fmla="val 12500"/>
            </a:avLst>
          </a:prstGeom>
          <a:solidFill>
            <a:srgbClr val="ccc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3886200"/>
            <a:ext cx="457200" cy="533520"/>
          </a:xfrm>
          <a:prstGeom prst="plus">
            <a:avLst>
              <a:gd name="adj" fmla="val 37500"/>
            </a:avLst>
          </a:prstGeom>
          <a:solidFill>
            <a:srgbClr val="ff00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23120" y="27082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cc0000"/>
                </a:solidFill>
                <a:uFillTx/>
                <a:latin typeface="Arial Narrow"/>
              </a:rPr>
              <a:t>4 Sous-épreuv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48320" y="3276720"/>
            <a:ext cx="5105160" cy="838080"/>
          </a:xfrm>
          <a:prstGeom prst="rect">
            <a:avLst/>
          </a:prstGeom>
          <a:solidFill>
            <a:srgbClr val="c77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8320" y="4292640"/>
            <a:ext cx="2590560" cy="106668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91520" y="4292640"/>
            <a:ext cx="2361960" cy="1066680"/>
          </a:xfrm>
          <a:prstGeom prst="rect">
            <a:avLst/>
          </a:prstGeom>
          <a:solidFill>
            <a:srgbClr val="fcab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5486400"/>
            <a:ext cx="5105160" cy="914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61880" y="4343400"/>
            <a:ext cx="20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Arial Narrow"/>
              </a:rPr>
              <a:t>E32 : Mise en servi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Arial Narrow"/>
              </a:rPr>
              <a:t>d’un ouvrag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Tronc commu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6572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Arial Narrow"/>
              </a:rPr>
              <a:t>E33 : Maintenanc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Arial Narrow"/>
              </a:rPr>
              <a:t>d’un ouvrag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Tronc commu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9800" y="5486400"/>
            <a:ext cx="35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Arial Narrow"/>
              </a:rPr>
              <a:t>E34 : Réglage, Paramétrage, Contrôle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0000"/>
                </a:solidFill>
                <a:latin typeface="Arial Narrow"/>
              </a:rPr>
              <a:t>Modification liés au cham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Champ spécifiqu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50440" y="3376440"/>
            <a:ext cx="4592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54"/>
                </a:solidFill>
                <a:latin typeface="Arial Narrow"/>
              </a:rPr>
              <a:t>E31 : Situations de travail en milieu professionn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Tronc commun</a:t>
            </a:r>
            <a:r>
              <a:rPr b="1" lang="fr-FR" sz="2400" spc="-1" strike="noStrike">
                <a:solidFill>
                  <a:srgbClr val="ccff33"/>
                </a:solidFill>
                <a:latin typeface="Arial Narrow"/>
              </a:rPr>
              <a:t> +</a:t>
            </a: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fr-FR" sz="1400" spc="-1" strike="noStrike">
                <a:solidFill>
                  <a:srgbClr val="ccff33"/>
                </a:solidFill>
                <a:latin typeface="Arial Narrow"/>
              </a:rPr>
              <a:t>champ spécifiqu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19720" y="2133720"/>
            <a:ext cx="6019560" cy="457200"/>
          </a:xfrm>
          <a:prstGeom prst="rect">
            <a:avLst/>
          </a:prstGeom>
          <a:solidFill>
            <a:srgbClr val="ccff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33040" y="2209680"/>
            <a:ext cx="59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54"/>
                </a:solidFill>
                <a:latin typeface="Arial Narrow"/>
              </a:rPr>
              <a:t>E3 </a:t>
            </a:r>
            <a:r>
              <a:rPr b="1" lang="fr-FR" sz="1800" spc="-1" strike="noStrike">
                <a:solidFill>
                  <a:srgbClr val="000054"/>
                </a:solidFill>
                <a:latin typeface="Arial Narrow"/>
              </a:rPr>
              <a:t>Epreuve pratique prenant en compte l’activité professionnel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200400"/>
            <a:ext cx="2438280" cy="2362320"/>
          </a:xfrm>
          <a:prstGeom prst="rect">
            <a:avLst/>
          </a:prstGeom>
          <a:solidFill>
            <a:srgbClr val="9186b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7880" y="3581280"/>
            <a:ext cx="23205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54"/>
                </a:solidFill>
                <a:latin typeface="Arial Narrow"/>
              </a:rPr>
              <a:t>E2 : Étude d’un ouvrag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Tronc commu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ccff33"/>
                </a:solidFill>
                <a:latin typeface="Arial Narrow"/>
              </a:rPr>
              <a:t>+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ccff33"/>
                </a:solidFill>
                <a:latin typeface="Arial Narrow"/>
              </a:rPr>
              <a:t>Champ spécifique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02120" y="0"/>
            <a:ext cx="3504960" cy="2179800"/>
          </a:xfrm>
          <a:prstGeom prst="flowChartMultidocument">
            <a:avLst/>
          </a:prstGeom>
          <a:solidFill>
            <a:srgbClr val="9186b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258720" y="457200"/>
            <a:ext cx="28994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LA CERTIFIC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termin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00080"/>
                </a:solidFill>
                <a:latin typeface="Arial Narrow"/>
              </a:rPr>
              <a:t>(Domaine professionne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BF92-218C-4312-8ED6-2DF1474F83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 rot="20578800">
            <a:off x="1143000" y="1752120"/>
            <a:ext cx="932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6ffff"/>
                </a:solidFill>
                <a:latin typeface="Arial"/>
              </a:rPr>
              <a:t>Y a pu K …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58000" y="2971800"/>
            <a:ext cx="2525760" cy="340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F711-CBB4-44CA-B5C5-BE3EABC1D0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3048120"/>
            <a:ext cx="6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7a"/>
                </a:solidFill>
                <a:latin typeface="Arial"/>
              </a:rPr>
              <a:t>seu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33720" y="838080"/>
            <a:ext cx="5734080" cy="4496040"/>
          </a:xfrm>
          <a:prstGeom prst="flowChartPunchedCard">
            <a:avLst/>
          </a:prstGeom>
          <a:solidFill>
            <a:srgbClr val="0000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4320" y="1219320"/>
            <a:ext cx="53532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66ffff"/>
                </a:solidFill>
                <a:uFillTx/>
                <a:latin typeface="Arial"/>
              </a:rPr>
              <a:t>Deux champs d’applica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i="1" lang="fr-FR" sz="2000" spc="-1" strike="noStrike">
                <a:solidFill>
                  <a:srgbClr val="ccff33"/>
                </a:solidFill>
                <a:latin typeface="Arial"/>
              </a:rPr>
              <a:t>Liés aux supports et aux applications mi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ccff33"/>
                </a:solidFill>
                <a:latin typeface="Arial"/>
              </a:rPr>
              <a:t>en œuvre au sein des établissemen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eaeaea"/>
                </a:solidFill>
                <a:latin typeface="Arial"/>
              </a:rPr>
              <a:t>HABITAT-TERTIAIR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eaeaea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eaeaea"/>
                </a:solidFill>
                <a:latin typeface="Arial"/>
              </a:rPr>
              <a:t>INDUSTRI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ccff3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a50021"/>
                </a:solidFill>
                <a:latin typeface="Arial"/>
              </a:rPr>
              <a:t>Un des deux champs sera approfondi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0201-B4E5-4465-8CAC-454D82965F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3200400"/>
            <a:ext cx="3240000" cy="1828800"/>
          </a:xfrm>
          <a:prstGeom prst="roundRect">
            <a:avLst>
              <a:gd name="adj" fmla="val 16667"/>
            </a:avLst>
          </a:prstGeom>
          <a:solidFill>
            <a:srgbClr val="ccff33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81280" y="533520"/>
            <a:ext cx="3494160" cy="1460520"/>
          </a:xfrm>
          <a:prstGeom prst="roundRect">
            <a:avLst>
              <a:gd name="adj" fmla="val 16667"/>
            </a:avLst>
          </a:prstGeom>
          <a:solidFill>
            <a:srgbClr val="ebd18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00200" y="3581280"/>
            <a:ext cx="3024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a"/>
                </a:solidFill>
                <a:latin typeface="Arial"/>
              </a:rPr>
              <a:t>Un tronc commu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a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7a"/>
                </a:solidFill>
                <a:latin typeface="Arial"/>
              </a:rPr>
              <a:t>de connaissanc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13120" y="762120"/>
            <a:ext cx="306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Tous les savoir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Arial"/>
              </a:rPr>
              <a:t>sont enseigné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2362320"/>
            <a:ext cx="4800600" cy="1447560"/>
          </a:xfrm>
          <a:prstGeom prst="flowChartDocument">
            <a:avLst/>
          </a:pr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85080" y="281952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Un tiers des savoirs est  approfond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0772400">
            <a:off x="5104800" y="3885840"/>
            <a:ext cx="4800600" cy="2286000"/>
          </a:xfrm>
          <a:prstGeom prst="flowChartDocument">
            <a:avLst/>
          </a:pr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23960" y="4191120"/>
            <a:ext cx="448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                             </a:t>
            </a:r>
            <a:r>
              <a:rPr b="1" lang="fr-FR" sz="2400" spc="-1" strike="noStrike" u="sng">
                <a:solidFill>
                  <a:srgbClr val="cc0000"/>
                </a:solidFill>
                <a:uFillTx/>
                <a:latin typeface="Arial Narrow"/>
              </a:rPr>
              <a:t>Selon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Arial Narrow"/>
              </a:rPr>
              <a:t> le cham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b0309"/>
                </a:solidFill>
                <a:latin typeface="Wingdings"/>
                <a:ea typeface="Wingdings"/>
              </a:rPr>
              <a:t></a:t>
            </a:r>
            <a:r>
              <a:rPr b="0" lang="en-US" sz="2400" spc="-1" strike="noStrike">
                <a:solidFill>
                  <a:srgbClr val="7b030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Niveau taxonomique différent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7b030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b0309"/>
                </a:solidFill>
                <a:latin typeface="Wingdings"/>
                <a:ea typeface="Wingdings"/>
              </a:rPr>
              <a:t></a:t>
            </a:r>
            <a:r>
              <a:rPr b="0" lang="en-US" sz="2400" spc="-1" strike="noStrike">
                <a:solidFill>
                  <a:srgbClr val="7b0309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 Narrow"/>
              </a:rPr>
              <a:t>Temps d’enseignement différents</a:t>
            </a:r>
            <a:r>
              <a:rPr b="0" lang="en-US" sz="2400" spc="-1" strike="noStrike">
                <a:solidFill>
                  <a:srgbClr val="cc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8F515-E915-4BED-AC80-2C3F521B01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1066680"/>
            <a:ext cx="5791320" cy="3200400"/>
          </a:xfrm>
          <a:prstGeom prst="verticalScroll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1600200"/>
            <a:ext cx="464976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aeaea"/>
                </a:solidFill>
                <a:latin typeface="Arial Narrow"/>
              </a:rPr>
              <a:t>La distinction entre les deux champs est faite par la mise en œuvre </a:t>
            </a:r>
            <a:r>
              <a:rPr b="1" lang="fr-FR" sz="2800" spc="-1" strike="noStrike" u="sng">
                <a:solidFill>
                  <a:srgbClr val="eaeaea"/>
                </a:solidFill>
                <a:uFillTx/>
                <a:latin typeface="Arial Narrow"/>
              </a:rPr>
              <a:t>d’applications terminales différent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52480" y="4724280"/>
            <a:ext cx="8077320" cy="1524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6240" y="5257800"/>
            <a:ext cx="731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Il ne s’agit pas d’approfondir la même application terminale</a:t>
            </a:r>
            <a:r>
              <a:rPr b="0" lang="fr-FR" sz="2400" spc="-1" strike="noStrike">
                <a:solidFill>
                  <a:srgbClr val="000054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0CB8-EA3A-4CFB-8E23-78DC131C28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Électrotechnique</a:t>
            </a:r>
            <a:r>
              <a:rPr b="0" lang="fr-FR" sz="20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20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20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20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0" y="1143000"/>
            <a:ext cx="6324480" cy="2057400"/>
          </a:xfrm>
          <a:prstGeom prst="rect">
            <a:avLst/>
          </a:prstGeom>
          <a:solidFill>
            <a:srgbClr val="ccff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20996400">
            <a:off x="2059560" y="1450800"/>
            <a:ext cx="58150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Arial Narrow"/>
              </a:rPr>
              <a:t>L’établissement doit </a:t>
            </a:r>
            <a:r>
              <a:rPr b="1" lang="fr-FR" sz="2800" spc="-1" strike="noStrike">
                <a:solidFill>
                  <a:srgbClr val="eaeaea"/>
                </a:solidFill>
                <a:latin typeface="Arial Narrow"/>
              </a:rPr>
              <a:t>obligatoirement</a:t>
            </a:r>
            <a:r>
              <a:rPr b="1" lang="fr-FR" sz="2400" spc="-1" strike="noStrike">
                <a:solidFill>
                  <a:srgbClr val="ff0066"/>
                </a:solidFill>
                <a:latin typeface="Arial Narrow"/>
              </a:rPr>
              <a:t> choisi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ff33"/>
                </a:solidFill>
                <a:latin typeface="Arial Narrow"/>
              </a:rPr>
              <a:t>UN des deux champ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14600" y="4038480"/>
            <a:ext cx="6934320" cy="198144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74760" y="4267080"/>
            <a:ext cx="59551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aeaea"/>
                </a:solidFill>
                <a:latin typeface="Arial Narrow"/>
              </a:rPr>
              <a:t>Le volume horaire accordé à la formation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aeaea"/>
                </a:solidFill>
                <a:latin typeface="Arial Narrow"/>
              </a:rPr>
              <a:t>ne permet de développer qu’un seu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eaeaea"/>
                </a:solidFill>
                <a:latin typeface="Arial Narrow"/>
              </a:rPr>
              <a:t>des deux champ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34520" y="1371600"/>
            <a:ext cx="1190520" cy="2057400"/>
          </a:xfrm>
          <a:custGeom>
            <a:avLst/>
            <a:gdLst>
              <a:gd name="textAreaLeft" fmla="*/ 159480 w 1190520"/>
              <a:gd name="textAreaRight" fmla="*/ 1031040 w 1190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7C8B-2E83-4305-B6BE-FE23A67794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21230400">
            <a:off x="2133360" y="1066320"/>
            <a:ext cx="6095880" cy="2438640"/>
          </a:xfrm>
          <a:prstGeom prst="rect">
            <a:avLst/>
          </a:prstGeom>
          <a:solidFill>
            <a:srgbClr val="7b030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1329400">
            <a:off x="2736360" y="1219320"/>
            <a:ext cx="4854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ffff"/>
                </a:solidFill>
                <a:latin typeface="Arial Narrow"/>
              </a:rPr>
              <a:t>La formation selon UN des deux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66ffff"/>
                </a:solidFill>
                <a:latin typeface="Arial Narrow"/>
              </a:rPr>
              <a:t>Champs d’application n’est pas 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ccff33"/>
                </a:solidFill>
                <a:latin typeface="Arial Narrow"/>
              </a:rPr>
              <a:t>Une « Pré orientation » à l’emplo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28200" y="3581280"/>
            <a:ext cx="72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3300"/>
                </a:solidFill>
                <a:uFillTx/>
                <a:latin typeface="Arial Narrow"/>
              </a:rPr>
              <a:t>Quel que soit le champ approfondi au cours de la 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2480" y="4191120"/>
            <a:ext cx="8534520" cy="228600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65320" y="4267080"/>
            <a:ext cx="73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Le Bac ELEEC permet une insertion dans les deux champs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50292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5867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55040" y="5029200"/>
            <a:ext cx="25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b0309"/>
                </a:solidFill>
                <a:latin typeface="Arial Narrow"/>
              </a:rPr>
              <a:t>Habitat / Tertiai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6600" y="5867280"/>
            <a:ext cx="15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b0309"/>
                </a:solidFill>
                <a:latin typeface="Arial Narrow"/>
              </a:rPr>
              <a:t>Industriel</a:t>
            </a:r>
            <a:r>
              <a:rPr b="1" lang="fr-FR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2A65-051A-45BA-810D-17A520C840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228600"/>
            <a:ext cx="3353040" cy="19051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5880" y="762120"/>
            <a:ext cx="281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54"/>
                </a:solidFill>
                <a:latin typeface="Arial Narrow"/>
              </a:rPr>
              <a:t>Le candidat choisi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54"/>
                </a:solidFill>
                <a:latin typeface="Arial Narrow"/>
              </a:rPr>
              <a:t>son cha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23880" y="2286000"/>
            <a:ext cx="2819520" cy="2743200"/>
          </a:xfrm>
          <a:prstGeom prst="foldedCorner">
            <a:avLst>
              <a:gd name="adj" fmla="val 27652"/>
            </a:avLst>
          </a:pr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5000" y="2514600"/>
            <a:ext cx="20584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54"/>
                </a:solidFill>
                <a:uFillTx/>
                <a:latin typeface="Arial Narrow"/>
              </a:rPr>
              <a:t>Inscriptio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dan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l’établissem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de form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62760" y="2786040"/>
            <a:ext cx="4038480" cy="1650960"/>
          </a:xfrm>
          <a:prstGeom prst="foldedCorner">
            <a:avLst>
              <a:gd name="adj" fmla="val 24763"/>
            </a:avLst>
          </a:prstGeom>
          <a:solidFill>
            <a:srgbClr val="00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8120" y="2962440"/>
            <a:ext cx="27075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54"/>
                </a:solidFill>
                <a:uFillTx/>
                <a:latin typeface="Arial Narrow"/>
              </a:rPr>
              <a:t>Pendant l’épreuve E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 </a:t>
            </a:r>
            <a:r>
              <a:rPr b="1" lang="fr-FR" sz="2400" spc="-1" strike="noStrike">
                <a:solidFill>
                  <a:srgbClr val="000054"/>
                </a:solidFill>
                <a:latin typeface="Arial Narrow"/>
              </a:rPr>
              <a:t>à l’exame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8991720" cy="914400"/>
          </a:xfrm>
          <a:prstGeom prst="rect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30360" y="5715000"/>
            <a:ext cx="85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Le diplôme délivré ne fait pas référence au champ d’application chois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2168C-74C1-4A5A-A53B-1257FA1157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9880" y="304920"/>
            <a:ext cx="3353040" cy="99036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533520"/>
            <a:ext cx="184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aeaea"/>
                </a:solidFill>
                <a:latin typeface="Arial Narrow"/>
              </a:rPr>
              <a:t>Les PFMP</a:t>
            </a:r>
            <a:r>
              <a:rPr b="0" lang="fr-FR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43000" y="3429000"/>
            <a:ext cx="3200400" cy="762120"/>
          </a:xfrm>
          <a:prstGeom prst="rect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5560" y="350532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66"/>
                </a:solidFill>
                <a:latin typeface="Arial Narrow"/>
              </a:rPr>
              <a:t>Entreprises d’accuei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0760" y="4365720"/>
            <a:ext cx="4267440" cy="1752480"/>
          </a:xfrm>
          <a:prstGeom prst="flowChartPunchedCard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40520" y="4797360"/>
            <a:ext cx="330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16 </a:t>
            </a:r>
            <a:r>
              <a:rPr b="1" lang="fr-FR" sz="1800" spc="-1" strike="noStrike">
                <a:solidFill>
                  <a:srgbClr val="ffff00"/>
                </a:solidFill>
                <a:latin typeface="Arial Narrow"/>
              </a:rPr>
              <a:t>semaines </a:t>
            </a: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réparties su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les deux dernières anné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846760" y="1989000"/>
            <a:ext cx="3809880" cy="1752840"/>
          </a:xfrm>
          <a:prstGeom prst="flowChartPunchedCard">
            <a:avLst/>
          </a:prstGeom>
          <a:solidFill>
            <a:srgbClr val="000054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35120" y="2276640"/>
            <a:ext cx="328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6 </a:t>
            </a:r>
            <a:r>
              <a:rPr b="1" lang="fr-FR" sz="1800" spc="-1" strike="noStrike">
                <a:solidFill>
                  <a:srgbClr val="ffff00"/>
                </a:solidFill>
                <a:latin typeface="Arial Narrow"/>
              </a:rPr>
              <a:t>semaines</a:t>
            </a: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 la premiè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Année en vue de l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 Narrow"/>
              </a:rPr>
              <a:t>Certification intermédiair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20898000">
            <a:off x="3854520" y="1987560"/>
            <a:ext cx="1628640" cy="1041480"/>
          </a:xfrm>
          <a:custGeom>
            <a:avLst/>
            <a:gdLst>
              <a:gd name="textAreaLeft" fmla="*/ 284760 w 1628640"/>
              <a:gd name="textAreaRight" fmla="*/ 1180800 w 1628640"/>
              <a:gd name="textAreaTop" fmla="*/ 139320 h 1041480"/>
              <a:gd name="textAreaBottom" fmla="*/ 90216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rot="1660800">
            <a:off x="3733920" y="4876560"/>
            <a:ext cx="1752480" cy="809640"/>
          </a:xfrm>
          <a:custGeom>
            <a:avLst/>
            <a:gdLst>
              <a:gd name="textAreaLeft" fmla="*/ 306720 w 1752480"/>
              <a:gd name="textAreaRight" fmla="*/ 1270800 w 1752480"/>
              <a:gd name="textAreaTop" fmla="*/ 108360 h 809640"/>
              <a:gd name="textAreaBottom" fmla="*/ 70128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FFC4-F896-41C3-82A1-8A1C971C46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rot="21571200">
            <a:off x="0" y="6460920"/>
            <a:ext cx="105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 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JPA</a:t>
            </a:r>
            <a:r>
              <a:rPr b="0" lang="fr-FR" sz="2000" spc="-1" strike="noStrike">
                <a:solidFill>
                  <a:srgbClr val="66ffff"/>
                </a:solidFill>
                <a:latin typeface="Comic Sans MS"/>
              </a:rPr>
              <a:t>                           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lectrotechnique</a:t>
            </a:r>
            <a:r>
              <a:rPr b="0" lang="fr-FR" sz="1600" spc="-1" strike="noStrike">
                <a:solidFill>
                  <a:srgbClr val="7b030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nergie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Équipements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66ffff"/>
                </a:solidFill>
                <a:latin typeface="Comic Sans MS"/>
              </a:rPr>
              <a:t>C</a:t>
            </a:r>
            <a:r>
              <a:rPr b="0" lang="fr-FR" sz="1600" spc="-1" strike="noStrike">
                <a:solidFill>
                  <a:srgbClr val="ccff33"/>
                </a:solidFill>
                <a:latin typeface="Comic Sans MS"/>
              </a:rPr>
              <a:t>ommunicant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9206000">
            <a:off x="-380520" y="990720"/>
            <a:ext cx="3765600" cy="649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un seul BAC P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855800">
            <a:off x="7543800" y="761760"/>
            <a:ext cx="3765600" cy="609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cab4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Arial"/>
              </a:rPr>
              <a:t>le BAC ELEEC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47920" y="2057400"/>
            <a:ext cx="8762760" cy="4419720"/>
          </a:xfrm>
          <a:prstGeom prst="rect">
            <a:avLst/>
          </a:prstGeom>
          <a:solidFill>
            <a:srgbClr val="555bad"/>
          </a:solidFill>
          <a:ln w="936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0600" y="2286000"/>
            <a:ext cx="2438280" cy="1600200"/>
          </a:xfrm>
          <a:prstGeom prst="rect">
            <a:avLst/>
          </a:prstGeom>
          <a:solidFill>
            <a:srgbClr val="99ff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4495680"/>
            <a:ext cx="3505320" cy="1676520"/>
          </a:xfrm>
          <a:prstGeom prst="rect">
            <a:avLst/>
          </a:pr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60560" y="5013360"/>
            <a:ext cx="30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Applications termi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industriel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4495680"/>
            <a:ext cx="3809880" cy="1676520"/>
          </a:xfrm>
          <a:prstGeom prst="rect">
            <a:avLst/>
          </a:pr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9280" y="4869000"/>
            <a:ext cx="300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Applications termi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Arial Narrow"/>
              </a:rPr>
              <a:t>Habitat / Tertiair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05080" y="2438280"/>
            <a:ext cx="2067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TGB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Arial Narrow"/>
              </a:rPr>
              <a:t>à voc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800080"/>
                </a:solidFill>
                <a:latin typeface="Arial Narrow"/>
              </a:rPr>
              <a:t>« Pédagogique »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3200040" y="3429000"/>
            <a:ext cx="1600200" cy="0"/>
          </a:xfrm>
          <a:prstGeom prst="line">
            <a:avLst/>
          </a:prstGeom>
          <a:ln w="7632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00400" y="3429000"/>
            <a:ext cx="0" cy="1066680"/>
          </a:xfrm>
          <a:prstGeom prst="line">
            <a:avLst/>
          </a:prstGeom>
          <a:ln w="7632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238880" y="3352680"/>
            <a:ext cx="1143000" cy="0"/>
          </a:xfrm>
          <a:prstGeom prst="line">
            <a:avLst/>
          </a:prstGeom>
          <a:ln w="7632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1880" y="3352680"/>
            <a:ext cx="0" cy="1143000"/>
          </a:xfrm>
          <a:prstGeom prst="line">
            <a:avLst/>
          </a:prstGeom>
          <a:ln w="76320">
            <a:solidFill>
              <a:srgbClr val="00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514600" y="3048120"/>
            <a:ext cx="22860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14600" y="3048120"/>
            <a:ext cx="0" cy="1447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38880" y="2971800"/>
            <a:ext cx="175284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991720" y="2971800"/>
            <a:ext cx="0" cy="15238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472600">
            <a:off x="2131920" y="236232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 Narrow"/>
              </a:rPr>
              <a:t>Communicati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05120" y="2286000"/>
            <a:ext cx="83808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8763120" y="2209680"/>
            <a:ext cx="76176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9024800">
            <a:off x="8076600" y="2285640"/>
            <a:ext cx="133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3300"/>
                </a:solidFill>
                <a:latin typeface="Arial Narrow"/>
              </a:rPr>
              <a:t>Communicatio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114800" y="228600"/>
            <a:ext cx="3352680" cy="16765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38320" y="558720"/>
            <a:ext cx="221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Mise en œuv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0080"/>
                </a:solidFill>
                <a:latin typeface="Arial Narrow"/>
              </a:rPr>
              <a:t>Matériel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0E19E-1432-463B-80B7-18195C20D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5T09:02:29Z</dcterms:created>
  <dc:creator>Auvray Jean-Paul</dc:creator>
  <dc:description/>
  <dc:language>en-US</dc:language>
  <cp:lastModifiedBy>Techniciens ED</cp:lastModifiedBy>
  <dcterms:modified xsi:type="dcterms:W3CDTF">2009-06-01T14:11:45Z</dcterms:modified>
  <cp:revision>634</cp:revision>
  <dc:subject/>
  <dc:title>Séminaire1 JP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6</vt:r8>
  </property>
  <property fmtid="{D5CDD505-2E9C-101B-9397-08002B2CF9AE}" pid="3" name="Version">
    <vt:r8>2</vt:r8>
  </property>
</Properties>
</file>