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2E19-E7A5-4C8E-B0C7-C193628787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in de la réaction après environ 5 minutes si les proportions ont été bien respecté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1 . Prélever le gaz  provenant de la combus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2. L ’injecter dans de l ’eau de cha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 ’eau de chaux se trouble: le gaz recueilli est donc du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ioxyde de carbon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ette contre expérience est réalisée dans le but de montrer qu ’il y a de l ’air au fond du bécher qui entretient la combustion de la bougi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On verse le dioxyde de carbone délicatement en évitant de verser le liquide sur la boug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elle-ci s ’éteint: le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ioxyde de carbone est donc plus dense que l ’air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1 . L ’utilisation d ’une balance électronique faciliterait la tâ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Éviter le contact entre la craie et l ’acide chlorhydrique avant de bouch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Vérifier que l ’équilibre est maintenu tout au long de la réa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0705-3196-4E18-AB64-DD115CF1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6B8C-5782-439B-9D51-E49CF556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E1F-F079-4FC4-91D8-9A58DE62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2EE-AEDB-41F9-8A57-2C9428F5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D593-FF3D-41A8-B99F-4AD15FAF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AD93-8726-4B3A-9664-6A80B4D8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C693-6B12-42F8-BB6E-F302AAE2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58C5-E576-44B8-B631-03EB86DD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E61B-CD6C-4737-AE24-E911C58B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7621-9345-42E7-BFFD-7CFC767D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9394-D9E0-4A2B-927A-E7230EFB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630-7882-4DF5-B3C7-C8FAE626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C514-202C-4E71-BAE5-C19A7528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3CB6-7EC9-45A0-8251-8A96D8BB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BF80-4FA3-47CB-AA12-FF082F1C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110F-CFC2-485E-8DF3-AC4C6826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F61E-EA4D-4303-A831-0606C09C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254-8E3E-4E2B-AFDA-DB440E99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2C65-C3EE-4DEC-BDBC-E4B1032C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ADD-B501-4C3A-8117-E460A90E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9F0-B9CE-46CE-B6CF-F992661F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3FD8-4D54-472F-AF51-8584B175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202D-74F9-4775-B956-1F37D7D3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330D-E82A-4A1F-B83F-12FBAC0B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B698-D6C3-4399-B361-21397A96C6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BE1D-8439-405C-A5C5-64D0DEDA2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1943280"/>
            <a:ext cx="807732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cc00ff"/>
                </a:solidFill>
                <a:latin typeface="Times New Roman"/>
              </a:rPr>
              <a:t>RÉACTION DU CALCAIRE AVEC L’ACIDE CHLORHYDRIQ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752480" y="3200400"/>
          <a:ext cx="6400800" cy="22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3200400"/>
                    <a:ext cx="640080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2133720" y="1295280"/>
            <a:ext cx="1447560" cy="2210040"/>
            <a:chOff x="2133720" y="1295280"/>
            <a:chExt cx="1447560" cy="2210040"/>
          </a:xfrm>
        </p:grpSpPr>
        <p:sp>
          <p:nvSpPr>
            <p:cNvPr id="234" name=""/>
            <p:cNvSpPr/>
            <p:nvPr/>
          </p:nvSpPr>
          <p:spPr>
            <a:xfrm>
              <a:off x="2133720" y="1760400"/>
              <a:ext cx="0" cy="174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81280" y="1760400"/>
              <a:ext cx="0" cy="174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33720" y="3505320"/>
              <a:ext cx="1447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133720" y="1586160"/>
              <a:ext cx="347400" cy="174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3233520" y="1586160"/>
              <a:ext cx="347400" cy="174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481120" y="1295280"/>
              <a:ext cx="0" cy="29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233880" y="1295280"/>
              <a:ext cx="0" cy="29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422800" y="1295280"/>
              <a:ext cx="0" cy="174240"/>
            </a:xfrm>
            <a:prstGeom prst="line">
              <a:avLst/>
            </a:prstGeom>
            <a:ln w="763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291480" y="1295280"/>
              <a:ext cx="0" cy="174240"/>
            </a:xfrm>
            <a:prstGeom prst="line">
              <a:avLst/>
            </a:prstGeom>
            <a:ln w="763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22800" y="1295280"/>
              <a:ext cx="868320" cy="0"/>
            </a:xfrm>
            <a:prstGeom prst="line">
              <a:avLst/>
            </a:prstGeom>
            <a:ln w="763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72200" y="2666880"/>
            <a:ext cx="685800" cy="91440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24480" y="2133720"/>
            <a:ext cx="381240" cy="533160"/>
          </a:xfrm>
          <a:prstGeom prst="ellipse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10280" y="3059280"/>
            <a:ext cx="411120" cy="52200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086600" y="2753640"/>
            <a:ext cx="228600" cy="304920"/>
          </a:xfrm>
          <a:prstGeom prst="ellipse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2819520"/>
            <a:ext cx="1447560" cy="685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1828800" y="2209320"/>
            <a:ext cx="1905120" cy="2896200"/>
            <a:chOff x="1828800" y="2209320"/>
            <a:chExt cx="1905120" cy="2896200"/>
          </a:xfrm>
        </p:grpSpPr>
        <p:sp>
          <p:nvSpPr>
            <p:cNvPr id="250" name=""/>
            <p:cNvSpPr/>
            <p:nvPr/>
          </p:nvSpPr>
          <p:spPr>
            <a:xfrm>
              <a:off x="1828800" y="5105520"/>
              <a:ext cx="1905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3276720" y="2590560"/>
              <a:ext cx="45720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828800" y="2209320"/>
              <a:ext cx="1905120" cy="2896200"/>
              <a:chOff x="1828800" y="2209320"/>
              <a:chExt cx="1905120" cy="2896200"/>
            </a:xfrm>
          </p:grpSpPr>
          <p:sp>
            <p:nvSpPr>
              <p:cNvPr id="253" name=""/>
              <p:cNvSpPr/>
              <p:nvPr/>
            </p:nvSpPr>
            <p:spPr>
              <a:xfrm>
                <a:off x="1828800" y="2819520"/>
                <a:ext cx="0" cy="2286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733920" y="2819520"/>
                <a:ext cx="0" cy="2286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28800" y="2590560"/>
                <a:ext cx="45720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2286000" y="2209320"/>
                <a:ext cx="0" cy="3812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276720" y="2209320"/>
                <a:ext cx="0" cy="3812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828800" y="4495680"/>
                <a:ext cx="1905120" cy="6098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2133720" y="762120"/>
            <a:ext cx="914400" cy="3352680"/>
            <a:chOff x="2133720" y="762120"/>
            <a:chExt cx="914400" cy="3352680"/>
          </a:xfrm>
        </p:grpSpPr>
        <p:sp>
          <p:nvSpPr>
            <p:cNvPr id="260" name=""/>
            <p:cNvSpPr/>
            <p:nvPr/>
          </p:nvSpPr>
          <p:spPr>
            <a:xfrm>
              <a:off x="2362320" y="21337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19520" y="21337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62320" y="342900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670120" y="3425400"/>
              <a:ext cx="146160" cy="15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14600" y="35812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62320" y="2438280"/>
              <a:ext cx="457200" cy="152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66880" y="35812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590920" y="990360"/>
              <a:ext cx="0" cy="144756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33720" y="762120"/>
              <a:ext cx="914400" cy="2286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 flipV="1">
            <a:off x="3048120" y="213336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251460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409720" y="2742840"/>
            <a:ext cx="2134080" cy="2438640"/>
            <a:chOff x="5409720" y="2742840"/>
            <a:chExt cx="2134080" cy="2438640"/>
          </a:xfrm>
        </p:grpSpPr>
        <p:grpSp>
          <p:nvGrpSpPr>
            <p:cNvPr id="272" name=""/>
            <p:cNvGrpSpPr/>
            <p:nvPr/>
          </p:nvGrpSpPr>
          <p:grpSpPr>
            <a:xfrm>
              <a:off x="5638680" y="2743200"/>
              <a:ext cx="1905120" cy="2438280"/>
              <a:chOff x="5638680" y="2743200"/>
              <a:chExt cx="1905120" cy="2438280"/>
            </a:xfrm>
          </p:grpSpPr>
          <p:sp>
            <p:nvSpPr>
              <p:cNvPr id="273" name=""/>
              <p:cNvSpPr/>
              <p:nvPr/>
            </p:nvSpPr>
            <p:spPr>
              <a:xfrm>
                <a:off x="5638680" y="5181480"/>
                <a:ext cx="19051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638680" y="2895480"/>
                <a:ext cx="0" cy="2286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543800" y="2743200"/>
                <a:ext cx="0" cy="2438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638680" y="4343400"/>
                <a:ext cx="1905120" cy="838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H="1" flipV="1">
              <a:off x="5409720" y="2742840"/>
              <a:ext cx="228600" cy="152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943600" y="4419720"/>
            <a:ext cx="1295280" cy="685800"/>
            <a:chOff x="5943600" y="4419720"/>
            <a:chExt cx="1295280" cy="685800"/>
          </a:xfrm>
        </p:grpSpPr>
        <p:grpSp>
          <p:nvGrpSpPr>
            <p:cNvPr id="279" name=""/>
            <p:cNvGrpSpPr/>
            <p:nvPr/>
          </p:nvGrpSpPr>
          <p:grpSpPr>
            <a:xfrm>
              <a:off x="5943600" y="4419720"/>
              <a:ext cx="1295280" cy="685800"/>
              <a:chOff x="5943600" y="4419720"/>
              <a:chExt cx="1295280" cy="685800"/>
            </a:xfrm>
          </p:grpSpPr>
          <p:sp>
            <p:nvSpPr>
              <p:cNvPr id="280" name=""/>
              <p:cNvSpPr/>
              <p:nvPr/>
            </p:nvSpPr>
            <p:spPr>
              <a:xfrm>
                <a:off x="6629400" y="4800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933960" y="47242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933960" y="4419720"/>
                <a:ext cx="30492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1680" y="49528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53080" y="49528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248160" y="47242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43600" y="4419720"/>
                <a:ext cx="30456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6477120" y="4419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29400" y="45720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0800" y="45720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6095880" y="1676520"/>
            <a:ext cx="914400" cy="2818800"/>
            <a:chOff x="6095880" y="1676520"/>
            <a:chExt cx="914400" cy="2818800"/>
          </a:xfrm>
        </p:grpSpPr>
        <p:sp>
          <p:nvSpPr>
            <p:cNvPr id="291" name=""/>
            <p:cNvSpPr/>
            <p:nvPr/>
          </p:nvSpPr>
          <p:spPr>
            <a:xfrm>
              <a:off x="6324480" y="2514600"/>
              <a:ext cx="0" cy="129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81680" y="2514600"/>
              <a:ext cx="0" cy="129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24480" y="3809880"/>
              <a:ext cx="15264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6632640" y="3806640"/>
              <a:ext cx="145800" cy="15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77120" y="396216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24480" y="3352680"/>
              <a:ext cx="457200" cy="1519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29400" y="396216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6553080" y="1904400"/>
              <a:ext cx="0" cy="144756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5880" y="1676520"/>
              <a:ext cx="914400" cy="2282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17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581280" y="2895480"/>
            <a:ext cx="0" cy="228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2743200"/>
            <a:ext cx="0" cy="2438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518148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4343400"/>
            <a:ext cx="190512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67080" y="28195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8195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41148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575240" y="4111200"/>
            <a:ext cx="145800" cy="15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4267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3657600"/>
            <a:ext cx="457200" cy="15228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4267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495680" y="2209680"/>
            <a:ext cx="0" cy="1447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1981080"/>
            <a:ext cx="914400" cy="2286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52880" y="28195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3352320" y="274284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62520" y="4572000"/>
            <a:ext cx="1371600" cy="533520"/>
          </a:xfrm>
          <a:prstGeom prst="irregularSeal1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3352320" y="2742840"/>
            <a:ext cx="2134080" cy="2438640"/>
            <a:chOff x="3352320" y="2742840"/>
            <a:chExt cx="2134080" cy="2438640"/>
          </a:xfrm>
        </p:grpSpPr>
        <p:sp>
          <p:nvSpPr>
            <p:cNvPr id="317" name=""/>
            <p:cNvSpPr/>
            <p:nvPr/>
          </p:nvSpPr>
          <p:spPr>
            <a:xfrm>
              <a:off x="3581280" y="2895480"/>
              <a:ext cx="0" cy="2286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86400" y="2743200"/>
              <a:ext cx="0" cy="2438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581280" y="5181480"/>
              <a:ext cx="1905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3352320" y="2742840"/>
              <a:ext cx="228600" cy="152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4572000" y="2057400"/>
            <a:ext cx="762120" cy="2971800"/>
            <a:chOff x="4572000" y="2057400"/>
            <a:chExt cx="762120" cy="2971800"/>
          </a:xfrm>
        </p:grpSpPr>
        <p:pic>
          <p:nvPicPr>
            <p:cNvPr id="322" name="BOUGIE" descr=""/>
            <p:cNvPicPr/>
            <p:nvPr/>
          </p:nvPicPr>
          <p:blipFill>
            <a:blip r:embed="rId2"/>
            <a:stretch/>
          </p:blipFill>
          <p:spPr>
            <a:xfrm>
              <a:off x="4662360" y="4100400"/>
              <a:ext cx="51912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 flipV="1">
              <a:off x="5181480" y="2133360"/>
              <a:ext cx="0" cy="23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72000" y="4495680"/>
              <a:ext cx="22860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952520" y="4495680"/>
              <a:ext cx="22860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00600" y="4952880"/>
              <a:ext cx="152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29200" y="2057400"/>
              <a:ext cx="304920" cy="9144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8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3809520" y="3124080"/>
            <a:ext cx="2134080" cy="3124080"/>
            <a:chOff x="3809520" y="3124080"/>
            <a:chExt cx="2134080" cy="3124080"/>
          </a:xfrm>
        </p:grpSpPr>
        <p:grpSp>
          <p:nvGrpSpPr>
            <p:cNvPr id="329" name=""/>
            <p:cNvGrpSpPr/>
            <p:nvPr/>
          </p:nvGrpSpPr>
          <p:grpSpPr>
            <a:xfrm>
              <a:off x="3809520" y="3809520"/>
              <a:ext cx="2134080" cy="2438640"/>
              <a:chOff x="3809520" y="3809520"/>
              <a:chExt cx="2134080" cy="2438640"/>
            </a:xfrm>
          </p:grpSpPr>
          <p:sp>
            <p:nvSpPr>
              <p:cNvPr id="330" name=""/>
              <p:cNvSpPr/>
              <p:nvPr/>
            </p:nvSpPr>
            <p:spPr>
              <a:xfrm>
                <a:off x="4038480" y="3962160"/>
                <a:ext cx="0" cy="2286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943600" y="3809880"/>
                <a:ext cx="0" cy="2438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038480" y="6248160"/>
                <a:ext cx="19051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flipV="1">
                <a:off x="3809520" y="3809520"/>
                <a:ext cx="228600" cy="152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 flipV="1">
              <a:off x="5638680" y="3200040"/>
              <a:ext cx="0" cy="23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5029200" y="3124080"/>
              <a:ext cx="762120" cy="2971800"/>
              <a:chOff x="5029200" y="3124080"/>
              <a:chExt cx="762120" cy="2971800"/>
            </a:xfrm>
          </p:grpSpPr>
          <p:pic>
            <p:nvPicPr>
              <p:cNvPr id="336" name="BOUGIE" descr=""/>
              <p:cNvPicPr/>
              <p:nvPr/>
            </p:nvPicPr>
            <p:blipFill>
              <a:blip r:embed="rId2"/>
              <a:stretch/>
            </p:blipFill>
            <p:spPr>
              <a:xfrm>
                <a:off x="5119560" y="5167080"/>
                <a:ext cx="51912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5029200" y="5562360"/>
                <a:ext cx="228600" cy="457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5409720" y="5562360"/>
                <a:ext cx="228600" cy="457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257800" y="6019560"/>
                <a:ext cx="152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86400" y="3124080"/>
                <a:ext cx="304920" cy="9144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1316520" y="1690920"/>
            <a:ext cx="3085920" cy="2238120"/>
            <a:chOff x="1316520" y="1690920"/>
            <a:chExt cx="3085920" cy="2238120"/>
          </a:xfrm>
        </p:grpSpPr>
        <p:grpSp>
          <p:nvGrpSpPr>
            <p:cNvPr id="342" name=""/>
            <p:cNvGrpSpPr/>
            <p:nvPr/>
          </p:nvGrpSpPr>
          <p:grpSpPr>
            <a:xfrm>
              <a:off x="1316520" y="1690920"/>
              <a:ext cx="3085920" cy="2238120"/>
              <a:chOff x="1316520" y="1690920"/>
              <a:chExt cx="3085920" cy="2238120"/>
            </a:xfrm>
          </p:grpSpPr>
          <p:sp>
            <p:nvSpPr>
              <p:cNvPr id="343" name=""/>
              <p:cNvSpPr/>
              <p:nvPr/>
            </p:nvSpPr>
            <p:spPr>
              <a:xfrm flipH="1" flipV="1">
                <a:off x="1614240" y="1690920"/>
                <a:ext cx="2257560" cy="356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>
                <a:off x="1316880" y="3572280"/>
                <a:ext cx="2257560" cy="356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1316520" y="1690920"/>
                <a:ext cx="297360" cy="188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872160" y="2047680"/>
                <a:ext cx="154080" cy="48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3575160" y="3512880"/>
                <a:ext cx="296640" cy="41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26240" y="2534400"/>
                <a:ext cx="376200" cy="5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71800" y="3513240"/>
                <a:ext cx="376200" cy="5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371600" y="3504960"/>
              <a:ext cx="2514600" cy="380880"/>
            </a:xfrm>
            <a:custGeom>
              <a:avLst/>
              <a:gdLst/>
              <a:ahLst/>
              <a:rect l="l" t="t" r="r" b="b"/>
              <a:pathLst>
                <a:path w="1584" h="240">
                  <a:moveTo>
                    <a:pt x="0" y="48"/>
                  </a:moveTo>
                  <a:lnTo>
                    <a:pt x="1584" y="0"/>
                  </a:lnTo>
                  <a:lnTo>
                    <a:pt x="1392" y="240"/>
                  </a:lnTo>
                  <a:lnTo>
                    <a:pt x="48" y="48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9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1676520" y="1690920"/>
            <a:ext cx="4724280" cy="4557600"/>
            <a:chOff x="1676520" y="1690920"/>
            <a:chExt cx="4724280" cy="4557600"/>
          </a:xfrm>
        </p:grpSpPr>
        <p:sp>
          <p:nvSpPr>
            <p:cNvPr id="352" name=""/>
            <p:cNvSpPr/>
            <p:nvPr/>
          </p:nvSpPr>
          <p:spPr>
            <a:xfrm>
              <a:off x="4495680" y="3962520"/>
              <a:ext cx="0" cy="2286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00800" y="3810240"/>
              <a:ext cx="0" cy="2438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95680" y="6248520"/>
              <a:ext cx="1905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4266720" y="3809880"/>
              <a:ext cx="228600" cy="152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16440" y="5651640"/>
              <a:ext cx="182880" cy="3510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095880" y="3200400"/>
              <a:ext cx="0" cy="23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5562720"/>
              <a:ext cx="22860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5866920" y="5562720"/>
              <a:ext cx="22860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15000" y="6019920"/>
              <a:ext cx="152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43600" y="3124440"/>
              <a:ext cx="304920" cy="9144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1697400" y="1690920"/>
              <a:ext cx="3085920" cy="2238480"/>
              <a:chOff x="1697400" y="1690920"/>
              <a:chExt cx="3085920" cy="2238480"/>
            </a:xfrm>
          </p:grpSpPr>
          <p:sp>
            <p:nvSpPr>
              <p:cNvPr id="363" name=""/>
              <p:cNvSpPr/>
              <p:nvPr/>
            </p:nvSpPr>
            <p:spPr>
              <a:xfrm flipH="1" flipV="1">
                <a:off x="1995120" y="1690920"/>
                <a:ext cx="2257560" cy="356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1697760" y="3572640"/>
                <a:ext cx="2257560" cy="356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1697400" y="1690920"/>
                <a:ext cx="297360" cy="1881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253040" y="2047680"/>
                <a:ext cx="154080" cy="48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3955680" y="3513600"/>
                <a:ext cx="297000" cy="41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07120" y="2534760"/>
                <a:ext cx="376200" cy="5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252680" y="3513600"/>
                <a:ext cx="376200" cy="5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 flipV="1">
              <a:off x="1676520" y="3505320"/>
              <a:ext cx="2590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52480" y="3505320"/>
              <a:ext cx="2514600" cy="381240"/>
            </a:xfrm>
            <a:custGeom>
              <a:avLst/>
              <a:gdLst/>
              <a:ahLst/>
              <a:rect l="l" t="t" r="r" b="b"/>
              <a:pathLst>
                <a:path w="1584" h="240">
                  <a:moveTo>
                    <a:pt x="0" y="48"/>
                  </a:moveTo>
                  <a:lnTo>
                    <a:pt x="1584" y="0"/>
                  </a:lnTo>
                  <a:lnTo>
                    <a:pt x="1392" y="240"/>
                  </a:lnTo>
                  <a:lnTo>
                    <a:pt x="48" y="48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91320" y="5639040"/>
              <a:ext cx="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791320" y="556272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7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00ff"/>
                </a:solidFill>
                <a:latin typeface="Times New Roman"/>
              </a:rPr>
              <a:t>OBJECTIFS DE SAVOIR-F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00"/>
                </a:solidFill>
                <a:latin typeface="Times New Roman"/>
              </a:rPr>
              <a:t>Respecter le protocole expéri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00"/>
                </a:solidFill>
                <a:latin typeface="Times New Roman"/>
              </a:rPr>
              <a:t>Manipuler prop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00"/>
                </a:solidFill>
                <a:latin typeface="Times New Roman"/>
              </a:rPr>
              <a:t>Utiliser une balance de pr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00"/>
                </a:solidFill>
                <a:latin typeface="Times New Roman"/>
              </a:rPr>
              <a:t>Mesurer le volume d ’un liqu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4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133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00ff"/>
                </a:solidFill>
                <a:latin typeface="Times New Roman"/>
              </a:rPr>
              <a:t>OBJECTIFS DE CONNAISS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440" y="3809520"/>
            <a:ext cx="807732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00"/>
                </a:solidFill>
                <a:latin typeface="Times New Roman"/>
              </a:rPr>
              <a:t>Vérifier la conservation de la masse au cours d ’une réaction chim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00"/>
                </a:solidFill>
                <a:latin typeface="Times New Roman"/>
              </a:rPr>
              <a:t>Identifier le dioxyde de carb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00"/>
                </a:solidFill>
                <a:latin typeface="Times New Roman"/>
              </a:rPr>
              <a:t>Montrer que ce gaz est plus dense que l ’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7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133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00ff"/>
                </a:solidFill>
                <a:latin typeface="Times New Roman"/>
              </a:rPr>
              <a:t>REMARQUES-PRÉCA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520" y="388584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just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00"/>
                </a:solidFill>
                <a:latin typeface="Times New Roman"/>
              </a:rPr>
              <a:t>Utilisation d’un 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réactif corrosif</a:t>
            </a:r>
            <a:r>
              <a:rPr b="1" lang="fr-FR" sz="3200" spc="-1" strike="noStrike">
                <a:solidFill>
                  <a:srgbClr val="006600"/>
                </a:solidFill>
                <a:latin typeface="Times New Roman"/>
              </a:rPr>
              <a:t>: </a:t>
            </a:r>
            <a:r>
              <a:rPr b="1" lang="fr-FR" sz="3200" spc="-1" strike="noStrike" u="sng">
                <a:solidFill>
                  <a:srgbClr val="ff0000"/>
                </a:solidFill>
                <a:uFillTx/>
                <a:latin typeface="Times New Roman"/>
              </a:rPr>
              <a:t>acide chlorhydr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006600"/>
                </a:solidFill>
                <a:latin typeface="Times New Roman"/>
              </a:rPr>
              <a:t>Le port de 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gants</a:t>
            </a:r>
            <a:r>
              <a:rPr b="1" lang="fr-FR" sz="3200" spc="-1" strike="noStrike">
                <a:solidFill>
                  <a:srgbClr val="006600"/>
                </a:solidFill>
                <a:latin typeface="Times New Roman"/>
              </a:rPr>
              <a:t> et de 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lunettes</a:t>
            </a:r>
            <a:r>
              <a:rPr b="1" lang="fr-FR" sz="3200" spc="-1" strike="noStrike">
                <a:solidFill>
                  <a:srgbClr val="006600"/>
                </a:solidFill>
                <a:latin typeface="Times New Roman"/>
              </a:rPr>
              <a:t> est plus que nécessa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2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133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cc00ff"/>
                </a:solidFill>
                <a:latin typeface="Times New Roman"/>
              </a:rPr>
              <a:t>RÉACTIF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33520" y="388584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just">
              <a:spcBef>
                <a:spcPts val="1001"/>
              </a:spcBef>
              <a:buClr>
                <a:srgbClr val="cc00ff"/>
              </a:buClr>
              <a:buSzPct val="75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4000" spc="-1" strike="noStrike">
                <a:solidFill>
                  <a:srgbClr val="6600ff"/>
                </a:solidFill>
                <a:latin typeface="Times New Roman"/>
              </a:rPr>
              <a:t>25 cm</a:t>
            </a:r>
            <a:r>
              <a:rPr b="1" lang="fr-FR" sz="4000" spc="-1" strike="noStrike" baseline="30000">
                <a:solidFill>
                  <a:srgbClr val="6600ff"/>
                </a:solidFill>
                <a:latin typeface="Times New Roman"/>
              </a:rPr>
              <a:t>3</a:t>
            </a:r>
            <a:r>
              <a:rPr b="1" lang="fr-FR" sz="4000" spc="-1" strike="noStrike">
                <a:solidFill>
                  <a:srgbClr val="6600ff"/>
                </a:solidFill>
                <a:latin typeface="Times New Roman"/>
              </a:rPr>
              <a:t> d’acide chlorhydr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cc00ff"/>
              </a:buClr>
              <a:buSzPct val="75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fr-FR" sz="4000" spc="-1" strike="noStrike">
                <a:solidFill>
                  <a:srgbClr val="6600ff"/>
                </a:solidFill>
                <a:latin typeface="Times New Roman"/>
              </a:rPr>
              <a:t>1 gramme de craie carré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cc00ff"/>
              </a:buClr>
              <a:buSzPct val="75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fr-FR" sz="4000" spc="-1" strike="noStrike">
                <a:solidFill>
                  <a:srgbClr val="6600ff"/>
                </a:solidFill>
                <a:latin typeface="Times New Roman"/>
              </a:rPr>
              <a:t>eau de chau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4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828800" y="2743200"/>
            <a:ext cx="1905120" cy="2895480"/>
            <a:chOff x="1828800" y="2743200"/>
            <a:chExt cx="1905120" cy="2895480"/>
          </a:xfrm>
        </p:grpSpPr>
        <p:sp>
          <p:nvSpPr>
            <p:cNvPr id="125" name=""/>
            <p:cNvSpPr/>
            <p:nvPr/>
          </p:nvSpPr>
          <p:spPr>
            <a:xfrm>
              <a:off x="1828800" y="3352680"/>
              <a:ext cx="0" cy="228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33920" y="3352680"/>
              <a:ext cx="0" cy="228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28800" y="5638680"/>
              <a:ext cx="1905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1828800" y="3124080"/>
              <a:ext cx="457200" cy="22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3276720" y="3124080"/>
              <a:ext cx="457200" cy="22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286000" y="2743200"/>
              <a:ext cx="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276720" y="2743200"/>
              <a:ext cx="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209680" y="2743200"/>
              <a:ext cx="0" cy="228240"/>
            </a:xfrm>
            <a:prstGeom prst="line">
              <a:avLst/>
            </a:prstGeom>
            <a:ln w="763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352680" y="2743200"/>
              <a:ext cx="0" cy="228240"/>
            </a:xfrm>
            <a:prstGeom prst="line">
              <a:avLst/>
            </a:prstGeom>
            <a:ln w="763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09680" y="2743200"/>
              <a:ext cx="1143000" cy="0"/>
            </a:xfrm>
            <a:prstGeom prst="line">
              <a:avLst/>
            </a:prstGeom>
            <a:ln w="763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981080" y="4572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57913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LACON  BOUCHÉ  500  cm</a:t>
            </a:r>
            <a:r>
              <a:rPr b="1" lang="fr-FR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14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RAIE  CARRÉE  1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553080" y="380880"/>
            <a:ext cx="1066680" cy="1981080"/>
            <a:chOff x="6553080" y="380880"/>
            <a:chExt cx="1066680" cy="1981080"/>
          </a:xfrm>
        </p:grpSpPr>
        <p:sp>
          <p:nvSpPr>
            <p:cNvPr id="139" name=""/>
            <p:cNvSpPr/>
            <p:nvPr/>
          </p:nvSpPr>
          <p:spPr>
            <a:xfrm>
              <a:off x="6553080" y="106668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53080" y="236196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19760" y="106668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553080" y="60948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7162560" y="60948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010280" y="456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162560" y="456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53080" y="1599840"/>
              <a:ext cx="1066680" cy="762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10280" y="380880"/>
              <a:ext cx="15228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95288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ACIDE CHLORHYDRIQUE 25 cm</a:t>
            </a:r>
            <a:r>
              <a:rPr b="1" lang="fr-FR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629400" y="3657600"/>
            <a:ext cx="1066680" cy="1981080"/>
            <a:chOff x="6629400" y="3657600"/>
            <a:chExt cx="1066680" cy="1981080"/>
          </a:xfrm>
        </p:grpSpPr>
        <p:sp>
          <p:nvSpPr>
            <p:cNvPr id="150" name=""/>
            <p:cNvSpPr/>
            <p:nvPr/>
          </p:nvSpPr>
          <p:spPr>
            <a:xfrm>
              <a:off x="6629400" y="434340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29400" y="56386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96080" y="434340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629400" y="388620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238880" y="388620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7086600" y="37335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7238880" y="37335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29400" y="4876560"/>
              <a:ext cx="1066680" cy="762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86600" y="3657600"/>
              <a:ext cx="15228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797080" y="579024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AU DE CH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905120" y="3200400"/>
          <a:ext cx="6400800" cy="22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3200400"/>
                    <a:ext cx="640080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2" name=""/>
          <p:cNvGrpSpPr/>
          <p:nvPr/>
        </p:nvGrpSpPr>
        <p:grpSpPr>
          <a:xfrm>
            <a:off x="2057400" y="1295280"/>
            <a:ext cx="1447920" cy="2210040"/>
            <a:chOff x="2057400" y="1295280"/>
            <a:chExt cx="1447920" cy="2210040"/>
          </a:xfrm>
        </p:grpSpPr>
        <p:sp>
          <p:nvSpPr>
            <p:cNvPr id="163" name=""/>
            <p:cNvSpPr/>
            <p:nvPr/>
          </p:nvSpPr>
          <p:spPr>
            <a:xfrm>
              <a:off x="2057400" y="1760400"/>
              <a:ext cx="0" cy="174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05320" y="1760400"/>
              <a:ext cx="0" cy="174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7400" y="3505320"/>
              <a:ext cx="1447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057400" y="1586160"/>
              <a:ext cx="347400" cy="174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3157200" y="1586160"/>
              <a:ext cx="347400" cy="174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404800" y="1295280"/>
              <a:ext cx="0" cy="29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157560" y="1295280"/>
              <a:ext cx="0" cy="29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346840" y="1295280"/>
              <a:ext cx="0" cy="174240"/>
            </a:xfrm>
            <a:prstGeom prst="line">
              <a:avLst/>
            </a:prstGeom>
            <a:ln w="763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215520" y="1295280"/>
              <a:ext cx="0" cy="174240"/>
            </a:xfrm>
            <a:prstGeom prst="line">
              <a:avLst/>
            </a:prstGeom>
            <a:ln w="763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46840" y="1295280"/>
              <a:ext cx="868680" cy="0"/>
            </a:xfrm>
            <a:prstGeom prst="line">
              <a:avLst/>
            </a:prstGeom>
            <a:ln w="763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flipH="1" flipV="1">
            <a:off x="3656880" y="3351960"/>
            <a:ext cx="3049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2666880"/>
            <a:ext cx="685800" cy="91440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2133720"/>
            <a:ext cx="380880" cy="533160"/>
          </a:xfrm>
          <a:prstGeom prst="ellipse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162920" y="3059280"/>
            <a:ext cx="411120" cy="52200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238880" y="2753640"/>
            <a:ext cx="228600" cy="304920"/>
          </a:xfrm>
          <a:prstGeom prst="ellipse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2971800"/>
            <a:ext cx="1447920" cy="533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752480" y="3200400"/>
          <a:ext cx="6400800" cy="22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3200400"/>
                    <a:ext cx="640080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1" name=""/>
          <p:cNvGrpSpPr/>
          <p:nvPr/>
        </p:nvGrpSpPr>
        <p:grpSpPr>
          <a:xfrm>
            <a:off x="1905120" y="2057400"/>
            <a:ext cx="2209680" cy="1447920"/>
            <a:chOff x="1905120" y="2057400"/>
            <a:chExt cx="2209680" cy="1447920"/>
          </a:xfrm>
        </p:grpSpPr>
        <p:sp>
          <p:nvSpPr>
            <p:cNvPr id="182" name=""/>
            <p:cNvSpPr/>
            <p:nvPr/>
          </p:nvSpPr>
          <p:spPr>
            <a:xfrm flipH="1">
              <a:off x="1905480" y="2057400"/>
              <a:ext cx="1744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905480" y="3505320"/>
              <a:ext cx="1744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5120" y="2057400"/>
              <a:ext cx="0" cy="1447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49680" y="2057400"/>
              <a:ext cx="174240" cy="347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649680" y="3157200"/>
              <a:ext cx="174240" cy="347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23920" y="2404800"/>
              <a:ext cx="29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23920" y="3157560"/>
              <a:ext cx="29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40560" y="2346840"/>
              <a:ext cx="174240" cy="0"/>
            </a:xfrm>
            <a:prstGeom prst="line">
              <a:avLst/>
            </a:prstGeom>
            <a:ln w="763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40560" y="3215520"/>
              <a:ext cx="174240" cy="0"/>
            </a:xfrm>
            <a:prstGeom prst="line">
              <a:avLst/>
            </a:prstGeom>
            <a:ln w="763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14800" y="2346840"/>
              <a:ext cx="0" cy="868680"/>
            </a:xfrm>
            <a:prstGeom prst="line">
              <a:avLst/>
            </a:prstGeom>
            <a:ln w="763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H="1" flipV="1" rot="5213400">
            <a:off x="3696120" y="2858400"/>
            <a:ext cx="22860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666880"/>
            <a:ext cx="685800" cy="91440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2133720"/>
            <a:ext cx="381240" cy="533160"/>
          </a:xfrm>
          <a:prstGeom prst="ellipse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10280" y="3059280"/>
            <a:ext cx="411120" cy="52200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086600" y="2753640"/>
            <a:ext cx="228600" cy="304920"/>
          </a:xfrm>
          <a:prstGeom prst="ellipse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905120" y="3200040"/>
            <a:ext cx="1904760" cy="305280"/>
            <a:chOff x="1905120" y="3200040"/>
            <a:chExt cx="1904760" cy="305280"/>
          </a:xfrm>
        </p:grpSpPr>
        <p:sp>
          <p:nvSpPr>
            <p:cNvPr id="198" name=""/>
            <p:cNvSpPr/>
            <p:nvPr/>
          </p:nvSpPr>
          <p:spPr>
            <a:xfrm>
              <a:off x="1905120" y="3200400"/>
              <a:ext cx="1676160" cy="30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581280" y="3199680"/>
              <a:ext cx="228600" cy="3049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5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1752480" y="3200400"/>
          <a:ext cx="6400800" cy="22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3200400"/>
                    <a:ext cx="640080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2" name=""/>
          <p:cNvGrpSpPr/>
          <p:nvPr/>
        </p:nvGrpSpPr>
        <p:grpSpPr>
          <a:xfrm>
            <a:off x="2133720" y="1295280"/>
            <a:ext cx="1447560" cy="2210040"/>
            <a:chOff x="2133720" y="1295280"/>
            <a:chExt cx="1447560" cy="2210040"/>
          </a:xfrm>
        </p:grpSpPr>
        <p:sp>
          <p:nvSpPr>
            <p:cNvPr id="203" name=""/>
            <p:cNvSpPr/>
            <p:nvPr/>
          </p:nvSpPr>
          <p:spPr>
            <a:xfrm>
              <a:off x="2133720" y="1760400"/>
              <a:ext cx="0" cy="174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81280" y="1760400"/>
              <a:ext cx="0" cy="174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3720" y="3505320"/>
              <a:ext cx="1447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133720" y="1586160"/>
              <a:ext cx="347400" cy="174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233520" y="1586160"/>
              <a:ext cx="347400" cy="174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481120" y="1295280"/>
              <a:ext cx="0" cy="29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3233880" y="1295280"/>
              <a:ext cx="0" cy="29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422800" y="1295280"/>
              <a:ext cx="0" cy="174240"/>
            </a:xfrm>
            <a:prstGeom prst="line">
              <a:avLst/>
            </a:prstGeom>
            <a:ln w="763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291480" y="1295280"/>
              <a:ext cx="0" cy="174240"/>
            </a:xfrm>
            <a:prstGeom prst="line">
              <a:avLst/>
            </a:prstGeom>
            <a:ln w="763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22800" y="1295280"/>
              <a:ext cx="868320" cy="0"/>
            </a:xfrm>
            <a:prstGeom prst="line">
              <a:avLst/>
            </a:prstGeom>
            <a:ln w="763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172200" y="2666880"/>
            <a:ext cx="685800" cy="91440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2133720"/>
            <a:ext cx="381240" cy="533160"/>
          </a:xfrm>
          <a:prstGeom prst="ellipse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010280" y="3059280"/>
            <a:ext cx="411120" cy="52200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7086600" y="2753640"/>
            <a:ext cx="228600" cy="304920"/>
          </a:xfrm>
          <a:prstGeom prst="ellipse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2819520"/>
            <a:ext cx="1447560" cy="685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 rot="5213400">
            <a:off x="2856600" y="3238200"/>
            <a:ext cx="228600" cy="304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34290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38280" y="320040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0481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2819520"/>
            <a:ext cx="304920" cy="30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66880" y="32767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30481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42900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297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2680" y="32004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2971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289548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MONTRE" descr=""/>
          <p:cNvPicPr/>
          <p:nvPr/>
        </p:nvPicPr>
        <p:blipFill>
          <a:blip r:embed="rId5"/>
          <a:stretch/>
        </p:blipFill>
        <p:spPr>
          <a:xfrm>
            <a:off x="7315200" y="0"/>
            <a:ext cx="1828800" cy="2502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6T15:39:37Z</dcterms:created>
  <dc:creator>Packard Bell NEC</dc:creator>
  <dc:description/>
  <dc:language>en-US</dc:language>
  <cp:lastModifiedBy>B.  FARLOUBEIX</cp:lastModifiedBy>
  <dcterms:modified xsi:type="dcterms:W3CDTF">2002-07-02T16:32:49Z</dcterms:modified>
  <cp:revision>10</cp:revision>
  <dc:subject/>
  <dc:title>RÉACTION DU CALCAIRE AVEC L’ACIDE CHLORHYDRIQUE</dc:title>
</cp:coreProperties>
</file>