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63560" y="108072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2300dc"/>
                </a:solidFill>
                <a:latin typeface="Times New Roman"/>
              </a:rPr>
              <a:t>Le cycle de l'ea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747720"/>
            <a:ext cx="10080720" cy="68119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9263160" y="453960"/>
            <a:ext cx="817560" cy="220032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2200320"/>
              <a:gd name="textAreaBottom" fmla="*/ 2199960 h 2200320"/>
            </a:gdLst>
            <a:ahLst/>
            <a:rect l="textAreaLeft" t="textAreaTop" r="textAreaRight" b="textAreaBottom"/>
            <a:pathLst>
              <a:path w="21600" h="58117">
                <a:moveTo>
                  <a:pt x="42" y="0"/>
                </a:moveTo>
                <a:arcTo wR="42" hR="42" stAng="16200000" swAng="-5400000"/>
                <a:lnTo>
                  <a:pt x="0" y="58075"/>
                </a:lnTo>
                <a:arcTo wR="42" hR="42" stAng="10800000" swAng="-5400000"/>
                <a:lnTo>
                  <a:pt x="21558" y="5811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686800" y="-430200"/>
            <a:ext cx="2019240" cy="19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7730640" y="363600"/>
            <a:ext cx="1251000" cy="144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8094240" y="839880"/>
            <a:ext cx="1001880" cy="49824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8775720" y="1360440"/>
            <a:ext cx="388800" cy="61272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52040" y="1496880"/>
            <a:ext cx="1440" cy="72576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773360"/>
            <a:ext cx="50734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vapo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5508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47720"/>
            <a:ext cx="1008072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263160" y="453960"/>
            <a:ext cx="817560" cy="220032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2200320"/>
              <a:gd name="textAreaBottom" fmla="*/ 2199960 h 2200320"/>
            </a:gdLst>
            <a:ahLst/>
            <a:rect l="textAreaLeft" t="textAreaTop" r="textAreaRight" b="textAreaBottom"/>
            <a:pathLst>
              <a:path w="21600" h="58117">
                <a:moveTo>
                  <a:pt x="42" y="0"/>
                </a:moveTo>
                <a:arcTo wR="42" hR="42" stAng="16200000" swAng="-5400000"/>
                <a:lnTo>
                  <a:pt x="0" y="58075"/>
                </a:lnTo>
                <a:arcTo wR="42" hR="42" stAng="10800000" swAng="-5400000"/>
                <a:lnTo>
                  <a:pt x="21558" y="5811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74200" y="-453960"/>
            <a:ext cx="2019240" cy="19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730640" y="363600"/>
            <a:ext cx="1251000" cy="144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8094240" y="839880"/>
            <a:ext cx="1001880" cy="49824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775720" y="1360440"/>
            <a:ext cx="388800" cy="61272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52040" y="1496880"/>
            <a:ext cx="1440" cy="72576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89600" y="1322280"/>
            <a:ext cx="2797200" cy="125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62440" y="2654280"/>
            <a:ext cx="5035680" cy="95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Liquéfa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47720"/>
            <a:ext cx="10080720" cy="6811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263160" y="453960"/>
            <a:ext cx="817560" cy="220032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2200320"/>
              <a:gd name="textAreaBottom" fmla="*/ 2199960 h 2200320"/>
            </a:gdLst>
            <a:ahLst/>
            <a:rect l="textAreaLeft" t="textAreaTop" r="textAreaRight" b="textAreaBottom"/>
            <a:pathLst>
              <a:path w="21600" h="58117">
                <a:moveTo>
                  <a:pt x="42" y="0"/>
                </a:moveTo>
                <a:arcTo wR="42" hR="42" stAng="16200000" swAng="-5400000"/>
                <a:lnTo>
                  <a:pt x="0" y="58075"/>
                </a:lnTo>
                <a:arcTo wR="42" hR="42" stAng="10800000" swAng="-5400000"/>
                <a:lnTo>
                  <a:pt x="21558" y="5811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32960" y="-588960"/>
            <a:ext cx="2019240" cy="19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730640" y="363600"/>
            <a:ext cx="1251000" cy="144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094240" y="839880"/>
            <a:ext cx="1001880" cy="49824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888400" y="1270080"/>
            <a:ext cx="388800" cy="61272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20440" y="1428840"/>
            <a:ext cx="1440" cy="72540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59080" y="1228680"/>
            <a:ext cx="1814400" cy="90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676520" y="1066680"/>
            <a:ext cx="2976480" cy="225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36720" y="3446640"/>
            <a:ext cx="444492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80"/>
                </a:solidFill>
                <a:latin typeface="Times New Roman"/>
                <a:ea typeface="HG Mincho Light J"/>
              </a:rPr>
              <a:t>Précipit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84480" y="2085840"/>
            <a:ext cx="1800" cy="1338480"/>
          </a:xfrm>
          <a:prstGeom prst="line">
            <a:avLst/>
          </a:prstGeom>
          <a:ln w="108000">
            <a:solidFill>
              <a:srgbClr val="0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47720"/>
            <a:ext cx="10080720" cy="681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263160" y="453960"/>
            <a:ext cx="817560" cy="220032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2200320"/>
              <a:gd name="textAreaBottom" fmla="*/ 2199960 h 2200320"/>
            </a:gdLst>
            <a:ahLst/>
            <a:rect l="textAreaLeft" t="textAreaTop" r="textAreaRight" b="textAreaBottom"/>
            <a:pathLst>
              <a:path w="21600" h="58117">
                <a:moveTo>
                  <a:pt x="42" y="0"/>
                </a:moveTo>
                <a:arcTo wR="42" hR="42" stAng="16200000" swAng="-5400000"/>
                <a:lnTo>
                  <a:pt x="0" y="58075"/>
                </a:lnTo>
                <a:arcTo wR="42" hR="42" stAng="10800000" swAng="-5400000"/>
                <a:lnTo>
                  <a:pt x="21558" y="5811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854920" y="-588960"/>
            <a:ext cx="2019600" cy="19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730640" y="363600"/>
            <a:ext cx="1251000" cy="144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094240" y="839880"/>
            <a:ext cx="1001880" cy="49824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888400" y="1224000"/>
            <a:ext cx="388800" cy="61272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98120" y="1406520"/>
            <a:ext cx="1440" cy="72540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3286080"/>
            <a:ext cx="6415200" cy="1474920"/>
          </a:xfrm>
          <a:custGeom>
            <a:avLst/>
            <a:gdLst/>
            <a:ahLst/>
            <a:rect l="l" t="t" r="r" b="b"/>
            <a:pathLst>
              <a:path w="17820" h="4096">
                <a:moveTo>
                  <a:pt x="117" y="0"/>
                </a:moveTo>
                <a:cubicBezTo>
                  <a:pt x="742" y="676"/>
                  <a:pt x="0" y="1506"/>
                  <a:pt x="1188" y="2205"/>
                </a:cubicBezTo>
                <a:cubicBezTo>
                  <a:pt x="2216" y="2809"/>
                  <a:pt x="2931" y="2772"/>
                  <a:pt x="3834" y="3024"/>
                </a:cubicBezTo>
                <a:cubicBezTo>
                  <a:pt x="4526" y="3217"/>
                  <a:pt x="5263" y="3040"/>
                  <a:pt x="5976" y="3087"/>
                </a:cubicBezTo>
                <a:cubicBezTo>
                  <a:pt x="6794" y="3142"/>
                  <a:pt x="7609" y="3034"/>
                  <a:pt x="8433" y="3276"/>
                </a:cubicBezTo>
                <a:cubicBezTo>
                  <a:pt x="9182" y="3496"/>
                  <a:pt x="9986" y="3337"/>
                  <a:pt x="10763" y="3339"/>
                </a:cubicBezTo>
                <a:cubicBezTo>
                  <a:pt x="11602" y="3341"/>
                  <a:pt x="12461" y="3318"/>
                  <a:pt x="13283" y="3528"/>
                </a:cubicBezTo>
                <a:cubicBezTo>
                  <a:pt x="13947" y="3698"/>
                  <a:pt x="14636" y="3487"/>
                  <a:pt x="15299" y="3717"/>
                </a:cubicBezTo>
                <a:cubicBezTo>
                  <a:pt x="15985" y="3955"/>
                  <a:pt x="16729" y="3856"/>
                  <a:pt x="17441" y="3969"/>
                </a:cubicBezTo>
                <a:lnTo>
                  <a:pt x="17819" y="4095"/>
                </a:lnTo>
              </a:path>
            </a:pathLst>
          </a:custGeom>
          <a:noFill/>
          <a:ln w="108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3657600"/>
            <a:ext cx="131616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Ea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2819520"/>
            <a:ext cx="4830840" cy="86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dc"/>
                </a:solidFill>
                <a:latin typeface="Times New Roman"/>
                <a:ea typeface="HG Mincho Light J"/>
              </a:rPr>
              <a:t>Ruissell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47720"/>
            <a:ext cx="10080720" cy="6811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263160" y="453960"/>
            <a:ext cx="817560" cy="2200320"/>
          </a:xfrm>
          <a:custGeom>
            <a:avLst/>
            <a:gdLst>
              <a:gd name="textAreaLeft" fmla="*/ 360 w 817560"/>
              <a:gd name="textAreaRight" fmla="*/ 817200 w 817560"/>
              <a:gd name="textAreaTop" fmla="*/ 360 h 2200320"/>
              <a:gd name="textAreaBottom" fmla="*/ 2199960 h 2200320"/>
            </a:gdLst>
            <a:ahLst/>
            <a:rect l="textAreaLeft" t="textAreaTop" r="textAreaRight" b="textAreaBottom"/>
            <a:pathLst>
              <a:path w="21600" h="58117">
                <a:moveTo>
                  <a:pt x="42" y="0"/>
                </a:moveTo>
                <a:arcTo wR="42" hR="42" stAng="16200000" swAng="-5400000"/>
                <a:lnTo>
                  <a:pt x="0" y="58075"/>
                </a:lnTo>
                <a:arcTo wR="42" hR="42" stAng="10800000" swAng="-5400000"/>
                <a:lnTo>
                  <a:pt x="21558" y="58117"/>
                </a:lnTo>
                <a:arcTo wR="42" hR="42" stAng="5400000" swAng="-5400000"/>
                <a:lnTo>
                  <a:pt x="21600" y="42"/>
                </a:lnTo>
                <a:arcTo wR="42" hR="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82040" y="-522360"/>
            <a:ext cx="2019240" cy="19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730640" y="363600"/>
            <a:ext cx="1251000" cy="144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094240" y="839880"/>
            <a:ext cx="1001880" cy="49824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775720" y="1360440"/>
            <a:ext cx="388800" cy="612720"/>
          </a:xfrm>
          <a:prstGeom prst="line">
            <a:avLst/>
          </a:prstGeom>
          <a:ln w="72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752040" y="1496880"/>
            <a:ext cx="1440" cy="725760"/>
          </a:xfrm>
          <a:prstGeom prst="line">
            <a:avLst/>
          </a:prstGeom>
          <a:ln w="360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88160" y="1587600"/>
            <a:ext cx="1951200" cy="83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627200" y="998640"/>
            <a:ext cx="2136600" cy="17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333600" y="1157400"/>
            <a:ext cx="4672080" cy="443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7400" y="3048120"/>
            <a:ext cx="725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6b2394"/>
                </a:solidFill>
                <a:latin typeface="Times New Roman"/>
                <a:ea typeface="HG Mincho Light J"/>
              </a:rPr>
              <a:t>Le cycle de l'ea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4648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66"/>
                </a:solidFill>
                <a:latin typeface="Times New Roman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66120" y="24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66"/>
                </a:solidFill>
                <a:latin typeface="Times New Roman"/>
              </a:rPr>
              <a:t>Liqué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590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66"/>
                </a:solidFill>
                <a:latin typeface="Times New Roman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495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66"/>
                </a:solidFill>
                <a:latin typeface="Times New Roman"/>
              </a:rPr>
              <a:t>Ruissel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uno Farloubeix</cp:lastModifiedBy>
  <dcterms:modified xsi:type="dcterms:W3CDTF">2003-05-30T13:12:10Z</dcterms:modified>
  <cp:revision>8</cp:revision>
  <dc:subject/>
  <dc:title>Le cycle de l'eau</dc:title>
</cp:coreProperties>
</file>