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235-F034-415D-9DFC-F0E0A5C1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A04-CFB1-4E52-91BF-D597004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FDA-6706-4448-8250-F63DA152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334-0FF1-4390-8F0E-F52FAF35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858-46FD-49B8-B947-A81A4030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667-73A8-4322-9438-BC6C4C2A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C11-ECF9-486C-9575-28687125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944-EDFF-4B43-B857-E5B6222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EBE-0778-48EE-9637-7A0F0FCB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1FE-F064-4E1A-A113-A4D25B2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90-06FB-4E5C-AF6E-55C0A9B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F52-AAB3-4639-A082-BDC06C4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5E26-9CA5-4190-B610-DC0E24F3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empus Sans ITC"/>
              </a:rPr>
              <a:t>La classification périodique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empus Sans ITC"/>
              </a:rPr>
              <a:t> des élém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3276720"/>
          <a:ext cx="8153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1532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°/ Quelle est la nationalité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ENDELEIEV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°/ A quelle date établit-il sa classification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°/ Combien d’éléments sont connus à son époque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°/ Quelles sont les deux informations qu’utilise Mendeleïev pour classer les éléments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°/ Que signifie « périodique  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6°/ En vous servant de l’extrait du tableau de Mendeleïev de votre manuel, indiquez quels sont les éléments qui ont des propriétés voisines de celles de l’oxygène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28800" y="762120"/>
            <a:ext cx="529596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a classification de Mendeleïev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96920" y="228600"/>
          <a:ext cx="6904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28600"/>
                    <a:ext cx="6904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a classification actuel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058840"/>
            <a:ext cx="77724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609480"/>
            <a:ext cx="4253040" cy="57150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Nom de l’élément :                                                        Symbole 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ate et lieu de découverte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avant l’ayant découvert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tymologie du mot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L’atome,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 =                     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a masse molaire atomique 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n rayon atomique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a structure électronique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Ion monoatomique :                                          Modèle de Lewis et valence 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685800"/>
            <a:ext cx="182880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lques sit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05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600200"/>
            <a:ext cx="670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905120"/>
          <a:ext cx="8420400" cy="49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8420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9:49:24Z</dcterms:created>
  <dc:creator>isabelle</dc:creator>
  <dc:description/>
  <dc:language>en-US</dc:language>
  <cp:lastModifiedBy>isabelle</cp:lastModifiedBy>
  <dcterms:modified xsi:type="dcterms:W3CDTF">2003-01-22T15:19:05Z</dcterms:modified>
  <cp:revision>8</cp:revision>
  <dc:subject/>
  <dc:title>La classification périodique des éléments</dc:title>
</cp:coreProperties>
</file>